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gif" ContentType="image/gif"/>
  <Override PartName="/ppt/media/image14.jpeg" ContentType="image/jpeg"/>
  <Override PartName="/ppt/media/image8.png" ContentType="image/png"/>
  <Override PartName="/ppt/media/image12.wmf" ContentType="image/x-wmf"/>
  <Override PartName="/ppt/media/image4.png" ContentType="image/png"/>
  <Override PartName="/ppt/media/image9.wmf" ContentType="image/x-wmf"/>
  <Override PartName="/ppt/media/image2.png" ContentType="image/png"/>
  <Override PartName="/ppt/media/image10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th-TH" sz="12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5235D5-B3AE-468B-927C-2EDEB0DEC6DA}" type="datetime">
              <a:rPr b="0" lang="th-TH" sz="1200" spc="-1" strike="noStrike">
                <a:solidFill>
                  <a:srgbClr val="000000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1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FD844-06A8-4E4F-815A-2D5CEB6B47EB}" type="slidenum">
              <a:rPr b="1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845172-A552-489C-8AFD-A16277978E35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08FCB-B1DF-44D0-95E8-923A2D5ADEA9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9EDBA-4896-489F-A6E9-418943E43C68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B2DFC-02FD-4998-8ECD-63410F47E656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1CEC7-4EE6-406B-98AD-5E3E49126F2A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2D3FED-A5BF-4CC6-B5E9-EF1CAB969FA0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7B95D1-33C3-419A-A268-BE65FAD98EE4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BE94E-F82A-4860-9722-646BC3BDC17F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9075B-81DD-4C8C-A8DC-6D0B07EDDB2E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BF2693-A5CF-47BA-969E-C806689D3C98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55A29D-F181-4A0F-9135-26D0FA8FDC39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7B514-9559-44D4-A96C-D7ED5AF7AAB7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27B4C-B34A-4192-83BD-AA5EC5B2A2E7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15700F-DD00-42EC-AE88-F5383765D2D9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8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2AAAB-5D73-4A94-93F4-B5D5FA612136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8E676D-4207-42FC-95AC-4F0B7BC6C8F2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E49999-CBE7-452B-8BA8-54C3D53A3ADB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88A2A-A936-4AAF-8D7A-573B23C8CD9A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9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927223-DC92-46A7-A129-11CCDFC899B7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B9AF0-BF92-4530-82F5-B824EDEB076C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7A4CC4-9F2D-49C2-AFE3-40F54C2B5BAF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7C234-DCE3-4CA9-8998-2ABD339D7CCF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A19DC1-9B75-47D2-9A75-69DCB2B35991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713D7C-32A2-43E7-8A4B-60C19E50BB36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7168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ระบบงบประมาณแบบมุ่งเน้นผลงานตามยุทธศาสตร์มีองค์ประกอบที่สำคัญ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6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ประการ คือ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1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เป็นระบบงบประมาณที่มุ่งเน้นผลสำเร็จของงานตามผลผลิต ผลลัพธ์ ที่เชื่อมโยงไปสู่เป้าหมายเชิงยุทธศาสตร์ระดับชาติ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2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ีการประมาณการงบประมาณรายจ่ายล่วงหน้าระยะปานกลาง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( 1 + 3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ปี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3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ีการมอบอำนาจการบริหารงบประมาณให้กับส่วนราชการต่างๆ เพื่อให้สามารถบริหารงานได้อย่างคล่องตัว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4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เน้นหลักธรรมาภิบาล เพื่อให้มีการทำงานที่โปร่งใส ตรวจสอบได้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5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ีระบบการติดตามและประเมินผล เพื่อวัดผลสำเร็จของการดำเนินงาน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6.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เพิ่มขอบเขตความครอบคลุมของงบประมาณ โดยให้ครอบคลุมถึงเงินจากแหล่งอื่น โดยเฉพาะเงินนอกงบประมาณ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0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B46811-D60B-44FF-91A6-E2C5D110BA93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0C7F7A-95A3-45AC-BB84-C89819A59671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1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05DD4-E56F-45EA-A010-FCC85C1D1C7F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B44244-0205-4DAF-B196-D371A8F19089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15BE3-B9A6-4030-A144-43D46EC1C531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29711-75CB-40B5-AA54-C0401C9ACFEE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31007-DA1D-43F2-B876-12B6EFF9B166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A615CB-45CB-4C45-9957-BFE5AB09E465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FA9D37-915B-440D-A80E-4BA3DE573FA5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5664A6-F507-406A-9140-C1B163D7304E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3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96118-2AD2-40E8-AECC-C7FE0B41672D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08C2D-460B-4E5F-8DB0-FF389FBB1EA4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1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83164-32BF-4215-8B39-5289FE06C9E9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DE5593-19C3-4EA4-A31F-0CC8DC10107F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3040"/>
            <a:ext cx="4968720" cy="37274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64470-838F-4511-9E40-E21370B564F6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Slide Number Placeholder 5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AECDC-7DFA-4649-BCCC-F8A2102946D8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3"/>
          <p:cNvSpPr/>
          <p:nvPr/>
        </p:nvSpPr>
        <p:spPr>
          <a:xfrm>
            <a:off x="3848040" y="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4C5FD-F8AA-4354-A5AD-C04A5D512DE8}" type="datetime">
              <a:rPr b="0" lang="th-TH" sz="1200" spc="-1" strike="noStrike">
                <a:solidFill>
                  <a:srgbClr val="ffffff"/>
                </a:solidFill>
                <a:latin typeface="Angsana New"/>
              </a:rPr>
              <a:t>28/07/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6"/>
          <p:cNvSpPr/>
          <p:nvPr/>
        </p:nvSpPr>
        <p:spPr>
          <a:xfrm>
            <a:off x="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ngsana New"/>
              </a:rPr>
              <a:t>สำนักงบประมา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3848040" y="9428040"/>
            <a:ext cx="29480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F48AD-65E5-4860-8A1A-776D5F5A4C99}" type="slidenum">
              <a:rPr b="1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05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โยชน์ของ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่วนราชการฯตรวจสอบตนเอง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(Self – Assessment)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ผลของ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PART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ทำให้ส่วนราชการได้ทบทวน และปรับปรุง จุดบกพร่องในกระบวนการทำงาน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มื่อปรับปรุงกระบวนการทำงานแล้ว ส่วนราชการจะมีความพร้อมในการประเมิน ไม่ว่าจะเป็น ก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พ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หรือ สภาพัฒน์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เป็นองค์กรมาตรฐานที่มีประสิทธิภาพ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ea typeface="Angsana New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ประสิทธิผล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สำนักงบประมาณสามารถจัดสรรงบประมาณได้อย่างมีประสิทธิภาพ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ัฐบาลมีความมั่นใจว่า ส่วนราชการฯใช้งบประมาณได้อย่างคุ้มค่า ตอบสนองยุทธศาสตร์และนโยบายรัฐบาล</a:t>
            </a:r>
            <a:endParaRPr b="0" lang="en-US" sz="20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3F562-10E8-4172-A6E8-5E3013083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966D-0121-436D-B59D-7A64B4D10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9E7B-CF54-47CE-827C-05F836A47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EE759-600D-48AE-9867-E965E12BE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26E28-1EF2-4F12-AF4D-DC9A384C0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AA5E3-BF23-4CD1-8405-B11D320A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F2612-70EA-4783-8B64-BBD71F9A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5C62A-1463-49F4-9BBA-77A5DC45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BC98A-DC2F-4B18-9381-3FDDE34D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984D8-0C37-43FF-A03C-B371C296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E3A3C-6076-4DB4-8B3F-F6651143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0E4E-3D17-4BFE-BBA8-C6162ECB9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E3703-1CB8-4CFD-B330-073C491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EBC21-6A9E-4C1E-B20A-E636F91A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9CB0C-0169-4609-88D5-15F74EF0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EA84C-827B-4CA2-8721-15A19826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25B5A-7832-450E-B29A-969124D2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8E7D-342A-412C-9042-6175444A26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ABBBF-6BA3-4E82-B528-06E0A0096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F1DE8-8C81-410A-9A78-FB4BA1AF1C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B760-722A-457E-8D39-5E7B0A11E4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B2C9-83D5-4EFC-BC93-D5310A9AD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044F8-8FF7-4404-A8D1-22E079E729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91900-4040-4F38-8897-376CF93F9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0066"/>
                </a:gs>
                <a:gs pos="100000">
                  <a:srgbClr val="0066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8534160" y="6552720"/>
            <a:ext cx="533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178-B357-48F6-B7B1-9FD90B8060EB}" type="slidenum">
              <a:rPr b="0" lang="en-US" sz="14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5" descr="BB1"/>
          <p:cNvPicPr/>
          <p:nvPr/>
        </p:nvPicPr>
        <p:blipFill>
          <a:blip r:embed="rId2"/>
          <a:stretch/>
        </p:blipFill>
        <p:spPr>
          <a:xfrm>
            <a:off x="8458200" y="76320"/>
            <a:ext cx="576360" cy="57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50000">
                  <a:srgbClr val="000066"/>
                </a:gs>
                <a:gs pos="100000">
                  <a:srgbClr val="0066c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" name="Picture 15" descr="BB1"/>
          <p:cNvPicPr/>
          <p:nvPr/>
        </p:nvPicPr>
        <p:blipFill>
          <a:blip r:embed="rId2"/>
          <a:stretch/>
        </p:blipFill>
        <p:spPr>
          <a:xfrm>
            <a:off x="152280" y="1522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fb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fb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de6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37339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-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cs typeface="FreesiaUP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cs typeface="FreesiaUPC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6934320" y="632448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7F07-1A1B-40ED-93C6-3EAB1AB81AB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image" Target="../media/image10.wmf"/><Relationship Id="rId5" Type="http://schemas.openxmlformats.org/officeDocument/2006/relationships/slide" Target="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image" Target="../media/image10.wmf"/><Relationship Id="rId5" Type="http://schemas.openxmlformats.org/officeDocument/2006/relationships/slide" Target=""/><Relationship Id="rId6" Type="http://schemas.openxmlformats.org/officeDocument/2006/relationships/image" Target="../media/image11.wmf"/><Relationship Id="rId7" Type="http://schemas.openxmlformats.org/officeDocument/2006/relationships/slide" Target="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1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Slide Number Placeholder 2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D851-BB46-4746-83FE-E530041A6AC0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2"/>
          <p:cNvSpPr txBox="1"/>
          <p:nvPr/>
        </p:nvSpPr>
        <p:spPr>
          <a:xfrm>
            <a:off x="2362320" y="1676520"/>
            <a:ext cx="3962160" cy="2666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f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9900"/>
                  </a:outerShdw>
                </a:effectLst>
                <a:latin typeface="FreesiaUPC"/>
              </a:rPr>
              <a:t>สำนักงบประมาณ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f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999900"/>
                </a:outerShdw>
              </a:effectLst>
              <a:latin typeface="FreesiaUPC"/>
              <a:ea typeface="FreesiaUPC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370240" y="533520"/>
          <a:ext cx="4030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0240" y="533520"/>
                    <a:ext cx="4030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4"/>
          <p:cNvSpPr/>
          <p:nvPr/>
        </p:nvSpPr>
        <p:spPr>
          <a:xfrm>
            <a:off x="0" y="5085000"/>
            <a:ext cx="9144000" cy="210492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cc66"/>
                </a:solidFill>
                <a:latin typeface="AngsanaUPC"/>
              </a:rPr>
              <a:t>สำนักงบประมาณ     สำนักนายกรัฐมนตรี</a:t>
            </a:r>
            <a:br>
              <a:rPr sz="4400"/>
            </a:br>
            <a:r>
              <a:rPr b="1" lang="en-US" sz="4400" spc="-1" strike="noStrike">
                <a:solidFill>
                  <a:srgbClr val="00cc66"/>
                </a:solidFill>
                <a:latin typeface="AngsanaUPC"/>
              </a:rPr>
              <a:t>WWW.BB.GO.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1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Slide Number Placeholder 2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3FEF-D19B-4FE4-B6BC-92AC86C0C875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2"/>
          <p:cNvSpPr/>
          <p:nvPr/>
        </p:nvSpPr>
        <p:spPr>
          <a:xfrm>
            <a:off x="611280" y="26028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6000" spc="-1" strike="noStrike">
                <a:solidFill>
                  <a:srgbClr val="ffffff"/>
                </a:solidFill>
                <a:latin typeface="Angsana New"/>
              </a:rPr>
              <a:t>ข้อสรุป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763640" y="1052640"/>
            <a:ext cx="62643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en-US" sz="4500" spc="-1" strike="noStrike">
                <a:solidFill>
                  <a:srgbClr val="ffffff"/>
                </a:solidFill>
                <a:latin typeface="Angsana New"/>
              </a:rPr>
              <a:t>PART </a:t>
            </a:r>
            <a:r>
              <a:rPr b="1" lang="en-US" sz="4500" spc="-1" strike="noStrike">
                <a:solidFill>
                  <a:srgbClr val="ffffff"/>
                </a:solidFill>
                <a:latin typeface="Angsana New"/>
              </a:rPr>
              <a:t>เป็น </a:t>
            </a:r>
            <a:r>
              <a:rPr b="1" lang="en-US" sz="4500" spc="-1" strike="noStrike">
                <a:solidFill>
                  <a:srgbClr val="ffffff"/>
                </a:solidFill>
                <a:latin typeface="Angsana New"/>
              </a:rPr>
              <a:t>Self – Assessmen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476280"/>
            <a:ext cx="57636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340000" y="170028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แข่งขันกับตัวเอง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311640" y="5084640"/>
            <a:ext cx="583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1332000" y="1268280"/>
            <a:ext cx="360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1979640" y="1989000"/>
            <a:ext cx="28872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1979640" y="2492280"/>
            <a:ext cx="28872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68360" y="2276640"/>
            <a:ext cx="309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ทำด้วยตนเอง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1763640" y="2781360"/>
            <a:ext cx="3529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50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500" spc="-1" strike="noStrike">
                <a:solidFill>
                  <a:srgbClr val="ffffff"/>
                </a:solidFill>
                <a:latin typeface="Angsana New"/>
              </a:rPr>
              <a:t>ยอมรับความจริง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1403280" y="2997360"/>
            <a:ext cx="360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2340000" y="335772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สิ่งใดที่ยังไม่มี ก็ทำให้มี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4"/>
          <p:cNvSpPr/>
          <p:nvPr/>
        </p:nvSpPr>
        <p:spPr>
          <a:xfrm>
            <a:off x="2340000" y="4076640"/>
            <a:ext cx="51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สิ่งใดที่มีปัญหา ก็ต้องแก้ไข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5"/>
          <p:cNvSpPr/>
          <p:nvPr/>
        </p:nvSpPr>
        <p:spPr>
          <a:xfrm>
            <a:off x="2340000" y="4724280"/>
            <a:ext cx="64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สิ่งใดที่ทำดีแล้ว ก็พัฒนาให้เป็นมาตรฐาน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16"/>
          <p:cNvSpPr/>
          <p:nvPr/>
        </p:nvSpPr>
        <p:spPr>
          <a:xfrm>
            <a:off x="1835280" y="5300640"/>
            <a:ext cx="504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500" spc="-1" strike="noStrike">
                <a:solidFill>
                  <a:srgbClr val="ffffff"/>
                </a:solidFill>
                <a:latin typeface="Angsana New"/>
              </a:rPr>
              <a:t>คะแนน</a:t>
            </a: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เป็นเพียง</a:t>
            </a:r>
            <a:r>
              <a:rPr b="1" lang="th-TH" sz="4500" spc="-1" strike="noStrike">
                <a:solidFill>
                  <a:srgbClr val="ffffff"/>
                </a:solidFill>
                <a:latin typeface="Angsana New"/>
              </a:rPr>
              <a:t>ภาพสะท้อน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1835280" y="5877000"/>
            <a:ext cx="73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500" spc="-1" strike="noStrike">
                <a:solidFill>
                  <a:srgbClr val="ffffff"/>
                </a:solidFill>
                <a:latin typeface="Angsana New"/>
              </a:rPr>
              <a:t>เราอยู่ในระดับไหนจะพัฒนาหรือไม่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1476360" y="5445000"/>
            <a:ext cx="360360" cy="360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19"/>
          <p:cNvSpPr/>
          <p:nvPr/>
        </p:nvSpPr>
        <p:spPr>
          <a:xfrm>
            <a:off x="1979640" y="3573360"/>
            <a:ext cx="28872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20"/>
          <p:cNvSpPr/>
          <p:nvPr/>
        </p:nvSpPr>
        <p:spPr>
          <a:xfrm>
            <a:off x="1979640" y="4941720"/>
            <a:ext cx="288720" cy="28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21"/>
          <p:cNvSpPr/>
          <p:nvPr/>
        </p:nvSpPr>
        <p:spPr>
          <a:xfrm>
            <a:off x="1979640" y="4292640"/>
            <a:ext cx="288720" cy="287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22" descr="peop004"/>
          <p:cNvPicPr/>
          <p:nvPr/>
        </p:nvPicPr>
        <p:blipFill>
          <a:blip r:embed="rId1"/>
          <a:stretch/>
        </p:blipFill>
        <p:spPr>
          <a:xfrm>
            <a:off x="6691320" y="692280"/>
            <a:ext cx="2452680" cy="36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ADBE-264B-4BCD-8A9C-18C44C8DBF71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Word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93320" cy="148752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 rot="2736600">
            <a:off x="-225000" y="3120840"/>
            <a:ext cx="3284280" cy="1309680"/>
          </a:xfrm>
          <a:custGeom>
            <a:avLst/>
            <a:gdLst>
              <a:gd name="textAreaLeft" fmla="*/ 574560 w 3284280"/>
              <a:gd name="textAreaRight" fmla="*/ 2381040 w 3284280"/>
              <a:gd name="textAreaTop" fmla="*/ 175320 h 1309680"/>
              <a:gd name="textAreaBottom" fmla="*/ 1134360 h 13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Oval 7"/>
          <p:cNvSpPr/>
          <p:nvPr/>
        </p:nvSpPr>
        <p:spPr>
          <a:xfrm>
            <a:off x="0" y="1523880"/>
            <a:ext cx="2514600" cy="2362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1.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ารจัดท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แผนกลยุทธ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3"/>
          <p:cNvSpPr/>
          <p:nvPr/>
        </p:nvSpPr>
        <p:spPr>
          <a:xfrm>
            <a:off x="2819520" y="1676520"/>
            <a:ext cx="6324480" cy="167616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th-TH" sz="3200" spc="-1" strike="noStrike" u="sng">
                <a:solidFill>
                  <a:srgbClr val="000066"/>
                </a:solidFill>
                <a:uFillTx/>
                <a:latin typeface="Arial"/>
              </a:rPr>
              <a:t>การวิเคราะห์ผู้มีส่วนได้เสีย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: 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ดูความต้องการข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ประชาชนผู้รับบริ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2819520" y="3657600"/>
            <a:ext cx="6324480" cy="2895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th-TH" sz="3200" spc="-1" strike="noStrike" u="sng">
                <a:solidFill>
                  <a:srgbClr val="000000"/>
                </a:solidFill>
                <a:uFillTx/>
                <a:latin typeface="Arial"/>
              </a:rPr>
              <a:t>การวิเคราะห์สภาพแวดล้อม ภายใน ภายนอก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0000"/>
                </a:solidFill>
                <a:latin typeface="Arial"/>
              </a:rPr>
              <a:t>ภายใน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ดูโครงสร้างองค์การ การบริหารบุคค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ประสิทธิภาพทางการเงิน การบริหารพัสดุ การบริห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จัด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0000"/>
                </a:solidFill>
                <a:latin typeface="Arial"/>
              </a:rPr>
              <a:t>ภายนอก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ปัจจัยเอื้อหรืออุปสรรคด้านสังคม วัฒนธรร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กฏหมาย  เศรษฐกิจ เทคโนโลยี นโยบายรัฐบา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20"/>
          <p:cNvSpPr/>
          <p:nvPr/>
        </p:nvSpPr>
        <p:spPr>
          <a:xfrm>
            <a:off x="2895480" y="1752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2895480" y="37339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4B8C-B598-41CE-BA59-E71F274983FA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Word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93320" cy="148752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3"/>
          <p:cNvSpPr/>
          <p:nvPr/>
        </p:nvSpPr>
        <p:spPr>
          <a:xfrm rot="3256800">
            <a:off x="-480960" y="4148280"/>
            <a:ext cx="2678040" cy="858600"/>
          </a:xfrm>
          <a:custGeom>
            <a:avLst/>
            <a:gdLst>
              <a:gd name="textAreaLeft" fmla="*/ 468720 w 2678040"/>
              <a:gd name="textAreaRight" fmla="*/ 1941840 w 2678040"/>
              <a:gd name="textAreaTop" fmla="*/ 114840 h 858600"/>
              <a:gd name="textAreaBottom" fmla="*/ 743760 h 85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4"/>
          <p:cNvSpPr/>
          <p:nvPr/>
        </p:nvSpPr>
        <p:spPr>
          <a:xfrm>
            <a:off x="0" y="1523880"/>
            <a:ext cx="2514600" cy="2362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gsana New"/>
              </a:rPr>
              <a:t>1.</a:t>
            </a:r>
            <a:r>
              <a:rPr b="1" lang="th-TH" sz="4800" spc="-1" strike="noStrike">
                <a:solidFill>
                  <a:srgbClr val="ffffff"/>
                </a:solidFill>
                <a:latin typeface="Angsana New"/>
              </a:rPr>
              <a:t> 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การจัดทำ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แผนกลยุทธ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th-TH" sz="4800" spc="-1" strike="noStrike">
                <a:solidFill>
                  <a:srgbClr val="ffffff"/>
                </a:solidFill>
                <a:latin typeface="Arial"/>
              </a:rPr>
              <a:t>ต่อ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2819520" y="1523880"/>
            <a:ext cx="5943600" cy="1905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th-TH" sz="3200" spc="-1" strike="noStrike" u="sng">
                <a:solidFill>
                  <a:srgbClr val="000066"/>
                </a:solidFill>
                <a:uFillTx/>
                <a:latin typeface="Arial"/>
              </a:rPr>
              <a:t>การวางทิศทางขององค์กร</a:t>
            </a: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ได้แก่วิสัยทัศน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พันธกิจ เป้าประสงค์หลักของหน่วยงานที่ระบุกลุ่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กลุ่มเป้าหมายผู้รับบริการและผลประโยชน์ที่กลุ่มเป้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หมายจะได้รั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895480" y="1523880"/>
            <a:ext cx="533520" cy="45720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3"/>
          <p:cNvSpPr/>
          <p:nvPr/>
        </p:nvSpPr>
        <p:spPr>
          <a:xfrm>
            <a:off x="3352680" y="4038480"/>
            <a:ext cx="457200" cy="38124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16"/>
          <p:cNvSpPr/>
          <p:nvPr/>
        </p:nvSpPr>
        <p:spPr>
          <a:xfrm>
            <a:off x="1828800" y="3200400"/>
            <a:ext cx="7315200" cy="3657600"/>
          </a:xfrm>
          <a:prstGeom prst="ellipse">
            <a:avLst/>
          </a:prstGeom>
          <a:solidFill>
            <a:srgbClr val="ff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>
            <a:off x="2209680" y="3841920"/>
            <a:ext cx="6934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0000"/>
                </a:solidFill>
                <a:uFillTx/>
                <a:latin typeface="Angsana New"/>
              </a:rPr>
              <a:t>มียุทธศาสตร์ กลยุทธ์และผลผลิต ของหน่วยง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ยุทธศาสตร์กระทรวงและกลยุทธ์ของกรมต้องมีเป้าหมายเฉพาะด้านที่ชัดเจนมี ตัวชี้วัด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2Q2T1P(Quantity    Quality    Time Target Group    Place)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และแผนกลยุทธ์จะต้องระบุ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   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ผลผลิตที่มีตัวชี้วัดเชิงรูปธรรมเป็นรายปี ครบ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4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มิติ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</a:rPr>
              <a:t>QQ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2514600" y="3886200"/>
            <a:ext cx="533520" cy="5335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B866-524D-49F2-9A51-881B00EF194C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Word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93320" cy="1487520"/>
          </a:xfrm>
          <a:prstGeom prst="rect">
            <a:avLst/>
          </a:prstGeom>
          <a:ln w="0">
            <a:noFill/>
          </a:ln>
        </p:spPr>
      </p:pic>
      <p:sp>
        <p:nvSpPr>
          <p:cNvPr id="321" name="AutoShape 4"/>
          <p:cNvSpPr/>
          <p:nvPr/>
        </p:nvSpPr>
        <p:spPr>
          <a:xfrm rot="2428800">
            <a:off x="761760" y="2209680"/>
            <a:ext cx="2819160" cy="1219320"/>
          </a:xfrm>
          <a:custGeom>
            <a:avLst/>
            <a:gdLst>
              <a:gd name="textAreaLeft" fmla="*/ 493200 w 2819160"/>
              <a:gd name="textAreaRight" fmla="*/ 2044080 w 2819160"/>
              <a:gd name="textAreaTop" fmla="*/ 163080 h 1219320"/>
              <a:gd name="textAreaBottom" fmla="*/ 10562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228600" y="1447920"/>
            <a:ext cx="205740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2.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การจัดท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แผ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ปฏิบัติราชกา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ngsana New"/>
              </a:rPr>
              <a:t>4 </a:t>
            </a:r>
            <a:r>
              <a:rPr b="1" lang="th-TH" sz="3600" spc="-1" strike="noStrike">
                <a:solidFill>
                  <a:srgbClr val="ff0000"/>
                </a:solidFill>
                <a:latin typeface="Angsana New"/>
              </a:rPr>
              <a:t>ป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3352680" y="1752480"/>
            <a:ext cx="5791320" cy="2133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มีผลผลิตที่จำแนกกิจกรรมหลักในแต่ผลผลิ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มีการกำหนดเป้าหมายผลผลิตประจำป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มีตัวชี้วัดผลผลิตครบ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th-TH" sz="3200" spc="-1" strike="noStrike">
                <a:solidFill>
                  <a:srgbClr val="ff0000"/>
                </a:solidFill>
                <a:latin typeface="Arial"/>
              </a:rPr>
              <a:t>มิต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AutoShape 8"/>
          <p:cNvSpPr/>
          <p:nvPr/>
        </p:nvSpPr>
        <p:spPr>
          <a:xfrm rot="18742800">
            <a:off x="1119960" y="4594680"/>
            <a:ext cx="2286000" cy="13255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177480 h 1325520"/>
              <a:gd name="textAreaBottom" fmla="*/ 1148040 h 132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28600" y="4191120"/>
            <a:ext cx="20574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. </a:t>
            </a: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การจัดระบ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ประเมินผ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ของหน่วยง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3276720" y="4038480"/>
            <a:ext cx="5867280" cy="2514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มีแผนการประเมินผลของหน่วยงานเ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มีแผนการประเมินผลของหน่วยงานภายนอ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ngsana New"/>
              </a:rPr>
              <a:t>-</a:t>
            </a: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มีรายงานการประเมินผลผลิต</a:t>
            </a:r>
            <a:r>
              <a:rPr b="0" lang="en-US" sz="32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และ ผลลัพธ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มีการประเมินผลโดยหน่วยงานภายนอกเช่นหน่ว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งานกลาง หรือผู้ประเมินอิสร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AutoShape 13"/>
          <p:cNvSpPr/>
          <p:nvPr/>
        </p:nvSpPr>
        <p:spPr>
          <a:xfrm>
            <a:off x="7315200" y="2971800"/>
            <a:ext cx="914400" cy="7621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14"/>
          <p:cNvSpPr/>
          <p:nvPr/>
        </p:nvSpPr>
        <p:spPr>
          <a:xfrm>
            <a:off x="7238880" y="5943600"/>
            <a:ext cx="990720" cy="533520"/>
          </a:xfrm>
          <a:prstGeom prst="smileyFace">
            <a:avLst>
              <a:gd name="adj" fmla="val 9282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C020-071E-4615-BBFF-A0B0184E790F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Word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93320" cy="148752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3"/>
          <p:cNvSpPr/>
          <p:nvPr/>
        </p:nvSpPr>
        <p:spPr>
          <a:xfrm rot="1517400">
            <a:off x="654120" y="2144520"/>
            <a:ext cx="2539800" cy="1209600"/>
          </a:xfrm>
          <a:custGeom>
            <a:avLst/>
            <a:gdLst>
              <a:gd name="textAreaLeft" fmla="*/ 444240 w 2539800"/>
              <a:gd name="textAreaRight" fmla="*/ 1841400 w 2539800"/>
              <a:gd name="textAreaTop" fmla="*/ 162000 h 1209600"/>
              <a:gd name="textAreaBottom" fmla="*/ 1047600 h 12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3200400" y="1523880"/>
            <a:ext cx="5943600" cy="487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9"/>
          <p:cNvSpPr/>
          <p:nvPr/>
        </p:nvSpPr>
        <p:spPr>
          <a:xfrm>
            <a:off x="0" y="1523880"/>
            <a:ext cx="213372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0" y="1671480"/>
            <a:ext cx="2286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ngsana New"/>
              </a:rPr>
              <a:t>4.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การจั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ระบบการบริห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จัดการขอ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หน่วยนำส่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ผลผลิ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3276720" y="1676520"/>
            <a:ext cx="5867280" cy="72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0000"/>
                </a:solidFill>
                <a:latin typeface="Angsana New"/>
              </a:rPr>
              <a:t>  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0" lang="th-TH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0" lang="th-TH" sz="28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แผนการปฏิบัติการประจำปีที่แสดงแผนการปฏิบัต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งานและแผนการใช้จ่ายงบประมาณประจำป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ngsana New"/>
              </a:rPr>
              <a:t>-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0" lang="th-TH" sz="2800" spc="-1" strike="noStrike">
                <a:solidFill>
                  <a:srgbClr val="ff0000"/>
                </a:solidFill>
                <a:latin typeface="Angsana New"/>
              </a:rPr>
              <a:t>  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ระบบข้อมูลพื้นฐานและระบบสารสนเท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ngsana New"/>
              </a:rPr>
              <a:t>-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0" lang="th-TH" sz="2800" spc="-1" strike="noStrike">
                <a:solidFill>
                  <a:srgbClr val="ff0000"/>
                </a:solidFill>
                <a:latin typeface="Angsana New"/>
              </a:rPr>
              <a:t>   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หน่วยนำส่งผลผลิตที่มีการรายงานผลการปฏิบัติกา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และมีการนำระบบข้อมูลสารสนเทศมาใช้ในการปฏิบัติงา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ngsana New"/>
              </a:rPr>
              <a:t>-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0" lang="th-TH" sz="2800" spc="-1" strike="noStrike">
                <a:solidFill>
                  <a:srgbClr val="ff0000"/>
                </a:solidFill>
                <a:latin typeface="Angsana New"/>
              </a:rPr>
              <a:t>   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การใช้ต้นทุนผลผลิตต่อหน่วย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1" i="1" lang="th-TH" sz="36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1" i="1" lang="th-TH" sz="36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 การตรวจสอบทางการเงินทั้งฝ่ายตรวจสอบภายในและภายน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ngsana New"/>
              </a:rPr>
              <a:t>- 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    มีการประเมินบุคคลที่สัมพันธ์กับการนำส่งผลผลิ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AutoShape 16"/>
          <p:cNvSpPr/>
          <p:nvPr/>
        </p:nvSpPr>
        <p:spPr>
          <a:xfrm rot="1196400">
            <a:off x="2670120" y="1203120"/>
            <a:ext cx="1079640" cy="776160"/>
          </a:xfrm>
          <a:prstGeom prst="pie">
            <a:avLst/>
          </a:prstGeom>
          <a:solidFill>
            <a:srgbClr val="ff33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BCC6-7D04-4951-AE1E-08F6C0537FD6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WordArt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93320" cy="14875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"/>
          <p:cNvSpPr/>
          <p:nvPr/>
        </p:nvSpPr>
        <p:spPr>
          <a:xfrm rot="3204000">
            <a:off x="734760" y="3494160"/>
            <a:ext cx="2482920" cy="1762200"/>
          </a:xfrm>
          <a:custGeom>
            <a:avLst/>
            <a:gdLst>
              <a:gd name="textAreaLeft" fmla="*/ 343080 w 2482920"/>
              <a:gd name="textAreaRight" fmla="*/ 1769760 w 2482920"/>
              <a:gd name="textAreaTop" fmla="*/ 235800 h 1762200"/>
              <a:gd name="textAreaBottom" fmla="*/ 1526400 h 176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972" hR="21600" stAng="10800000" swAng="-5400000"/>
                <a:lnTo>
                  <a:pt x="12409" y="21600"/>
                </a:lnTo>
                <a:arcTo wR="5972" hR="21600" stAng="5400000" swAng="-2281541"/>
                <a:lnTo>
                  <a:pt x="21258" y="7200"/>
                </a:lnTo>
                <a:lnTo>
                  <a:pt x="15163" y="0"/>
                </a:lnTo>
                <a:lnTo>
                  <a:pt x="8383" y="7200"/>
                </a:lnTo>
                <a:lnTo>
                  <a:pt x="11602" y="7200"/>
                </a:lnTo>
                <a:arcTo wR="5972" hR="21600" stAng="3118459" swAng="1679658"/>
                <a:lnTo>
                  <a:pt x="9191" y="18195"/>
                </a:lnTo>
                <a:arcTo wR="5972" hR="21600" stAng="6001883" swAng="4798117"/>
                <a:close/>
              </a:path>
              <a:path fill="darkenLess" w="21600" h="21600">
                <a:moveTo>
                  <a:pt x="0" y="0"/>
                </a:moveTo>
                <a:arcTo wR="5972" hR="21600" stAng="10800000" swAng="-5400000"/>
                <a:lnTo>
                  <a:pt x="12409" y="21600"/>
                </a:lnTo>
                <a:arcTo wR="5972" hR="21600" stAng="5400000" swAng="601883"/>
                <a:lnTo>
                  <a:pt x="9191" y="18195"/>
                </a:lnTo>
                <a:arcTo wR="5972" hR="21600" stAng="6001883" swAng="4798117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3200400" y="1523880"/>
            <a:ext cx="5943600" cy="48769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5"/>
          <p:cNvSpPr/>
          <p:nvPr/>
        </p:nvSpPr>
        <p:spPr>
          <a:xfrm>
            <a:off x="0" y="1752480"/>
            <a:ext cx="2971800" cy="25909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380880" y="1828800"/>
            <a:ext cx="2667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ngsana New"/>
              </a:rPr>
              <a:t>5. </a:t>
            </a:r>
            <a:r>
              <a:rPr b="1" lang="th-TH" sz="4000" spc="-1" strike="noStrike">
                <a:solidFill>
                  <a:srgbClr val="000066"/>
                </a:solidFill>
                <a:latin typeface="Angsana New"/>
              </a:rPr>
              <a:t>เอกส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</a:rPr>
              <a:t>อื่นที่เกี่ยวข้อ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66"/>
                </a:solidFill>
                <a:latin typeface="Angsana New"/>
              </a:rPr>
              <a:t>ของหน่วยงา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4572000" y="16765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66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3352680" y="1600200"/>
            <a:ext cx="5791320" cy="609480"/>
          </a:xfrm>
          <a:prstGeom prst="cloudCallout">
            <a:avLst>
              <a:gd name="adj1" fmla="val -44652"/>
              <a:gd name="adj2" fmla="val 97398"/>
            </a:avLst>
          </a:prstGeom>
          <a:solidFill>
            <a:srgbClr val="0099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3352680" y="1595520"/>
            <a:ext cx="556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200" spc="-1" strike="noStrike">
                <a:solidFill>
                  <a:srgbClr val="ff0000"/>
                </a:solidFill>
                <a:latin typeface="Arial"/>
              </a:rPr>
              <a:t>หน่วยงานท่านเก็บไว้บ้างหรือเปล่า</a:t>
            </a:r>
            <a:r>
              <a:rPr b="0" lang="th-TH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????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3200400" y="2438280"/>
            <a:ext cx="5943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         </a:t>
            </a: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รายงานเกี่ยวกับนโยบายของหน่วยงานเช่นสำรวจความต้องการ  การศึกษาปัญหา การวิจั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         </a:t>
            </a: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รายงานการคำนวณต้นทุนต่อหน่วย ฐานข้อมู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          </a:t>
            </a:r>
            <a:r>
              <a:rPr b="0" lang="th-TH" sz="3200" spc="-1" strike="noStrike">
                <a:solidFill>
                  <a:srgbClr val="000066"/>
                </a:solidFill>
                <a:latin typeface="Angsana New"/>
              </a:rPr>
              <a:t>บันทึกการประชุมต่างๆ วาระการพิจารณาผลการปฏิบัติงานที่ผ่านมา  หรือการประชุมเรื่องการทบทวนกลยุทธ์ หรือข้อตกลงในการประสานงานกับหน่วยงานอื่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AutoShape 13"/>
          <p:cNvSpPr/>
          <p:nvPr/>
        </p:nvSpPr>
        <p:spPr>
          <a:xfrm>
            <a:off x="3505320" y="2514600"/>
            <a:ext cx="304560" cy="304920"/>
          </a:xfrm>
          <a:prstGeom prst="cube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3429000" y="3505320"/>
            <a:ext cx="30492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5"/>
          <p:cNvSpPr/>
          <p:nvPr/>
        </p:nvSpPr>
        <p:spPr>
          <a:xfrm>
            <a:off x="3429000" y="4038480"/>
            <a:ext cx="304920" cy="304920"/>
          </a:xfrm>
          <a:prstGeom prst="cube">
            <a:avLst>
              <a:gd name="adj" fmla="val 25000"/>
            </a:avLst>
          </a:prstGeom>
          <a:solidFill>
            <a:srgbClr val="0066cc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1827-F9FC-4360-A8FB-D5961A45EE68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0" y="5452920"/>
            <a:ext cx="2742840" cy="1405080"/>
            <a:chOff x="0" y="5452920"/>
            <a:chExt cx="2742840" cy="1405080"/>
          </a:xfrm>
        </p:grpSpPr>
        <p:pic>
          <p:nvPicPr>
            <p:cNvPr id="355" name="Picture 5" descr="Alp322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0" y="5452920"/>
              <a:ext cx="63144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6" descr="Alp307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73840" y="5452920"/>
              <a:ext cx="765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7" descr="Alp324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377720" y="5452920"/>
              <a:ext cx="6699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8" descr="Alp326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028600" y="5452920"/>
              <a:ext cx="714240" cy="14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AutoShape 9"/>
          <p:cNvSpPr/>
          <p:nvPr/>
        </p:nvSpPr>
        <p:spPr>
          <a:xfrm rot="15246000">
            <a:off x="127800" y="566640"/>
            <a:ext cx="2428920" cy="2211480"/>
          </a:xfrm>
          <a:prstGeom prst="wedgeRoundRectCallout">
            <a:avLst>
              <a:gd name="adj1" fmla="val -129023"/>
              <a:gd name="adj2" fmla="val 34611"/>
              <a:gd name="adj3" fmla="val 16667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10"/>
          <p:cNvSpPr/>
          <p:nvPr/>
        </p:nvSpPr>
        <p:spPr>
          <a:xfrm rot="20539800">
            <a:off x="389880" y="421920"/>
            <a:ext cx="212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 u="sng">
                <a:solidFill>
                  <a:srgbClr val="ffffff"/>
                </a:solidFill>
                <a:uFillTx/>
                <a:latin typeface="Angsana New"/>
              </a:rPr>
              <a:t>หมวด ก</a:t>
            </a:r>
            <a:r>
              <a:rPr b="1" i="1" lang="th-TH" sz="4000" spc="-1" strike="noStrike" u="sng">
                <a:solidFill>
                  <a:srgbClr val="ffffff"/>
                </a:solidFill>
                <a:uFillTx/>
                <a:latin typeface="Angsana New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ngsana New"/>
              </a:rPr>
              <a:t>จุดมุ่งหมาย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ngsana New"/>
              </a:rPr>
              <a:t>แล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ngsana New"/>
              </a:rPr>
              <a:t>รูปแบ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2895480" y="0"/>
            <a:ext cx="6248520" cy="6324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ngsana New"/>
              </a:rPr>
              <a:t>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ngsana New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2" descr="j0301252"/>
          <p:cNvPicPr/>
          <p:nvPr/>
        </p:nvPicPr>
        <p:blipFill>
          <a:blip r:embed="rId9"/>
          <a:stretch/>
        </p:blipFill>
        <p:spPr>
          <a:xfrm rot="20641200">
            <a:off x="6537240" y="-12240"/>
            <a:ext cx="2038320" cy="20574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4"/>
          <p:cNvSpPr/>
          <p:nvPr/>
        </p:nvSpPr>
        <p:spPr>
          <a:xfrm>
            <a:off x="4861080" y="30430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352680" y="380880"/>
            <a:ext cx="5791320" cy="9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1" lang="th-TH" sz="4400" spc="-1" strike="noStrike">
                <a:solidFill>
                  <a:srgbClr val="000066"/>
                </a:solidFill>
                <a:latin typeface="Arial"/>
              </a:rPr>
              <a:t>ผู้บริหาร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ของหน่วยงานต้องสามาร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อธิบายหรือแสดงให้เห็นถึงความเชื่อมโยง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ความสอดคล้อง ความเหมาะสม ของเป้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หมายการให้บริการของหน่วยงานกับเป้าหมายชาติ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มี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กระบวนการการกำหนดความต้องการ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มี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ผลผลิตที่กำหนดขึ้นจากความต้องการของกลุ่มเป้าหมาย </a:t>
            </a:r>
            <a:r>
              <a:rPr b="1" lang="th-TH" sz="3600" spc="-1" strike="noStrike">
                <a:solidFill>
                  <a:srgbClr val="ff0000"/>
                </a:solidFill>
                <a:latin typeface="Arial"/>
              </a:rPr>
              <a:t>และ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หน่วยงานต้องคำนึงถึ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อุปสรรคและข้อจำกัดที่มีต่อการนำส่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                 </a:t>
            </a:r>
            <a:r>
              <a:rPr b="0" lang="th-TH" sz="3600" spc="-1" strike="noStrike">
                <a:solidFill>
                  <a:srgbClr val="000066"/>
                </a:solidFill>
                <a:latin typeface="Arial"/>
              </a:rPr>
              <a:t>ผลผลิต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2293-65FF-4FCC-AF15-98D444E582EB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2"/>
          <p:cNvSpPr/>
          <p:nvPr/>
        </p:nvSpPr>
        <p:spPr>
          <a:xfrm rot="20536800">
            <a:off x="263520" y="-55080"/>
            <a:ext cx="4317840" cy="207468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ffff00"/>
            </a:solidFill>
            <a:miter/>
          </a:ln>
          <a:effectLst>
            <a:outerShdw dist="153753" dir="2700000" blurRad="0" rotWithShape="0">
              <a:srgbClr val="00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 u="sng">
                <a:solidFill>
                  <a:srgbClr val="000066"/>
                </a:solidFill>
                <a:uFillTx/>
                <a:latin typeface="Angsana New"/>
              </a:rPr>
              <a:t>ข</a:t>
            </a:r>
            <a:r>
              <a:rPr b="1" lang="th-TH" sz="3600" spc="-1" strike="noStrike" u="sng">
                <a:solidFill>
                  <a:srgbClr val="000066"/>
                </a:solidFill>
                <a:uFillTx/>
                <a:latin typeface="Angsana New"/>
              </a:rPr>
              <a:t>. </a:t>
            </a:r>
            <a:r>
              <a:rPr b="1" lang="th-TH" sz="3600" spc="-1" strike="noStrike" u="sng">
                <a:solidFill>
                  <a:srgbClr val="000066"/>
                </a:solidFill>
                <a:uFillTx/>
                <a:latin typeface="Angsana New"/>
              </a:rPr>
              <a:t>การวางแผนกลยุทธ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เป้าหมายระยะยาวที่ชัดเจ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ngsana New"/>
              </a:rPr>
              <a:t>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รายละเอียดแผนกลยุทธ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1066680" y="2057400"/>
            <a:ext cx="7824960" cy="667656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0000"/>
                </a:solidFill>
                <a:latin typeface="Angsana New"/>
              </a:rPr>
              <a:t>หน่วยงานต้องมีการจัดทำแผนกลยุทธ์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ที่แสดงความเชื่อมโยงและถ่ายทอดภารกิจจากเป้าหมายเชิงยุทธศาสตร์มายังผลลัพธ์ ผลผลิต กิจกรรมได้ตามลำดับ  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การกำหนดเป้าหมายผลผลิตระยะยาว </a:t>
            </a:r>
            <a:r>
              <a:rPr b="1" i="1" lang="th-TH" sz="3600" spc="-1" strike="noStrike">
                <a:solidFill>
                  <a:srgbClr val="ff0000"/>
                </a:solidFill>
                <a:latin typeface="Angsana New"/>
              </a:rPr>
              <a:t>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สามารถ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จำแนกผลผลิตเป็นรายปี 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  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การประสานความร่วมมือกับหน่วยงานที่เกี่ยวข้อง 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 แผนการประเมินผล 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กำหนดให้มี   </a:t>
            </a:r>
            <a:r>
              <a:rPr b="1" lang="th-TH" sz="3600" spc="-1" strike="noStrike">
                <a:solidFill>
                  <a:srgbClr val="000066"/>
                </a:solidFill>
                <a:latin typeface="Angsana New"/>
              </a:rPr>
              <a:t>กระบวนการการวิเคราะห์ความเปลี่ยนแปล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Group 4"/>
          <p:cNvGrpSpPr/>
          <p:nvPr/>
        </p:nvGrpSpPr>
        <p:grpSpPr>
          <a:xfrm>
            <a:off x="6172200" y="762120"/>
            <a:ext cx="2742840" cy="1404720"/>
            <a:chOff x="6172200" y="762120"/>
            <a:chExt cx="2742840" cy="1404720"/>
          </a:xfrm>
        </p:grpSpPr>
        <p:pic>
          <p:nvPicPr>
            <p:cNvPr id="370" name="Picture 5" descr="Alp322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172200" y="762120"/>
              <a:ext cx="63144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6" descr="Alp307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746040" y="762120"/>
              <a:ext cx="76536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7" descr="Alp324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549920" y="762120"/>
              <a:ext cx="669960" cy="14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8" descr="Alp326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8200800" y="762120"/>
              <a:ext cx="714240" cy="1404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Rectangle 7"/>
          <p:cNvSpPr/>
          <p:nvPr/>
        </p:nvSpPr>
        <p:spPr>
          <a:xfrm>
            <a:off x="0" y="0"/>
            <a:ext cx="914400" cy="441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ปร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เมิ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rial"/>
              </a:rPr>
              <a:t>ผ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เหลือ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BC2E-C22B-4448-B96C-4AED024D0A77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2"/>
          <p:cNvSpPr/>
          <p:nvPr/>
        </p:nvSpPr>
        <p:spPr>
          <a:xfrm>
            <a:off x="228600" y="2362320"/>
            <a:ext cx="8686800" cy="6188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ngsana New"/>
              </a:rPr>
              <a:t>หน่วยงานต้องแสดงให้เห็นความก้าวหน้าในการบรรลุเป้าหมายผลผลิต    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โดยจัดทำแผนปฏิบัติราชการ </a:t>
            </a:r>
            <a:r>
              <a:rPr b="1" lang="en-US" sz="4000" spc="-1" strike="noStrike">
                <a:solidFill>
                  <a:srgbClr val="0000ff"/>
                </a:solidFill>
                <a:latin typeface="Angsana New"/>
              </a:rPr>
              <a:t>4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ปี 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  การกำหนดกิจกรรมหลักที่เชื่อมโยงกับทรัพยากรที่ต้องการเพื่อให้บรรลุเป้าหมายผลผลิต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 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ตัวชี้วัดความก้าวหน้าตามระยะเวลาที่กำหนดทุกกิจกรรม 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มี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 กิจกรรมเพื่อคำนวนต้นทุนต่อหน่วยผลผลิต</a:t>
            </a:r>
            <a:r>
              <a:rPr b="1" i="1" lang="th-TH" sz="4000" spc="-1" strike="noStrike">
                <a:solidFill>
                  <a:srgbClr val="ff0000"/>
                </a:solidFill>
                <a:latin typeface="Angsana New"/>
              </a:rPr>
              <a:t>  มี</a:t>
            </a:r>
            <a:r>
              <a:rPr b="1" lang="th-TH" sz="4000" spc="-1" strike="noStrike">
                <a:solidFill>
                  <a:srgbClr val="0000ff"/>
                </a:solidFill>
                <a:latin typeface="Angsana New"/>
              </a:rPr>
              <a:t> การทบทวนผลการปฏิบัติงานที่ผ่านม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3"/>
          <p:cNvSpPr/>
          <p:nvPr/>
        </p:nvSpPr>
        <p:spPr>
          <a:xfrm rot="20343600">
            <a:off x="-69840" y="358920"/>
            <a:ext cx="4303800" cy="14778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ffff00"/>
            </a:solidFill>
            <a:miter/>
          </a:ln>
          <a:effectLst>
            <a:outerShdw dist="153753" dir="2700000" blurRad="0" rotWithShape="0">
              <a:srgbClr val="00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Angsana New"/>
              </a:rPr>
              <a:t>           </a:t>
            </a:r>
            <a:r>
              <a:rPr b="1" lang="th-TH" sz="3600" spc="-1" strike="noStrike" u="sng">
                <a:solidFill>
                  <a:srgbClr val="0000cc"/>
                </a:solidFill>
                <a:uFillTx/>
                <a:latin typeface="Angsana New"/>
              </a:rPr>
              <a:t>หมวด  ค</a:t>
            </a:r>
            <a:r>
              <a:rPr b="1" lang="th-TH" sz="3600" spc="-1" strike="noStrike" u="sng">
                <a:solidFill>
                  <a:srgbClr val="0000cc"/>
                </a:solidFill>
                <a:uFillTx/>
                <a:latin typeface="Angsana New"/>
              </a:rPr>
              <a:t>.</a:t>
            </a:r>
            <a:r>
              <a:rPr b="1" lang="th-TH" sz="3600" spc="-1" strike="noStrike">
                <a:solidFill>
                  <a:srgbClr val="0000cc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cc"/>
                </a:solidFill>
                <a:latin typeface="Angsana New"/>
              </a:rPr>
              <a:t>การเชื่อมโยงงบประมา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6400800" y="0"/>
            <a:ext cx="2742840" cy="1405080"/>
            <a:chOff x="6400800" y="0"/>
            <a:chExt cx="2742840" cy="1405080"/>
          </a:xfrm>
        </p:grpSpPr>
        <p:pic>
          <p:nvPicPr>
            <p:cNvPr id="380" name="Picture 5" descr="Alp322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63144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6" descr="Alp307"/>
            <p:cNvPicPr/>
            <p:nvPr/>
          </p:nvPicPr>
          <p:blipFill>
            <a:blip r:embed="rId3"/>
            <a:stretch/>
          </p:blipFill>
          <p:spPr>
            <a:xfrm>
              <a:off x="6974640" y="0"/>
              <a:ext cx="765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2" name="Picture 7" descr="Alp324"/>
            <p:cNvPicPr/>
            <p:nvPr/>
          </p:nvPicPr>
          <p:blipFill>
            <a:blip r:embed="rId4"/>
            <a:stretch/>
          </p:blipFill>
          <p:spPr>
            <a:xfrm>
              <a:off x="7778520" y="0"/>
              <a:ext cx="6699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8" descr="Alp326"/>
            <p:cNvPicPr/>
            <p:nvPr/>
          </p:nvPicPr>
          <p:blipFill>
            <a:blip r:embed="rId5"/>
            <a:stretch/>
          </p:blipFill>
          <p:spPr>
            <a:xfrm>
              <a:off x="8429400" y="0"/>
              <a:ext cx="714240" cy="140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4851-AC25-4685-84F0-929C8EEA5A0B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6400800" y="6095880"/>
            <a:ext cx="2742840" cy="762120"/>
            <a:chOff x="6400800" y="6095880"/>
            <a:chExt cx="2742840" cy="762120"/>
          </a:xfrm>
        </p:grpSpPr>
        <p:pic>
          <p:nvPicPr>
            <p:cNvPr id="387" name="Picture 5" descr="Alp322"/>
            <p:cNvPicPr/>
            <p:nvPr/>
          </p:nvPicPr>
          <p:blipFill>
            <a:blip r:embed="rId1"/>
            <a:stretch/>
          </p:blipFill>
          <p:spPr>
            <a:xfrm>
              <a:off x="6400800" y="6095880"/>
              <a:ext cx="6314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6" descr="Alp307"/>
            <p:cNvPicPr/>
            <p:nvPr/>
          </p:nvPicPr>
          <p:blipFill>
            <a:blip r:embed="rId2"/>
            <a:stretch/>
          </p:blipFill>
          <p:spPr>
            <a:xfrm>
              <a:off x="6974640" y="6095880"/>
              <a:ext cx="7653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Alp324"/>
            <p:cNvPicPr/>
            <p:nvPr/>
          </p:nvPicPr>
          <p:blipFill>
            <a:blip r:embed="rId3"/>
            <a:stretch/>
          </p:blipFill>
          <p:spPr>
            <a:xfrm>
              <a:off x="7778520" y="6095880"/>
              <a:ext cx="6699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8" descr="Alp326"/>
            <p:cNvPicPr/>
            <p:nvPr/>
          </p:nvPicPr>
          <p:blipFill>
            <a:blip r:embed="rId4"/>
            <a:stretch/>
          </p:blipFill>
          <p:spPr>
            <a:xfrm>
              <a:off x="8429400" y="6095880"/>
              <a:ext cx="71424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AutoShape 10"/>
          <p:cNvSpPr/>
          <p:nvPr/>
        </p:nvSpPr>
        <p:spPr>
          <a:xfrm rot="21223200">
            <a:off x="3886200" y="0"/>
            <a:ext cx="3730680" cy="1601640"/>
          </a:xfrm>
          <a:prstGeom prst="wedgeEllipseCallout">
            <a:avLst>
              <a:gd name="adj1" fmla="val -80097"/>
              <a:gd name="adj2" fmla="val 84865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2"/>
          <p:cNvSpPr/>
          <p:nvPr/>
        </p:nvSpPr>
        <p:spPr>
          <a:xfrm rot="21174000">
            <a:off x="3995280" y="-3960"/>
            <a:ext cx="2632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400" spc="-1" strike="noStrike" u="sng">
                <a:solidFill>
                  <a:srgbClr val="ffffff"/>
                </a:solidFill>
                <a:uFillTx/>
                <a:latin typeface="Arial"/>
              </a:rPr>
              <a:t>หมวด ง</a:t>
            </a:r>
            <a:r>
              <a:rPr b="1" i="1" lang="th-TH" sz="44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rial"/>
              </a:rPr>
              <a:t>การบริหารจัดกา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13"/>
          <p:cNvSpPr/>
          <p:nvPr/>
        </p:nvSpPr>
        <p:spPr>
          <a:xfrm rot="20118600">
            <a:off x="0" y="-457200"/>
            <a:ext cx="3352680" cy="2895480"/>
          </a:xfrm>
          <a:prstGeom prst="pi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304920" y="457200"/>
            <a:ext cx="3276360" cy="12952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rial"/>
              </a:rPr>
              <a:t>ต้องให้ความสำคัญ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ffff"/>
                </a:solidFill>
                <a:latin typeface="Arial"/>
              </a:rPr>
              <a:t>กับหน่วยนำส่งผลผลิ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 rot="20806200">
            <a:off x="229680" y="1928880"/>
            <a:ext cx="8677440" cy="3808440"/>
          </a:xfrm>
          <a:prstGeom prst="roundRect">
            <a:avLst>
              <a:gd name="adj" fmla="val 7542"/>
            </a:avLst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th-TH" sz="4000" spc="-1" strike="noStrike">
                <a:solidFill>
                  <a:srgbClr val="ff0000"/>
                </a:solidFill>
                <a:latin typeface="Arial"/>
              </a:rPr>
              <a:t>หน่วยนำส่งผลผลิต</a:t>
            </a: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 มี</a:t>
            </a:r>
            <a:r>
              <a:rPr b="0" lang="th-TH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การจัดทำและบริหารแผนการปฏิบัติงา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และแผนการใช้จ่ายงบประมาณ  </a:t>
            </a: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การจัดทำระบบรายงานข้อมูลย้อนกลับ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การนำข้อมูลย้อนกลับไปใช้ในการบริหารจัดการ และการปรับปรุงงาน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การนำต้นทุนต่อหน่วยไปใช้ประโยชน์ในการบริหารจัดการ</a:t>
            </a:r>
            <a:r>
              <a:rPr b="0" i="1" lang="th-TH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th-TH" sz="4000" spc="-1" strike="noStrike">
                <a:solidFill>
                  <a:srgbClr val="ff0000"/>
                </a:solidFill>
                <a:latin typeface="Arial"/>
              </a:rPr>
              <a:t>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การวัดผ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การดำเนินงาน วัดประสิทธิภาพ และความคุ้มค่า</a:t>
            </a: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 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รายงานผลการตรว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สอบทางการเงิน  และ</a:t>
            </a:r>
            <a:r>
              <a:rPr b="1" i="1" lang="th-TH" sz="4000" spc="-1" strike="noStrike">
                <a:solidFill>
                  <a:srgbClr val="ff0000"/>
                </a:solidFill>
                <a:latin typeface="Arial"/>
              </a:rPr>
              <a:t>มี</a:t>
            </a: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 การประเมินบุคคลผู้รับผิดชอบผลผลิ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1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7CDE-15E2-45AC-9004-D4FDC7591ADD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280" y="-76680"/>
            <a:ext cx="7885080" cy="17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ร</a:t>
            </a:r>
            <a:r>
              <a:rPr b="1" lang="th-TH" sz="3600" spc="-1" strike="noStrike">
                <a:solidFill>
                  <a:srgbClr val="ff6600"/>
                </a:solidFill>
                <a:latin typeface="Browallia New"/>
                <a:cs typeface="Browallia New"/>
              </a:rPr>
              <a:t>ะบบงบประมาณแบบมุ่งเน้นผลงานตามยุทธศาสตร์</a:t>
            </a:r>
            <a:r>
              <a:rPr b="1" lang="th-TH" sz="3600" spc="-1" strike="noStrike">
                <a:solidFill>
                  <a:srgbClr val="0000cc"/>
                </a:solidFill>
                <a:latin typeface="Browallia New"/>
                <a:ea typeface="Browallia New"/>
              </a:rPr>
              <a:t> </a:t>
            </a:r>
            <a:r>
              <a:rPr b="1" lang="th-TH" sz="3600" spc="-1" strike="noStrike">
                <a:solidFill>
                  <a:srgbClr val="ff0000"/>
                </a:solidFill>
                <a:latin typeface="Browallia New"/>
                <a:ea typeface="Browallia New"/>
              </a:rPr>
              <a:t>:</a:t>
            </a:r>
            <a:br>
              <a:rPr sz="3600"/>
            </a:br>
            <a:r>
              <a:rPr b="1" lang="th-TH" sz="3600" spc="-1" strike="noStrike">
                <a:solidFill>
                  <a:srgbClr val="00ff00"/>
                </a:solidFill>
                <a:latin typeface="Browallia New"/>
                <a:cs typeface="Browallia New"/>
              </a:rPr>
              <a:t>องค์ประกอบที่สำคัญ</a:t>
            </a:r>
            <a:endParaRPr b="0" lang="en-US" sz="36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6320" y="1219320"/>
            <a:ext cx="273672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มุ่งเน้นผลสำเร็จของงานตามผลผลิต ผลลัพ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187200">
              <a:lnSpc>
                <a:spcPct val="90000"/>
              </a:lnSpc>
              <a:spcBef>
                <a:spcPts val="499"/>
              </a:spcBef>
              <a:buClr>
                <a:srgbClr val="cde6ff"/>
              </a:buClr>
              <a:buSzPct val="7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เป้าหมายเชิงยุทธศาสตร์ระดับชาต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187200">
              <a:lnSpc>
                <a:spcPct val="90000"/>
              </a:lnSpc>
              <a:spcBef>
                <a:spcPts val="499"/>
              </a:spcBef>
              <a:buClr>
                <a:srgbClr val="cde6ff"/>
              </a:buClr>
              <a:buSzPct val="7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เป้าหมายการให้บริการระดับกระทรว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4560" indent="-187200">
              <a:lnSpc>
                <a:spcPct val="90000"/>
              </a:lnSpc>
              <a:spcBef>
                <a:spcPts val="499"/>
              </a:spcBef>
              <a:buClr>
                <a:srgbClr val="cde6ff"/>
              </a:buClr>
              <a:buSzPct val="7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ผลผลิตและตัวชี้วั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"/>
          <p:cNvSpPr/>
          <p:nvPr/>
        </p:nvSpPr>
        <p:spPr>
          <a:xfrm flipH="1" flipV="1">
            <a:off x="2590920" y="2438280"/>
            <a:ext cx="914400" cy="457200"/>
          </a:xfrm>
          <a:prstGeom prst="line">
            <a:avLst/>
          </a:prstGeom>
          <a:ln w="38160">
            <a:solidFill>
              <a:srgbClr val="cc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 flipH="1">
            <a:off x="2438280" y="4191120"/>
            <a:ext cx="99072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019920" y="1484280"/>
            <a:ext cx="3124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การมอบอำนาจการบริหารจัดการ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7120" indent="-174600">
              <a:lnSpc>
                <a:spcPct val="100000"/>
              </a:lnSpc>
              <a:spcBef>
                <a:spcPts val="499"/>
              </a:spcBef>
              <a:buClr>
                <a:srgbClr val="cde6ff"/>
              </a:buClr>
              <a:buSzPct val="65000"/>
              <a:buFont typeface="Browalli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เน้นให้กระทรวงมีอำนาจในการบริหารจัดการงบประมาณเพื่อให้บรรลุผลสำเร็จมากกว่าเน้นกฎระเบีย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 flipV="1">
            <a:off x="4267080" y="2286000"/>
            <a:ext cx="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5486400" y="4191120"/>
            <a:ext cx="533520" cy="457200"/>
          </a:xfrm>
          <a:prstGeom prst="line">
            <a:avLst/>
          </a:prstGeom>
          <a:ln w="3816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743200" y="5486400"/>
            <a:ext cx="3505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ระบบการติดตามและประเมินผลความสำเร็จตามเป้าหมายเชิงยุทธศาสตร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10"/>
          <p:cNvGrpSpPr/>
          <p:nvPr/>
        </p:nvGrpSpPr>
        <p:grpSpPr>
          <a:xfrm>
            <a:off x="3254400" y="2498760"/>
            <a:ext cx="2536920" cy="1920960"/>
            <a:chOff x="3254400" y="2498760"/>
            <a:chExt cx="2536920" cy="1920960"/>
          </a:xfrm>
        </p:grpSpPr>
        <p:sp>
          <p:nvSpPr>
            <p:cNvPr id="123" name="Puzzle3"/>
            <p:cNvSpPr/>
            <p:nvPr/>
          </p:nvSpPr>
          <p:spPr>
            <a:xfrm>
              <a:off x="4156200" y="2498760"/>
              <a:ext cx="730080" cy="1019160"/>
            </a:xfrm>
            <a:prstGeom prst="pi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" name="Group 12"/>
            <p:cNvGrpSpPr/>
            <p:nvPr/>
          </p:nvGrpSpPr>
          <p:grpSpPr>
            <a:xfrm>
              <a:off x="3254400" y="2803680"/>
              <a:ext cx="2536920" cy="1616040"/>
              <a:chOff x="3254400" y="2803680"/>
              <a:chExt cx="2536920" cy="1616040"/>
            </a:xfrm>
          </p:grpSpPr>
          <p:sp>
            <p:nvSpPr>
              <p:cNvPr id="125" name="Puzzle2"/>
              <p:cNvSpPr/>
              <p:nvPr/>
            </p:nvSpPr>
            <p:spPr>
              <a:xfrm>
                <a:off x="3952800" y="3247920"/>
                <a:ext cx="1162080" cy="930240"/>
              </a:xfrm>
              <a:prstGeom prst="pie">
                <a:avLst/>
              </a:prstGeom>
              <a:solidFill>
                <a:srgbClr val="008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Puzzle4"/>
              <p:cNvSpPr/>
              <p:nvPr/>
            </p:nvSpPr>
            <p:spPr>
              <a:xfrm>
                <a:off x="3495600" y="3235320"/>
                <a:ext cx="698400" cy="1184400"/>
              </a:xfrm>
              <a:prstGeom prst="pie">
                <a:avLst/>
              </a:prstGeom>
              <a:solidFill>
                <a:srgbClr val="fb2b44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Puzzle1"/>
              <p:cNvSpPr/>
              <p:nvPr/>
            </p:nvSpPr>
            <p:spPr>
              <a:xfrm>
                <a:off x="3254400" y="2803680"/>
                <a:ext cx="1177920" cy="707760"/>
              </a:xfrm>
              <a:prstGeom prst="pie">
                <a:avLst/>
              </a:prstGeom>
              <a:solidFill>
                <a:srgbClr val="cc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Puzzle1"/>
              <p:cNvSpPr/>
              <p:nvPr/>
            </p:nvSpPr>
            <p:spPr>
              <a:xfrm>
                <a:off x="4613400" y="2803680"/>
                <a:ext cx="1177920" cy="707760"/>
              </a:xfrm>
              <a:prstGeom prst="pie">
                <a:avLst/>
              </a:prstGeom>
              <a:solidFill>
                <a:srgbClr val="ff99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Puzzle4"/>
              <p:cNvSpPr/>
              <p:nvPr/>
            </p:nvSpPr>
            <p:spPr>
              <a:xfrm>
                <a:off x="4851360" y="3235320"/>
                <a:ext cx="698400" cy="1184400"/>
              </a:xfrm>
              <a:prstGeom prst="pi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Line 18"/>
          <p:cNvSpPr/>
          <p:nvPr/>
        </p:nvSpPr>
        <p:spPr>
          <a:xfrm flipV="1">
            <a:off x="5486400" y="2514600"/>
            <a:ext cx="533520" cy="533520"/>
          </a:xfrm>
          <a:prstGeom prst="line">
            <a:avLst/>
          </a:prstGeom>
          <a:ln w="38160">
            <a:solidFill>
              <a:srgbClr val="ebb3e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19"/>
          <p:cNvSpPr/>
          <p:nvPr/>
        </p:nvSpPr>
        <p:spPr>
          <a:xfrm>
            <a:off x="4495680" y="4267080"/>
            <a:ext cx="0" cy="10670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20"/>
          <p:cNvSpPr/>
          <p:nvPr/>
        </p:nvSpPr>
        <p:spPr>
          <a:xfrm>
            <a:off x="228600" y="4267080"/>
            <a:ext cx="2286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การเพิ่มขอบเขตความครอบคลุมของงบประมา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21"/>
          <p:cNvSpPr/>
          <p:nvPr/>
        </p:nvSpPr>
        <p:spPr>
          <a:xfrm>
            <a:off x="2895480" y="1066680"/>
            <a:ext cx="3276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การประมาณการงบประมาณรายจ่ายล่วงหน้าระยะปานกลาง </a:t>
            </a:r>
            <a:r>
              <a:rPr b="1" lang="en-US" sz="2800" spc="-1" strike="noStrike">
                <a:solidFill>
                  <a:srgbClr val="0099cc"/>
                </a:solidFill>
                <a:latin typeface="Browallia New"/>
                <a:ea typeface="Browallia New"/>
              </a:rPr>
              <a:t>(MTE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6248520" y="4572000"/>
            <a:ext cx="281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เน้นหลักการธรรมาภิบา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99cc"/>
                </a:solidFill>
                <a:latin typeface="Browallia New"/>
                <a:ea typeface="Browallia New"/>
              </a:rPr>
              <a:t>        </a:t>
            </a:r>
            <a:r>
              <a:rPr b="0" lang="th-TH" sz="2000" spc="-1" strike="noStrike">
                <a:solidFill>
                  <a:srgbClr val="0099cc"/>
                </a:solidFill>
                <a:latin typeface="Browallia New"/>
                <a:ea typeface="Browallia New"/>
              </a:rPr>
              <a:t>- </a:t>
            </a: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การแบ่งหน้าที่และความรับผิดชอบในแต่ละระดับ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60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99cc"/>
                </a:solidFill>
                <a:latin typeface="Browallia New"/>
                <a:ea typeface="Browallia New"/>
              </a:rPr>
              <a:t>        </a:t>
            </a:r>
            <a:r>
              <a:rPr b="0" lang="th-TH" sz="2000" spc="-1" strike="noStrike">
                <a:solidFill>
                  <a:srgbClr val="0099cc"/>
                </a:solidFill>
                <a:latin typeface="Browallia New"/>
                <a:ea typeface="Browallia New"/>
              </a:rPr>
              <a:t>- </a:t>
            </a:r>
            <a:r>
              <a:rPr b="0" lang="th-TH" sz="2000" spc="-1" strike="noStrike">
                <a:solidFill>
                  <a:srgbClr val="0099cc"/>
                </a:solidFill>
                <a:latin typeface="Browallia New"/>
                <a:cs typeface="Browallia New"/>
              </a:rPr>
              <a:t>มีระบบการติดตามประเมินผลและการรายงานผลการดำเนินงานที่โปร่งใส และตรวจสอบได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6FD5-37AE-42A5-99CA-C10F08E2C526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2"/>
          <p:cNvSpPr/>
          <p:nvPr/>
        </p:nvSpPr>
        <p:spPr>
          <a:xfrm rot="20544600">
            <a:off x="835560" y="1304640"/>
            <a:ext cx="5867280" cy="6129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0000"/>
                </a:solidFill>
                <a:latin typeface="AngsanaUPC"/>
              </a:rPr>
              <a:t>มี</a:t>
            </a: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  การเปรียบเทียบผลลัพธ์กั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เป้าหมายระยะยาว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0000"/>
                </a:solidFill>
                <a:latin typeface="AngsanaUPC"/>
              </a:rPr>
              <a:t>มี</a:t>
            </a:r>
            <a:r>
              <a:rPr b="1" i="1" lang="th-TH" sz="3600" spc="-1" strike="noStrike">
                <a:solidFill>
                  <a:srgbClr val="0000ff"/>
                </a:solidFill>
                <a:latin typeface="AngsanaUPC"/>
              </a:rPr>
              <a:t>  </a:t>
            </a: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การเปรียบเทียบผลผลิตที่ได้กับเป้าหมายประจำป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0000"/>
                </a:solidFill>
                <a:latin typeface="AngsanaUPC"/>
              </a:rPr>
              <a:t>มี </a:t>
            </a: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การเปรียบเทียบผลผลิตและเป้าหมา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ผลผลิตกับหน่วยงานภายนอกที่คล้ายคลึงกั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ff0000"/>
                </a:solidFill>
                <a:latin typeface="AngsanaUPC"/>
              </a:rPr>
              <a:t>มี  </a:t>
            </a:r>
            <a:r>
              <a:rPr b="1" lang="th-TH" sz="3600" spc="-1" strike="noStrike">
                <a:solidFill>
                  <a:srgbClr val="0000ff"/>
                </a:solidFill>
                <a:latin typeface="AngsanaUPC"/>
              </a:rPr>
              <a:t>ผลของการประเมินของผู้ประเมินอิสระที่แสดงให้เห็นถึงการบรรลุผลสำเร็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3"/>
          <p:cNvSpPr/>
          <p:nvPr/>
        </p:nvSpPr>
        <p:spPr>
          <a:xfrm rot="20629200">
            <a:off x="4800600" y="0"/>
            <a:ext cx="3481560" cy="152100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0066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 u="sng">
                <a:solidFill>
                  <a:srgbClr val="ff33cc"/>
                </a:solidFill>
                <a:uFillTx/>
                <a:latin typeface="AngsanaUPC"/>
              </a:rPr>
              <a:t>หมวด   จ</a:t>
            </a:r>
            <a:r>
              <a:rPr b="1" lang="th-TH" sz="3600" spc="-1" strike="noStrike" u="sng">
                <a:solidFill>
                  <a:srgbClr val="ff33cc"/>
                </a:solidFill>
                <a:uFillTx/>
                <a:latin typeface="AngsanaUPC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33cc"/>
                </a:solidFill>
                <a:latin typeface="AngsanaUPC"/>
              </a:rPr>
              <a:t>ผลผลิต </a:t>
            </a:r>
            <a:r>
              <a:rPr b="1" lang="th-TH" sz="3600" spc="-1" strike="noStrike">
                <a:solidFill>
                  <a:srgbClr val="ff33cc"/>
                </a:solidFill>
                <a:latin typeface="AngsanaUPC"/>
              </a:rPr>
              <a:t>/ </a:t>
            </a:r>
            <a:r>
              <a:rPr b="1" lang="th-TH" sz="3600" spc="-1" strike="noStrike">
                <a:solidFill>
                  <a:srgbClr val="ff33cc"/>
                </a:solidFill>
                <a:latin typeface="AngsanaUPC"/>
              </a:rPr>
              <a:t>ผลลัพธ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5940360" y="5013360"/>
            <a:ext cx="2742840" cy="1405080"/>
            <a:chOff x="5940360" y="5013360"/>
            <a:chExt cx="2742840" cy="1405080"/>
          </a:xfrm>
        </p:grpSpPr>
        <p:pic>
          <p:nvPicPr>
            <p:cNvPr id="401" name="Picture 5" descr="Alp322"/>
            <p:cNvPicPr/>
            <p:nvPr/>
          </p:nvPicPr>
          <p:blipFill>
            <a:blip r:embed="rId1"/>
            <a:stretch/>
          </p:blipFill>
          <p:spPr>
            <a:xfrm>
              <a:off x="5940360" y="5013360"/>
              <a:ext cx="63144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6" descr="Alp307"/>
            <p:cNvPicPr/>
            <p:nvPr/>
          </p:nvPicPr>
          <p:blipFill>
            <a:blip r:embed="rId2"/>
            <a:stretch/>
          </p:blipFill>
          <p:spPr>
            <a:xfrm>
              <a:off x="6514200" y="5013360"/>
              <a:ext cx="7653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7" descr="Alp324"/>
            <p:cNvPicPr/>
            <p:nvPr/>
          </p:nvPicPr>
          <p:blipFill>
            <a:blip r:embed="rId3"/>
            <a:stretch/>
          </p:blipFill>
          <p:spPr>
            <a:xfrm>
              <a:off x="7318080" y="5013360"/>
              <a:ext cx="669960" cy="14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8" descr="Alp326"/>
            <p:cNvPicPr/>
            <p:nvPr/>
          </p:nvPicPr>
          <p:blipFill>
            <a:blip r:embed="rId4"/>
            <a:stretch/>
          </p:blipFill>
          <p:spPr>
            <a:xfrm>
              <a:off x="7968960" y="5013360"/>
              <a:ext cx="714240" cy="14050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50E-8E5E-4213-9FE6-8B76BA20C130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  <p:sp>
        <p:nvSpPr>
          <p:cNvPr id="408" name="WordArt 3"/>
          <p:cNvSpPr txBox="1"/>
          <p:nvPr/>
        </p:nvSpPr>
        <p:spPr>
          <a:xfrm rot="21078600">
            <a:off x="1752120" y="1371600"/>
            <a:ext cx="373392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3702000"/>
                </a:gradFill>
                <a:latin typeface="Angsana New"/>
              </a:rPr>
              <a:t>จบการนำเสนอ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3702000"/>
              </a:gradFill>
              <a:latin typeface="Angsana New"/>
              <a:ea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A379-7245-4DBA-A9EE-5482F37A7402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228600" y="3962520"/>
            <a:ext cx="89154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erformance Assessment Rating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EucrosiaUPC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cs typeface="EucrosiaUPC"/>
              </a:rPr>
              <a:t>การวิเคราะห์ระดับความสำเร็จของการดำเนินงานจากการใช้งบประมาณ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13"/>
          <p:cNvSpPr/>
          <p:nvPr/>
        </p:nvSpPr>
        <p:spPr>
          <a:xfrm>
            <a:off x="1219320" y="609480"/>
            <a:ext cx="6781680" cy="2514600"/>
          </a:xfrm>
          <a:prstGeom prst="ellipse">
            <a:avLst/>
          </a:prstGeom>
          <a:solidFill>
            <a:srgbClr val="ff6600"/>
          </a:soli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Arial"/>
              </a:rPr>
              <a:t>การประเมินผล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66"/>
                </a:solidFill>
                <a:latin typeface="Arial"/>
              </a:rPr>
              <a:t>โดย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WordArt 14"/>
          <p:cNvSpPr txBox="1"/>
          <p:nvPr/>
        </p:nvSpPr>
        <p:spPr>
          <a:xfrm>
            <a:off x="2590920" y="2743200"/>
            <a:ext cx="403848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cc00"/>
                </a:solidFill>
                <a:latin typeface="Angsana New"/>
              </a:rPr>
              <a:t>PART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99cc00"/>
              </a:solidFill>
              <a:latin typeface="Angsana New"/>
              <a:ea typeface="Angsana New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51E2-DE87-4DA8-A7CC-E1E5E77C41EB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2"/>
          <p:cNvSpPr/>
          <p:nvPr/>
        </p:nvSpPr>
        <p:spPr>
          <a:xfrm>
            <a:off x="3886200" y="1128600"/>
            <a:ext cx="4800600" cy="5410440"/>
          </a:xfrm>
          <a:prstGeom prst="ellipse">
            <a:avLst/>
          </a:prstGeom>
          <a:solidFill>
            <a:srgbClr val="00ccff">
              <a:alpha val="20000"/>
            </a:srgbClr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0773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cs typeface="EucrosiaUPC"/>
              </a:rPr>
              <a:t>บทบาทของ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EucrosiaUPC"/>
              </a:rPr>
              <a:t>PAR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EucrosiaUPC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cs typeface="EucrosiaUPC"/>
              </a:rPr>
              <a:t>ในกระบวนการงบประมาณ</a:t>
            </a:r>
            <a:endParaRPr b="0" lang="en-US" sz="4400" spc="-1" strike="noStrike">
              <a:solidFill>
                <a:srgbClr val="9fb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736640" y="20178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736640" y="13716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889280" y="1523880"/>
            <a:ext cx="146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0" y="2362320"/>
            <a:ext cx="1905120" cy="2057400"/>
          </a:xfrm>
          <a:prstGeom prst="irregularSeal2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P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25480" y="3228840"/>
            <a:ext cx="147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เครื่องมือประเมินผล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1600200" y="3657600"/>
            <a:ext cx="16002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241800" y="3429000"/>
            <a:ext cx="1600200" cy="9471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66"/>
                </a:solidFill>
                <a:latin typeface="Arial Unicode MS"/>
                <a:cs typeface="EucrosiaUPC"/>
              </a:rPr>
              <a:t>ประเมินผ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 flipV="1" rot="8569800">
            <a:off x="4186800" y="2178000"/>
            <a:ext cx="3140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สารสนเทศในการวางแผ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งบประมา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950000" y="3443400"/>
            <a:ext cx="2555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สารสนเทศในการอนุมัติ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ea typeface="EucrosiaUPC"/>
              </a:rPr>
              <a:t>  </a:t>
            </a: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งบประมาณระดับหน่วยงา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 rot="2160600">
            <a:off x="4059000" y="4757040"/>
            <a:ext cx="297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สารสนเทศในการบริหาร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ffff00"/>
                </a:solidFill>
                <a:latin typeface="Arial Unicode MS"/>
                <a:cs typeface="EucrosiaUPC"/>
              </a:rPr>
              <a:t>งบประมาณตามข้อตกลงผลผลิต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648320" y="1676520"/>
            <a:ext cx="2286000" cy="1676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4884840" y="3809880"/>
            <a:ext cx="27352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4027680" y="4048200"/>
            <a:ext cx="2815920" cy="2041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6934320" y="1143000"/>
            <a:ext cx="1703160" cy="9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Arial Unicode MS"/>
                <a:cs typeface="EucrosiaUPC"/>
              </a:rPr>
              <a:t>การจัดทำ             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7620120" y="3429000"/>
            <a:ext cx="1523880" cy="9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Arial Unicode MS"/>
                <a:cs typeface="EucrosiaUPC"/>
              </a:rPr>
              <a:t>การอนุมัติ          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858000" y="5867280"/>
            <a:ext cx="1612800" cy="970920"/>
          </a:xfrm>
          <a:prstGeom prst="rect">
            <a:avLst/>
          </a:prstGeom>
          <a:solidFill>
            <a:srgbClr val="ffff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Arial Unicode MS"/>
                <a:cs typeface="EucrosiaUPC"/>
              </a:rPr>
              <a:t>การบริหาร           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21"/>
          <p:cNvSpPr/>
          <p:nvPr/>
        </p:nvSpPr>
        <p:spPr>
          <a:xfrm rot="9885600">
            <a:off x="8457480" y="304776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2"/>
          <p:cNvSpPr/>
          <p:nvPr/>
        </p:nvSpPr>
        <p:spPr>
          <a:xfrm rot="5805600">
            <a:off x="6590520" y="1028160"/>
            <a:ext cx="304920" cy="38124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23"/>
          <p:cNvSpPr/>
          <p:nvPr/>
        </p:nvSpPr>
        <p:spPr>
          <a:xfrm rot="21420000">
            <a:off x="3733920" y="396252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24"/>
          <p:cNvSpPr/>
          <p:nvPr/>
        </p:nvSpPr>
        <p:spPr>
          <a:xfrm rot="13679400">
            <a:off x="7886520" y="5524200"/>
            <a:ext cx="304560" cy="380880"/>
          </a:xfrm>
          <a:prstGeom prst="triangle">
            <a:avLst>
              <a:gd name="adj" fmla="val 500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1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Slide Number Placeholder 2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C339-F9BC-4B89-9084-18EE5CD73346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2"/>
          <p:cNvSpPr/>
          <p:nvPr/>
        </p:nvSpPr>
        <p:spPr>
          <a:xfrm>
            <a:off x="3110040" y="958680"/>
            <a:ext cx="2927160" cy="1828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ก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จุดมุ่งหมายและรูปแบ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ชัดเ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ชี้แจง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/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อธิบายได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              </a:t>
            </a:r>
            <a:r>
              <a:rPr b="1" lang="en-US" sz="2800" spc="-1" strike="noStrike">
                <a:solidFill>
                  <a:srgbClr val="ff33cc"/>
                </a:solidFill>
                <a:latin typeface="AngsanaUPC"/>
                <a:ea typeface="Cordia New"/>
              </a:rPr>
              <a:t>6</a:t>
            </a:r>
            <a:r>
              <a:rPr b="1" lang="th-TH" sz="2800" spc="-1" strike="noStrike">
                <a:solidFill>
                  <a:srgbClr val="ff33cc"/>
                </a:solidFill>
                <a:latin typeface="AngsanaUPC"/>
                <a:ea typeface="Cordia New"/>
              </a:rPr>
              <a:t> </a:t>
            </a:r>
            <a:r>
              <a:rPr b="1" lang="th-TH" sz="2800" spc="-1" strike="noStrike">
                <a:solidFill>
                  <a:srgbClr val="ff33cc"/>
                </a:solidFill>
                <a:latin typeface="AngsanaUPC"/>
                <a:cs typeface="Cordia New"/>
              </a:rPr>
              <a:t>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3"/>
          <p:cNvSpPr/>
          <p:nvPr/>
        </p:nvSpPr>
        <p:spPr>
          <a:xfrm>
            <a:off x="1281240" y="2376360"/>
            <a:ext cx="2923920" cy="1828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การวางแผนกลยุท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เป้าหมายระยะยาวที่ชัดเ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รายละเอียดแผนกลยุท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cc"/>
                </a:solidFill>
                <a:latin typeface="AngsanaUPC"/>
                <a:ea typeface="Cordia New"/>
              </a:rPr>
              <a:t>7 </a:t>
            </a:r>
            <a:r>
              <a:rPr b="1" lang="th-TH" sz="2800" spc="-1" strike="noStrike">
                <a:solidFill>
                  <a:srgbClr val="ff33cc"/>
                </a:solidFill>
                <a:latin typeface="AngsanaUPC"/>
                <a:cs typeface="Cordia New"/>
              </a:rPr>
              <a:t>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4570560" y="4191120"/>
            <a:ext cx="3058920" cy="2087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ง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การบริหารจัด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บริหารหน่วยงา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บริหารการเงิน      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7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ข้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เพิ่มขีดความสามาร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เก็บรวบรวมข้อมู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5"/>
          <p:cNvSpPr/>
          <p:nvPr/>
        </p:nvSpPr>
        <p:spPr>
          <a:xfrm>
            <a:off x="4938840" y="2376360"/>
            <a:ext cx="313848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จ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ผลผลิต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/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ผลลัพ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cc66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เปรียบเทียบแผนกับผ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เพิ่มประสิทธิภาพ   </a:t>
            </a:r>
            <a:r>
              <a:rPr b="1" lang="th-TH" sz="2800" spc="-1" strike="noStrike">
                <a:solidFill>
                  <a:srgbClr val="00cc66"/>
                </a:solidFill>
                <a:latin typeface="AngsanaUPC"/>
                <a:ea typeface="Cordia New"/>
              </a:rPr>
              <a:t>5 </a:t>
            </a:r>
            <a:r>
              <a:rPr b="1" lang="th-TH" sz="2800" spc="-1" strike="noStrike">
                <a:solidFill>
                  <a:srgbClr val="00cc66"/>
                </a:solidFill>
                <a:latin typeface="AngsanaUPC"/>
                <a:cs typeface="Cordia New"/>
              </a:rPr>
              <a:t>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ngsana New"/>
              </a:rPr>
              <a:t>- </a:t>
            </a:r>
            <a:r>
              <a:rPr b="0" lang="th-TH" sz="2400" spc="-1" strike="noStrike">
                <a:solidFill>
                  <a:srgbClr val="00cc66"/>
                </a:solidFill>
                <a:latin typeface="Angsana New"/>
              </a:rPr>
              <a:t>การใช้เงินอย่างคุ้มค่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465120" y="272880"/>
            <a:ext cx="79167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fbfff"/>
                </a:solidFill>
                <a:latin typeface="Arial"/>
              </a:rPr>
              <a:t>Performance Assessment Rating Tool (PAR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2743200" y="5943600"/>
            <a:ext cx="3657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66"/>
                </a:solidFill>
                <a:latin typeface="Arial"/>
              </a:rPr>
              <a:t>พิจารณาจาก</a:t>
            </a:r>
            <a:r>
              <a:rPr b="1" lang="th-TH" sz="2400" spc="-1" strike="noStrike" u="sng">
                <a:solidFill>
                  <a:srgbClr val="000066"/>
                </a:solidFill>
                <a:uFillTx/>
                <a:latin typeface="Arial"/>
              </a:rPr>
              <a:t>เอกสารประกอบ</a:t>
            </a:r>
            <a:r>
              <a:rPr b="1" lang="th-TH" sz="2400" spc="-1" strike="noStrike">
                <a:solidFill>
                  <a:srgbClr val="000066"/>
                </a:solidFill>
                <a:latin typeface="Arial"/>
              </a:rPr>
              <a:t>เป็นหลั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>
            <a:off x="1465200" y="4203720"/>
            <a:ext cx="3105360" cy="2044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การเชื่อมโยง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เป้าหมายประจำปีที่ชัดเจ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รายละเอียดแผนกลยุท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cc"/>
              </a:buClr>
              <a:buFont typeface="Angsana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ngsana New"/>
              </a:rPr>
              <a:t> </a:t>
            </a:r>
            <a:r>
              <a:rPr b="0" lang="th-TH" sz="2400" spc="-1" strike="noStrike">
                <a:solidFill>
                  <a:srgbClr val="ff33cc"/>
                </a:solidFill>
                <a:latin typeface="Angsana New"/>
              </a:rPr>
              <a:t>ต้นทุนแท้จริ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33cc"/>
                </a:solidFill>
                <a:latin typeface="AngsanaUPC"/>
                <a:ea typeface="Cordia New"/>
              </a:rPr>
              <a:t>             </a:t>
            </a:r>
            <a:r>
              <a:rPr b="1" lang="th-TH" sz="2800" spc="-1" strike="noStrike">
                <a:solidFill>
                  <a:srgbClr val="ff33cc"/>
                </a:solidFill>
                <a:latin typeface="AngsanaUPC"/>
                <a:ea typeface="Cordia New"/>
              </a:rPr>
              <a:t>5 </a:t>
            </a:r>
            <a:r>
              <a:rPr b="1" lang="th-TH" sz="2800" spc="-1" strike="noStrike">
                <a:solidFill>
                  <a:srgbClr val="ff33cc"/>
                </a:solidFill>
                <a:latin typeface="AngsanaUPC"/>
                <a:cs typeface="Cordia New"/>
              </a:rPr>
              <a:t>ข้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3886200" y="3489120"/>
            <a:ext cx="152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AngsanaUPC"/>
                <a:cs typeface="Cordia New"/>
              </a:rPr>
              <a:t>รวม </a:t>
            </a:r>
            <a:r>
              <a:rPr b="1" lang="th-TH" sz="3200" spc="-1" strike="noStrike">
                <a:solidFill>
                  <a:srgbClr val="ffff00"/>
                </a:solidFill>
                <a:latin typeface="AngsanaUPC"/>
                <a:ea typeface="Cordia New"/>
              </a:rPr>
              <a:t>30  </a:t>
            </a:r>
            <a:r>
              <a:rPr b="1" lang="th-TH" sz="3200" spc="-1" strike="noStrike">
                <a:solidFill>
                  <a:srgbClr val="ffff00"/>
                </a:solidFill>
                <a:latin typeface="AngsanaUPC"/>
                <a:cs typeface="Cordia New"/>
              </a:rPr>
              <a:t>ข้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58C-9F9E-448C-968D-75859B0B781A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687680" y="272880"/>
            <a:ext cx="5943600" cy="547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9fbfff"/>
                </a:solidFill>
                <a:latin typeface="Arial"/>
              </a:rPr>
              <a:t>คะแนนของแต่ละชุดคำถา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3"/>
          <p:cNvSpPr/>
          <p:nvPr/>
        </p:nvSpPr>
        <p:spPr>
          <a:xfrm>
            <a:off x="1279440" y="2376360"/>
            <a:ext cx="2925720" cy="1828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ข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33cc"/>
                </a:solidFill>
                <a:latin typeface="Angsana New"/>
              </a:rPr>
              <a:t>การวางแผนกลยุท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ngsana New"/>
              </a:rPr>
              <a:t>20 </a:t>
            </a:r>
            <a:r>
              <a:rPr b="1" lang="th-TH" sz="2800" spc="-1" strike="noStrike">
                <a:solidFill>
                  <a:srgbClr val="ff33cc"/>
                </a:solidFill>
                <a:latin typeface="Angsana New"/>
              </a:rPr>
              <a:t>คะแน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4"/>
          <p:cNvSpPr/>
          <p:nvPr/>
        </p:nvSpPr>
        <p:spPr>
          <a:xfrm>
            <a:off x="4570560" y="4203720"/>
            <a:ext cx="292572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ffff"/>
                </a:solidFill>
                <a:latin typeface="Angsana New"/>
              </a:rPr>
              <a:t>ง</a:t>
            </a:r>
            <a:r>
              <a:rPr b="1" lang="th-TH" sz="2400" spc="-1" strike="noStrike">
                <a:solidFill>
                  <a:srgbClr val="00ffff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00ffff"/>
                </a:solidFill>
                <a:latin typeface="Angsana New"/>
              </a:rPr>
              <a:t>การบริหารจัดกา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ngsana New"/>
              </a:rPr>
              <a:t>20 </a:t>
            </a:r>
            <a:r>
              <a:rPr b="1" lang="th-TH" sz="2800" spc="-1" strike="noStrike">
                <a:solidFill>
                  <a:srgbClr val="00ffff"/>
                </a:solidFill>
                <a:latin typeface="Angsana New"/>
              </a:rPr>
              <a:t>คะแน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4937040" y="2376360"/>
            <a:ext cx="2925720" cy="1828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จ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ผลผลิต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/ </a:t>
            </a:r>
            <a:r>
              <a:rPr b="1" lang="th-TH" sz="2400" spc="-1" strike="noStrike">
                <a:solidFill>
                  <a:srgbClr val="00cc66"/>
                </a:solidFill>
                <a:latin typeface="Angsana New"/>
              </a:rPr>
              <a:t>ผลลัพธ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ngsana New"/>
              </a:rPr>
              <a:t>30 </a:t>
            </a:r>
            <a:r>
              <a:rPr b="1" lang="th-TH" sz="2800" spc="-1" strike="noStrike">
                <a:solidFill>
                  <a:srgbClr val="00cc66"/>
                </a:solidFill>
                <a:latin typeface="Angsana New"/>
              </a:rPr>
              <a:t>คะแน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1644480" y="4203720"/>
            <a:ext cx="2926080" cy="1828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Angsana New"/>
              </a:rPr>
              <a:t>ค</a:t>
            </a:r>
            <a:r>
              <a:rPr b="1" lang="th-TH" sz="2400" spc="-1" strike="noStrike">
                <a:solidFill>
                  <a:srgbClr val="ff0000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0000"/>
                </a:solidFill>
                <a:latin typeface="Angsana New"/>
              </a:rPr>
              <a:t>การเชื่อมโยงงบประมา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gsana New"/>
              </a:rPr>
              <a:t>20 </a:t>
            </a:r>
            <a:r>
              <a:rPr b="1" lang="th-TH" sz="2800" spc="-1" strike="noStrike">
                <a:solidFill>
                  <a:srgbClr val="ff0000"/>
                </a:solidFill>
                <a:latin typeface="Angsana New"/>
              </a:rPr>
              <a:t>คะแน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7"/>
          <p:cNvSpPr/>
          <p:nvPr/>
        </p:nvSpPr>
        <p:spPr>
          <a:xfrm>
            <a:off x="3108240" y="960480"/>
            <a:ext cx="2925720" cy="182880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ก</a:t>
            </a: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. </a:t>
            </a:r>
            <a:r>
              <a:rPr b="1" lang="th-TH" sz="2400" spc="-1" strike="noStrike">
                <a:solidFill>
                  <a:srgbClr val="ffff00"/>
                </a:solidFill>
                <a:latin typeface="Angsana New"/>
              </a:rPr>
              <a:t>จุดมุ่งหมายและรูปแบบ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ngsana New"/>
              </a:rPr>
              <a:t>10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 </a:t>
            </a:r>
            <a:r>
              <a:rPr b="1" lang="th-TH" sz="2800" spc="-1" strike="noStrike">
                <a:solidFill>
                  <a:srgbClr val="ffff00"/>
                </a:solidFill>
                <a:latin typeface="Angsana New"/>
              </a:rPr>
              <a:t>คะแน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0265-153C-42A0-BA2F-73ACEE6D4760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1295280" y="45720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600200" y="609480"/>
            <a:ext cx="5943600" cy="5479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</a:rPr>
              <a:t>การสรุปผลการวิเคราะห์ระดับคะแนนรว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066680" y="182880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 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ได้คะแนนรวมน้อยกว่า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60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คะแน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085760" y="2575080"/>
            <a:ext cx="2895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0000"/>
                </a:solidFill>
                <a:latin typeface="Angsana New"/>
              </a:rPr>
              <a:t>     </a:t>
            </a:r>
            <a:r>
              <a:rPr b="1" lang="th-TH" sz="3000" spc="-1" strike="noStrike">
                <a:solidFill>
                  <a:srgbClr val="ff0000"/>
                </a:solidFill>
                <a:latin typeface="Angsana New"/>
              </a:rPr>
              <a:t>แสดงผลเป็นสีแด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085760" y="33526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 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ได้คะแนนรวมอยู่ในช่วง 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60 - 85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คะแน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123920" y="4708440"/>
            <a:ext cx="693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buClr>
                <a:srgbClr val="ff33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 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ได้คะแนนรวมมากกว่า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85  </a:t>
            </a:r>
            <a:r>
              <a:rPr b="1" lang="th-TH" sz="3000" spc="-1" strike="noStrike">
                <a:solidFill>
                  <a:srgbClr val="ff33cc"/>
                </a:solidFill>
                <a:latin typeface="Angsana New"/>
              </a:rPr>
              <a:t>คะแนน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1085760" y="4022640"/>
            <a:ext cx="2895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     </a:t>
            </a:r>
            <a:r>
              <a:rPr b="1" lang="th-TH" sz="3000" spc="-1" strike="noStrike">
                <a:solidFill>
                  <a:srgbClr val="ffff00"/>
                </a:solidFill>
                <a:latin typeface="Angsana New"/>
              </a:rPr>
              <a:t>แสดงผลเป็นสีเหลือ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143000" y="5470560"/>
            <a:ext cx="2895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cc66"/>
                </a:solidFill>
                <a:latin typeface="Angsana New"/>
              </a:rPr>
              <a:t>     </a:t>
            </a:r>
            <a:r>
              <a:rPr b="1" lang="th-TH" sz="3000" spc="-1" strike="noStrike">
                <a:solidFill>
                  <a:srgbClr val="00cc66"/>
                </a:solidFill>
                <a:latin typeface="Angsana New"/>
              </a:rPr>
              <a:t>แสดงผลเป็นสีเขียว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5410080" y="2495520"/>
            <a:ext cx="60984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5410080" y="4038480"/>
            <a:ext cx="60984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12"/>
          <p:cNvSpPr/>
          <p:nvPr/>
        </p:nvSpPr>
        <p:spPr>
          <a:xfrm>
            <a:off x="5410080" y="5467320"/>
            <a:ext cx="609840" cy="609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E906C-6DF5-4869-A284-6591536B9BD3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2"/>
          <p:cNvGrpSpPr/>
          <p:nvPr/>
        </p:nvGrpSpPr>
        <p:grpSpPr>
          <a:xfrm>
            <a:off x="685800" y="1219320"/>
            <a:ext cx="7848360" cy="4492080"/>
            <a:chOff x="685800" y="1219320"/>
            <a:chExt cx="7848360" cy="4492080"/>
          </a:xfrm>
        </p:grpSpPr>
        <p:sp>
          <p:nvSpPr>
            <p:cNvPr id="199" name="Rectangle 3"/>
            <p:cNvSpPr/>
            <p:nvPr/>
          </p:nvSpPr>
          <p:spPr>
            <a:xfrm>
              <a:off x="685800" y="1219320"/>
              <a:ext cx="7841520" cy="763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ผลการประเมิน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4"/>
            <p:cNvSpPr/>
            <p:nvPr/>
          </p:nvSpPr>
          <p:spPr>
            <a:xfrm>
              <a:off x="4112640" y="2642760"/>
              <a:ext cx="4414680" cy="30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5"/>
            <p:cNvSpPr/>
            <p:nvPr/>
          </p:nvSpPr>
          <p:spPr>
            <a:xfrm>
              <a:off x="4112640" y="1983240"/>
              <a:ext cx="4414680" cy="659520"/>
            </a:xfrm>
            <a:prstGeom prst="rect">
              <a:avLst/>
            </a:prstGeom>
            <a:solidFill>
              <a:srgbClr val="cb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กราฟเรดาร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6"/>
            <p:cNvSpPr/>
            <p:nvPr/>
          </p:nvSpPr>
          <p:spPr>
            <a:xfrm>
              <a:off x="3376800" y="455292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3376800" y="417096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3 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3376800" y="378864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3376800" y="340668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3376800" y="302472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11"/>
            <p:cNvSpPr/>
            <p:nvPr/>
          </p:nvSpPr>
          <p:spPr>
            <a:xfrm>
              <a:off x="3376800" y="2642760"/>
              <a:ext cx="735480" cy="381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3376800" y="1983240"/>
              <a:ext cx="735480" cy="659520"/>
            </a:xfrm>
            <a:prstGeom prst="rect">
              <a:avLst/>
            </a:prstGeom>
            <a:solidFill>
              <a:srgbClr val="cb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คะแนนเต็ม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13"/>
            <p:cNvSpPr/>
            <p:nvPr/>
          </p:nvSpPr>
          <p:spPr>
            <a:xfrm>
              <a:off x="2640960" y="4935240"/>
              <a:ext cx="1471320" cy="763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4"/>
            <p:cNvSpPr/>
            <p:nvPr/>
          </p:nvSpPr>
          <p:spPr>
            <a:xfrm>
              <a:off x="2640960" y="455292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15"/>
            <p:cNvSpPr/>
            <p:nvPr/>
          </p:nvSpPr>
          <p:spPr>
            <a:xfrm>
              <a:off x="2640960" y="417096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16"/>
            <p:cNvSpPr/>
            <p:nvPr/>
          </p:nvSpPr>
          <p:spPr>
            <a:xfrm>
              <a:off x="2640960" y="378864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1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17"/>
            <p:cNvSpPr/>
            <p:nvPr/>
          </p:nvSpPr>
          <p:spPr>
            <a:xfrm>
              <a:off x="2640960" y="340668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13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18"/>
            <p:cNvSpPr/>
            <p:nvPr/>
          </p:nvSpPr>
          <p:spPr>
            <a:xfrm>
              <a:off x="2640960" y="3024720"/>
              <a:ext cx="735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19"/>
            <p:cNvSpPr/>
            <p:nvPr/>
          </p:nvSpPr>
          <p:spPr>
            <a:xfrm>
              <a:off x="2640960" y="2642760"/>
              <a:ext cx="735480" cy="381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20"/>
            <p:cNvSpPr/>
            <p:nvPr/>
          </p:nvSpPr>
          <p:spPr>
            <a:xfrm>
              <a:off x="2640960" y="1983240"/>
              <a:ext cx="735480" cy="659520"/>
            </a:xfrm>
            <a:prstGeom prst="rect">
              <a:avLst/>
            </a:prstGeom>
            <a:solidFill>
              <a:srgbClr val="cb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ผลที่ได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21"/>
            <p:cNvSpPr/>
            <p:nvPr/>
          </p:nvSpPr>
          <p:spPr>
            <a:xfrm>
              <a:off x="685800" y="4935240"/>
              <a:ext cx="1955160" cy="7635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6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กลุ่มสี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22"/>
            <p:cNvSpPr/>
            <p:nvPr/>
          </p:nvSpPr>
          <p:spPr>
            <a:xfrm>
              <a:off x="685800" y="4552920"/>
              <a:ext cx="195516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ผลรวม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23"/>
            <p:cNvSpPr/>
            <p:nvPr/>
          </p:nvSpPr>
          <p:spPr>
            <a:xfrm>
              <a:off x="1014480" y="4170960"/>
              <a:ext cx="1626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ผลผลิต</a:t>
              </a:r>
              <a:r>
                <a:rPr b="1" lang="en-US" sz="1200" spc="-1" strike="noStrike">
                  <a:solidFill>
                    <a:srgbClr val="0000cc"/>
                  </a:solidFill>
                  <a:latin typeface="Tahoma"/>
                  <a:ea typeface="Arial"/>
                </a:rPr>
                <a:t>/</a:t>
              </a: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ผลลัพธ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24"/>
            <p:cNvSpPr/>
            <p:nvPr/>
          </p:nvSpPr>
          <p:spPr>
            <a:xfrm>
              <a:off x="685800" y="4170960"/>
              <a:ext cx="3286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cc"/>
                  </a:solidFill>
                  <a:latin typeface="Arial Unicode MS"/>
                </a:rPr>
                <a:t>จ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25"/>
            <p:cNvSpPr/>
            <p:nvPr/>
          </p:nvSpPr>
          <p:spPr>
            <a:xfrm>
              <a:off x="1014480" y="3788640"/>
              <a:ext cx="1626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การบริหารจัดการ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26"/>
            <p:cNvSpPr/>
            <p:nvPr/>
          </p:nvSpPr>
          <p:spPr>
            <a:xfrm>
              <a:off x="685800" y="3788640"/>
              <a:ext cx="3286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cc"/>
                  </a:solidFill>
                  <a:latin typeface="Arial Unicode MS"/>
                </a:rPr>
                <a:t>ง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27"/>
            <p:cNvSpPr/>
            <p:nvPr/>
          </p:nvSpPr>
          <p:spPr>
            <a:xfrm>
              <a:off x="1014480" y="3406680"/>
              <a:ext cx="1626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การเชื่อมโยงงบประมาณ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28"/>
            <p:cNvSpPr/>
            <p:nvPr/>
          </p:nvSpPr>
          <p:spPr>
            <a:xfrm>
              <a:off x="685800" y="3406680"/>
              <a:ext cx="3286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cc"/>
                  </a:solidFill>
                  <a:latin typeface="Arial Unicode MS"/>
                </a:rPr>
                <a:t>ค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29"/>
            <p:cNvSpPr/>
            <p:nvPr/>
          </p:nvSpPr>
          <p:spPr>
            <a:xfrm>
              <a:off x="1014480" y="3024720"/>
              <a:ext cx="16264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การวางแผนกลยุทธ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30"/>
            <p:cNvSpPr/>
            <p:nvPr/>
          </p:nvSpPr>
          <p:spPr>
            <a:xfrm>
              <a:off x="685800" y="3024720"/>
              <a:ext cx="328680" cy="381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cc"/>
                  </a:solidFill>
                  <a:latin typeface="Arial Unicode MS"/>
                </a:rPr>
                <a:t>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31"/>
            <p:cNvSpPr/>
            <p:nvPr/>
          </p:nvSpPr>
          <p:spPr>
            <a:xfrm>
              <a:off x="1014480" y="2642760"/>
              <a:ext cx="1626480" cy="381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32"/>
            <p:cNvSpPr/>
            <p:nvPr/>
          </p:nvSpPr>
          <p:spPr>
            <a:xfrm>
              <a:off x="685800" y="2642760"/>
              <a:ext cx="328680" cy="3816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cc"/>
                  </a:solidFill>
                  <a:latin typeface="Arial Unicode MS"/>
                </a:rPr>
                <a:t>ก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33"/>
            <p:cNvSpPr/>
            <p:nvPr/>
          </p:nvSpPr>
          <p:spPr>
            <a:xfrm>
              <a:off x="685800" y="1983240"/>
              <a:ext cx="1955160" cy="659520"/>
            </a:xfrm>
            <a:prstGeom prst="rect">
              <a:avLst/>
            </a:prstGeom>
            <a:solidFill>
              <a:srgbClr val="cbd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4"/>
            <p:cNvSpPr/>
            <p:nvPr/>
          </p:nvSpPr>
          <p:spPr>
            <a:xfrm>
              <a:off x="685800" y="1219320"/>
              <a:ext cx="7841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5"/>
            <p:cNvSpPr/>
            <p:nvPr/>
          </p:nvSpPr>
          <p:spPr>
            <a:xfrm>
              <a:off x="685800" y="569880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36"/>
            <p:cNvSpPr/>
            <p:nvPr/>
          </p:nvSpPr>
          <p:spPr>
            <a:xfrm>
              <a:off x="685800" y="1219320"/>
              <a:ext cx="0" cy="333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37"/>
            <p:cNvSpPr/>
            <p:nvPr/>
          </p:nvSpPr>
          <p:spPr>
            <a:xfrm>
              <a:off x="8527320" y="1219320"/>
              <a:ext cx="0" cy="44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38"/>
            <p:cNvSpPr/>
            <p:nvPr/>
          </p:nvSpPr>
          <p:spPr>
            <a:xfrm>
              <a:off x="685800" y="264276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39"/>
            <p:cNvSpPr/>
            <p:nvPr/>
          </p:nvSpPr>
          <p:spPr>
            <a:xfrm>
              <a:off x="685800" y="302472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0"/>
            <p:cNvSpPr/>
            <p:nvPr/>
          </p:nvSpPr>
          <p:spPr>
            <a:xfrm>
              <a:off x="1014480" y="2642760"/>
              <a:ext cx="0" cy="190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1"/>
            <p:cNvSpPr/>
            <p:nvPr/>
          </p:nvSpPr>
          <p:spPr>
            <a:xfrm>
              <a:off x="685800" y="340668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2"/>
            <p:cNvSpPr/>
            <p:nvPr/>
          </p:nvSpPr>
          <p:spPr>
            <a:xfrm>
              <a:off x="685800" y="378864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3"/>
            <p:cNvSpPr/>
            <p:nvPr/>
          </p:nvSpPr>
          <p:spPr>
            <a:xfrm>
              <a:off x="685800" y="4170960"/>
              <a:ext cx="195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4"/>
            <p:cNvSpPr/>
            <p:nvPr/>
          </p:nvSpPr>
          <p:spPr>
            <a:xfrm>
              <a:off x="685800" y="4552920"/>
              <a:ext cx="3286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5"/>
            <p:cNvSpPr/>
            <p:nvPr/>
          </p:nvSpPr>
          <p:spPr>
            <a:xfrm>
              <a:off x="685800" y="4935240"/>
              <a:ext cx="34268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46"/>
            <p:cNvSpPr/>
            <p:nvPr/>
          </p:nvSpPr>
          <p:spPr>
            <a:xfrm>
              <a:off x="1014480" y="4552920"/>
              <a:ext cx="162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47"/>
            <p:cNvSpPr/>
            <p:nvPr/>
          </p:nvSpPr>
          <p:spPr>
            <a:xfrm>
              <a:off x="685800" y="4552920"/>
              <a:ext cx="0" cy="381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48"/>
            <p:cNvSpPr/>
            <p:nvPr/>
          </p:nvSpPr>
          <p:spPr>
            <a:xfrm>
              <a:off x="685800" y="4935240"/>
              <a:ext cx="0" cy="76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49"/>
            <p:cNvSpPr/>
            <p:nvPr/>
          </p:nvSpPr>
          <p:spPr>
            <a:xfrm>
              <a:off x="2640960" y="455292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0"/>
            <p:cNvSpPr/>
            <p:nvPr/>
          </p:nvSpPr>
          <p:spPr>
            <a:xfrm>
              <a:off x="2640960" y="4935240"/>
              <a:ext cx="0" cy="7635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1"/>
            <p:cNvSpPr/>
            <p:nvPr/>
          </p:nvSpPr>
          <p:spPr>
            <a:xfrm>
              <a:off x="4112640" y="4935240"/>
              <a:ext cx="0" cy="76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2"/>
            <p:cNvSpPr/>
            <p:nvPr/>
          </p:nvSpPr>
          <p:spPr>
            <a:xfrm>
              <a:off x="2640960" y="264276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3"/>
            <p:cNvSpPr/>
            <p:nvPr/>
          </p:nvSpPr>
          <p:spPr>
            <a:xfrm>
              <a:off x="4112640" y="2642760"/>
              <a:ext cx="441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4"/>
            <p:cNvSpPr/>
            <p:nvPr/>
          </p:nvSpPr>
          <p:spPr>
            <a:xfrm>
              <a:off x="2640960" y="302472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5"/>
            <p:cNvSpPr/>
            <p:nvPr/>
          </p:nvSpPr>
          <p:spPr>
            <a:xfrm>
              <a:off x="2640960" y="340668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56"/>
            <p:cNvSpPr/>
            <p:nvPr/>
          </p:nvSpPr>
          <p:spPr>
            <a:xfrm>
              <a:off x="2640960" y="378864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57"/>
            <p:cNvSpPr/>
            <p:nvPr/>
          </p:nvSpPr>
          <p:spPr>
            <a:xfrm>
              <a:off x="2640960" y="417096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58"/>
            <p:cNvSpPr/>
            <p:nvPr/>
          </p:nvSpPr>
          <p:spPr>
            <a:xfrm>
              <a:off x="4112640" y="4552920"/>
              <a:ext cx="0" cy="3819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59"/>
            <p:cNvSpPr/>
            <p:nvPr/>
          </p:nvSpPr>
          <p:spPr>
            <a:xfrm>
              <a:off x="2640960" y="5698800"/>
              <a:ext cx="14713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0"/>
            <p:cNvSpPr/>
            <p:nvPr/>
          </p:nvSpPr>
          <p:spPr>
            <a:xfrm>
              <a:off x="4112640" y="5698800"/>
              <a:ext cx="441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1"/>
            <p:cNvSpPr/>
            <p:nvPr/>
          </p:nvSpPr>
          <p:spPr>
            <a:xfrm>
              <a:off x="685800" y="1983240"/>
              <a:ext cx="784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2"/>
            <p:cNvSpPr/>
            <p:nvPr/>
          </p:nvSpPr>
          <p:spPr>
            <a:xfrm>
              <a:off x="2640960" y="1983240"/>
              <a:ext cx="0" cy="2951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3"/>
            <p:cNvSpPr/>
            <p:nvPr/>
          </p:nvSpPr>
          <p:spPr>
            <a:xfrm>
              <a:off x="3376800" y="1983240"/>
              <a:ext cx="0" cy="295164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4"/>
            <p:cNvSpPr/>
            <p:nvPr/>
          </p:nvSpPr>
          <p:spPr>
            <a:xfrm>
              <a:off x="4112640" y="1983240"/>
              <a:ext cx="0" cy="2569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Oval 65"/>
            <p:cNvSpPr/>
            <p:nvPr/>
          </p:nvSpPr>
          <p:spPr>
            <a:xfrm>
              <a:off x="3063240" y="5001840"/>
              <a:ext cx="602640" cy="615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000" spc="-1" strike="noStrike">
                  <a:solidFill>
                    <a:srgbClr val="0000cc"/>
                  </a:solidFill>
                  <a:latin typeface="Tahoma"/>
                  <a:cs typeface="Arial"/>
                </a:rPr>
                <a:t>สีแดง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2" name="Picture 66" descr=""/>
            <p:cNvPicPr/>
            <p:nvPr/>
          </p:nvPicPr>
          <p:blipFill>
            <a:blip r:embed="rId1"/>
            <a:stretch/>
          </p:blipFill>
          <p:spPr>
            <a:xfrm>
              <a:off x="4136400" y="2622960"/>
              <a:ext cx="4397760" cy="3088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sp>
        <p:nvSpPr>
          <p:cNvPr id="263" name="Text Box 67"/>
          <p:cNvSpPr/>
          <p:nvPr/>
        </p:nvSpPr>
        <p:spPr>
          <a:xfrm>
            <a:off x="762120" y="2064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ngsanaUPC"/>
              </a:rPr>
              <a:t>ชุดคำถ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68"/>
          <p:cNvSpPr/>
          <p:nvPr/>
        </p:nvSpPr>
        <p:spPr>
          <a:xfrm>
            <a:off x="914400" y="2536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cc"/>
                </a:solidFill>
                <a:latin typeface="AngsanaUPC"/>
              </a:rPr>
              <a:t>จุดมุ่งหมายและรูปแบ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2438280" y="64771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ngsana New"/>
              </a:rPr>
              <a:t>สำนักงบประมาณ       สำนักนายกรัฐมนตรี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8534520" y="6553080"/>
            <a:ext cx="533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D873-2D78-4774-8171-DF9C2B22B573}" type="slidenum">
              <a:rPr b="0" lang="en-US" sz="1400" spc="-1" strike="noStrike">
                <a:solidFill>
                  <a:srgbClr val="ffffff"/>
                </a:solidFill>
                <a:latin typeface="Angsana New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2743200" y="1143000"/>
            <a:ext cx="5334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ตรวจสอบตนเ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ปรับปรุงพัฒนาตนเอ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มีความพร้อมในการประเมินจากภายนอ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เป็นหน่วยงานที่มีประสิทธิภาพ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ea typeface="EucrosiaUPC"/>
              </a:rPr>
              <a:t>/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ประสิทธิผ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832200" y="3276720"/>
            <a:ext cx="515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EucrosiaUPC"/>
              </a:rPr>
              <a:t>จัดสรรงบประมาณให้ตามแผ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EucrosiaUPC"/>
              </a:rPr>
              <a:t>ทางเลือกและความคุ้มค่าในการใช้งบประมา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EucrosiaUPC"/>
              </a:rPr>
              <a:t>เพื่อปรับปรุงการวางแผน การบริหาร แล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Arial"/>
                <a:ea typeface="EucrosiaUPC"/>
              </a:rPr>
              <a:t>  </a:t>
            </a:r>
            <a:r>
              <a:rPr b="1" lang="th-TH" sz="2800" spc="-1" strike="noStrike">
                <a:solidFill>
                  <a:srgbClr val="ffffff"/>
                </a:solidFill>
                <a:latin typeface="Arial"/>
                <a:cs typeface="EucrosiaUPC"/>
              </a:rPr>
              <a:t>การติดตาม ประเมินผลการใช้จ่ายงบประมา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2727360" y="4270320"/>
            <a:ext cx="413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316080" y="1420920"/>
            <a:ext cx="2187360" cy="151164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  <a:cs typeface="EucrosiaUPC"/>
              </a:rPr>
              <a:t>ส่วนราชกา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07800" y="3475080"/>
            <a:ext cx="3119760" cy="15109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66"/>
                </a:solidFill>
                <a:latin typeface="Arial"/>
                <a:cs typeface="EucrosiaUPC"/>
              </a:rPr>
              <a:t>สำนักงบประมา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304920" y="5075280"/>
            <a:ext cx="2187360" cy="821880"/>
          </a:xfrm>
          <a:prstGeom prst="ellipse">
            <a:avLst/>
          </a:prstGeom>
          <a:solidFill>
            <a:srgbClr val="0066cc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3300"/>
                </a:solidFill>
                <a:latin typeface="Arial"/>
                <a:cs typeface="EucrosiaUPC"/>
              </a:rPr>
              <a:t>รัฐบา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209680" y="15228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ngsana New"/>
                <a:cs typeface="EucrosiaUPC"/>
              </a:rPr>
              <a:t>ประโยชน์จากการใช้ </a:t>
            </a:r>
            <a:r>
              <a:rPr b="1" lang="en-US" sz="4000" spc="-1" strike="noStrike">
                <a:solidFill>
                  <a:srgbClr val="ffffff"/>
                </a:solidFill>
                <a:latin typeface="Angsana New"/>
                <a:ea typeface="EucrosiaUPC"/>
              </a:rPr>
              <a:t>PA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2819520" y="518148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EucrosiaUPC"/>
              </a:rPr>
              <a:t>: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การใช้จ่ายงบประมาณก่อให้เกิดผลงานตา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00"/>
                </a:solidFill>
                <a:latin typeface="Arial"/>
                <a:ea typeface="EucrosiaUPC"/>
              </a:rPr>
              <a:t>  </a:t>
            </a:r>
            <a:r>
              <a:rPr b="1" lang="th-TH" sz="2800" spc="-1" strike="noStrike">
                <a:solidFill>
                  <a:srgbClr val="ffff00"/>
                </a:solidFill>
                <a:latin typeface="Arial"/>
                <a:cs typeface="EucrosiaUPC"/>
              </a:rPr>
              <a:t>นโยบายรัฐบา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07:37:48Z</dcterms:created>
  <dc:creator>admin</dc:creator>
  <dc:description/>
  <dc:language>en-US</dc:language>
  <cp:lastModifiedBy>lek</cp:lastModifiedBy>
  <cp:lastPrinted>2003-11-07T03:11:56Z</cp:lastPrinted>
  <dcterms:modified xsi:type="dcterms:W3CDTF">2009-01-12T04:27:42Z</dcterms:modified>
  <cp:revision>508</cp:revision>
  <dc:subject/>
  <dc:title>ไม่มีชื่อเรื่องภาพนิ่ง</dc:title>
</cp:coreProperties>
</file>