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793200" cy="992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4768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94233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47680" y="94233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28E7-764F-4F50-BDBD-28880D052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2760"/>
            <a:ext cx="543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rial"/>
              </a:rPr>
              <a:t>ค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EFF3-6F95-48AA-8CCB-D73077C45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EB0E-2992-42A5-B935-CF7CF287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C717-1FA3-4046-871D-EE0069ACB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9B9E-FD61-44E8-B9A7-607E451EF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A471-8C42-46A1-AAB8-257885AA0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ECFA-8D09-46DC-B712-6EF0EEF3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A8C0-70DF-488A-A6FD-C1A3ECAF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FC51-1DD7-4B6D-8CC7-24F05174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1174-78DE-4D4D-B294-06E6F247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E6DF5-EBB8-45C8-99A7-CA01F775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393E-C6A4-4C56-988B-E49DBD54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D161-A3E7-46BB-8ECC-E36B2ABD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5C8F-8176-4A91-A94B-8FA6B3C3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9FB6-4159-40F7-AA1D-2527D442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1733-1430-433A-8493-E8F2185D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60E9-8637-4229-AC48-EE57D2115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B7DE-5CBE-4559-A3D8-1F67719A5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E731-AF4C-4BF4-AD3A-6B605230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D723-7AC9-405B-8636-7FE77A131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46AF-1950-48B0-9C35-725FCD30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E2D3-0BF7-49B8-BEAA-C7F883F7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AA5A-29E8-4E96-88D3-B6FD3FDF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779B-C365-499B-BB68-B502E250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F92A-B2AB-4A62-A5FB-476EA1D4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27F6-BD18-4D79-A4AD-D58F52AE7A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r>
              <a:rPr b="0" lang="th-TH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AAE2-9192-4B7C-AE32-6AF586E63C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chart.ppt" TargetMode="External"/><Relationship Id="rId3" Type="http://schemas.openxmlformats.org/officeDocument/2006/relationships/hyperlink" Target="file:///chart.ppt" TargetMode="External"/><Relationship Id="rId4" Type="http://schemas.openxmlformats.org/officeDocument/2006/relationships/hyperlink" Target="file:///chart.ppt" TargetMode="Externa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&#3612;&#3641;&#3657;&#3626;&#3635;&#3648;&#3619;&#3655;&#3592;&#3585;&#3634;&#3619;&#3624;&#3638;&#3585;&#3625;&#3634;&#3604;&#3657;&#3634;&#3609;&#3623;&#3636;&#3607;&#3618;&#3660;12&#3617;&#3637;&#3588;.51.doc" TargetMode="External"/><Relationship Id="rId3" Type="http://schemas.openxmlformats.org/officeDocument/2006/relationships/hyperlink" Target="file:///&#3585;&#3634;&#3619;&#3588;&#3635;&#3609;&#3623;&#3603;&#3588;&#3632;&#3649;&#3609;&#3609;PART.xls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&#3648;&#3629;&#3585;&#3626;&#3634;&#3619;&#3611;&#3619;&#3632;&#3585;&#3629;&#3610;PART&#3611;&#3637;50.xls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6120" y="220680"/>
            <a:ext cx="8362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th-TH" sz="3600" spc="-1" strike="noStrike">
                <a:solidFill>
                  <a:srgbClr val="333399"/>
                </a:solidFill>
                <a:latin typeface="Arial Unicode MS"/>
                <a:cs typeface="Arial Unicode MS"/>
              </a:rPr>
              <a:t>ประสบการณ์การใช้เครื่องมือ </a:t>
            </a:r>
            <a:r>
              <a:rPr b="1" lang="en-US" sz="36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PART</a:t>
            </a:r>
            <a:br>
              <a:rPr sz="3600"/>
            </a:br>
            <a:r>
              <a:rPr b="1" lang="th-TH" sz="3600" spc="-1" strike="noStrike">
                <a:solidFill>
                  <a:srgbClr val="333399"/>
                </a:solidFill>
                <a:latin typeface="Arial Unicode MS"/>
                <a:cs typeface="Arial Unicode MS"/>
              </a:rPr>
              <a:t>ประจำปีงบประมาณ พ</a:t>
            </a:r>
            <a:r>
              <a:rPr b="1" lang="th-TH" sz="36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.</a:t>
            </a:r>
            <a:r>
              <a:rPr b="1" lang="th-TH" sz="3600" spc="-1" strike="noStrike">
                <a:solidFill>
                  <a:srgbClr val="333399"/>
                </a:solidFill>
                <a:latin typeface="Arial Unicode MS"/>
                <a:cs typeface="Arial Unicode MS"/>
              </a:rPr>
              <a:t>ศ</a:t>
            </a:r>
            <a:r>
              <a:rPr b="1" lang="th-TH" sz="36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. 2550</a:t>
            </a:r>
            <a:br>
              <a:rPr sz="3600"/>
            </a:br>
            <a:br>
              <a:rPr sz="3600"/>
            </a:br>
            <a:r>
              <a:rPr b="1" lang="th-TH" sz="36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372360" y="5464080"/>
            <a:ext cx="2219040" cy="7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3 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มกราคม 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55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ส่วนแผนงาน สจล</a:t>
            </a:r>
            <a:r>
              <a:rPr b="1" lang="th-TH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523800" y="1862280"/>
            <a:ext cx="82296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สถาบันเทคโนโลยีพระจอมเกล้าเจ้าคุณทหารลาดกระบั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7932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200" spc="-1" strike="noStrike">
                <a:solidFill>
                  <a:srgbClr val="333399"/>
                </a:solidFill>
                <a:latin typeface="Arial Unicode MS"/>
                <a:cs typeface="Arial Unicode MS"/>
              </a:rPr>
              <a:t>วิธีการใช้</a:t>
            </a:r>
            <a:r>
              <a:rPr b="1" lang="th-TH" sz="4400" spc="-1" strike="noStrike">
                <a:solidFill>
                  <a:srgbClr val="333399"/>
                </a:solidFill>
                <a:latin typeface="Arial Unicode MS"/>
                <a:cs typeface="Arial Unicode MS"/>
              </a:rPr>
              <a:t>เครื่องมือ</a:t>
            </a:r>
            <a:r>
              <a:rPr b="1" lang="th-TH" sz="42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 </a:t>
            </a:r>
            <a:r>
              <a:rPr b="1" lang="en-US" sz="42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PART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2494080"/>
            <a:ext cx="856944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นำเสนอแนวทางในการนำเครื่องมือ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RT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มาใช้ประเมินผลความสำเร็จของการดำเนินงานจากการใช้จ่ายงบประมาณ ต่อที่ประชุมคณะกรรมการผู้บริหาร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แต่งตั้งคณะกรรมการ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คณะทำงา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กำหนดให้คณะกรรมการผู้บริหาร เป็น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คณะกรรมการในระดับนโยบาย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คณะทำงานด้านยุทธศาสตร์และส่วนแผนงาน 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เป็น คณะกรรมการ ระดับปฏิบัติการ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7932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200" spc="-1" strike="noStrike">
                <a:solidFill>
                  <a:srgbClr val="333399"/>
                </a:solidFill>
                <a:latin typeface="Arial Unicode MS"/>
                <a:cs typeface="Arial Unicode MS"/>
              </a:rPr>
              <a:t>วิธีการใช้</a:t>
            </a:r>
            <a:r>
              <a:rPr b="1" lang="th-TH" sz="4400" spc="-1" strike="noStrike">
                <a:solidFill>
                  <a:srgbClr val="333399"/>
                </a:solidFill>
                <a:latin typeface="Arial Unicode MS"/>
                <a:cs typeface="Arial Unicode MS"/>
              </a:rPr>
              <a:t>เครื่องมือ</a:t>
            </a:r>
            <a:r>
              <a:rPr b="1" lang="th-TH" sz="42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 </a:t>
            </a:r>
            <a:r>
              <a:rPr b="1" lang="en-US" sz="42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PART</a:t>
            </a:r>
            <a:r>
              <a:rPr b="1" lang="th-TH" sz="42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 (</a:t>
            </a:r>
            <a:r>
              <a:rPr b="1" lang="th-TH" sz="4200" spc="-1" strike="noStrike">
                <a:solidFill>
                  <a:srgbClr val="333399"/>
                </a:solidFill>
                <a:latin typeface="Arial Unicode MS"/>
                <a:cs typeface="Arial Unicode MS"/>
              </a:rPr>
              <a:t>ต่อ</a:t>
            </a:r>
            <a:r>
              <a:rPr b="1" lang="th-TH" sz="42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)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2493720"/>
            <a:ext cx="856944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Arial Unicode MS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ส่วนแผนงาน ประกอบด้วย งานนโยบายและแผน งานแผนงบประมาณ และ งานติดตามและประเมินผลแผน ศึกษาคู่มือ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/</a:t>
            </a:r>
            <a:r>
              <a:rPr b="1" lang="hi-IN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ยกร่าง การตอบชุดคำถา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Arial Unicode MS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นำเสนอยกร่า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ผู้อำนวยการกองแผนงาน พิจารณา จำนวน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 </a:t>
            </a:r>
            <a:r>
              <a:rPr b="1" lang="hi-IN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รอ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คณะทำงานด้านยุทธศาสตร์ พิจารณา จำนวน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 </a:t>
            </a:r>
            <a:r>
              <a:rPr b="1" lang="hi-IN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รอ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365040"/>
            <a:ext cx="77932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333399"/>
                </a:solidFill>
                <a:latin typeface="Arial Unicode MS"/>
                <a:cs typeface="Arial Unicode MS"/>
              </a:rPr>
              <a:t>วิธีการใช้เครื่องมือ </a:t>
            </a:r>
            <a:r>
              <a:rPr b="1" lang="en-US" sz="40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PART</a:t>
            </a:r>
            <a:r>
              <a:rPr b="1" lang="th-TH" sz="40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 (</a:t>
            </a:r>
            <a:r>
              <a:rPr b="1" lang="th-TH" sz="4000" spc="-1" strike="noStrike">
                <a:solidFill>
                  <a:srgbClr val="333399"/>
                </a:solidFill>
                <a:latin typeface="Arial Unicode MS"/>
                <a:cs typeface="Arial Unicode MS"/>
              </a:rPr>
              <a:t>ต่อ</a:t>
            </a:r>
            <a:r>
              <a:rPr b="1" lang="th-TH" sz="40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44600" y="2093760"/>
            <a:ext cx="81360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Arial Unicode MS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นำเสนอยกร่างการตอบชุดคำถาม ต่อที่ประชุมคณะกรรมการผู้บริหาร ครั้งที่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Arial Unicode MS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รองอธิการบดี ที่ได้รับมอบหมายจากคณะกรรมการผู้บริหารพิจารณายกร่างการตอบชุดคำถามร่วมกับ</a:t>
            </a:r>
            <a:br>
              <a:rPr sz="2400"/>
            </a:b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ส่วนแผนงา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Arial Unicode MS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นำเสนอยกร่างการตอบชุดคำถาม พร้อมคะแนนประเมินผลต่อคณะกรรมการผู้บริหาร ครั้งที่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6200" y="-95760"/>
            <a:ext cx="8209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333399"/>
                </a:solidFill>
                <a:latin typeface="Arial"/>
                <a:ea typeface="Arial Unicode MS"/>
              </a:rPr>
              <a:t> </a:t>
            </a:r>
            <a:r>
              <a:rPr b="1" lang="th-TH" sz="2400" spc="-1" strike="noStrike">
                <a:solidFill>
                  <a:srgbClr val="333399"/>
                </a:solidFill>
                <a:latin typeface="Arial"/>
                <a:cs typeface="Arial Unicode MS"/>
              </a:rPr>
              <a:t>แบบจำลองการใช้เครื่องมือ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 Unicode MS"/>
              </a:rPr>
              <a:t>PART (KMITL’S PART MODEL)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897200" y="752400"/>
            <a:ext cx="5108400" cy="1677960"/>
          </a:xfrm>
          <a:prstGeom prst="triangle">
            <a:avLst>
              <a:gd name="adj" fmla="val 50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13280" y="8794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ชุด 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05360" y="11844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ชุด 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013280" y="15066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ชุด 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029120" y="18255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ชุด 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29120" y="21193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ชุด 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95520" y="3178080"/>
            <a:ext cx="1981080" cy="1457280"/>
          </a:xfrm>
          <a:custGeom>
            <a:avLst/>
            <a:gdLst/>
            <a:ahLst/>
            <a:rect l="l" t="t" r="r" b="b"/>
            <a:pathLst>
              <a:path w="1546" h="1255">
                <a:moveTo>
                  <a:pt x="1546" y="312"/>
                </a:moveTo>
                <a:lnTo>
                  <a:pt x="1546" y="0"/>
                </a:lnTo>
                <a:lnTo>
                  <a:pt x="0" y="0"/>
                </a:lnTo>
                <a:lnTo>
                  <a:pt x="2" y="1255"/>
                </a:lnTo>
                <a:lnTo>
                  <a:pt x="139" y="1255"/>
                </a:lnTo>
                <a:lnTo>
                  <a:pt x="146" y="1231"/>
                </a:lnTo>
                <a:lnTo>
                  <a:pt x="146" y="1213"/>
                </a:lnTo>
                <a:lnTo>
                  <a:pt x="142" y="1189"/>
                </a:lnTo>
                <a:lnTo>
                  <a:pt x="134" y="1164"/>
                </a:lnTo>
                <a:lnTo>
                  <a:pt x="126" y="1133"/>
                </a:lnTo>
                <a:lnTo>
                  <a:pt x="122" y="1109"/>
                </a:lnTo>
                <a:lnTo>
                  <a:pt x="120" y="1088"/>
                </a:lnTo>
                <a:lnTo>
                  <a:pt x="125" y="1064"/>
                </a:lnTo>
                <a:lnTo>
                  <a:pt x="131" y="1041"/>
                </a:lnTo>
                <a:lnTo>
                  <a:pt x="146" y="1019"/>
                </a:lnTo>
                <a:lnTo>
                  <a:pt x="163" y="1001"/>
                </a:lnTo>
                <a:lnTo>
                  <a:pt x="182" y="984"/>
                </a:lnTo>
                <a:lnTo>
                  <a:pt x="203" y="972"/>
                </a:lnTo>
                <a:lnTo>
                  <a:pt x="229" y="961"/>
                </a:lnTo>
                <a:lnTo>
                  <a:pt x="251" y="957"/>
                </a:lnTo>
                <a:lnTo>
                  <a:pt x="283" y="956"/>
                </a:lnTo>
                <a:lnTo>
                  <a:pt x="321" y="958"/>
                </a:lnTo>
                <a:lnTo>
                  <a:pt x="345" y="961"/>
                </a:lnTo>
                <a:lnTo>
                  <a:pt x="366" y="968"/>
                </a:lnTo>
                <a:lnTo>
                  <a:pt x="386" y="980"/>
                </a:lnTo>
                <a:lnTo>
                  <a:pt x="412" y="1000"/>
                </a:lnTo>
                <a:lnTo>
                  <a:pt x="428" y="1019"/>
                </a:lnTo>
                <a:lnTo>
                  <a:pt x="442" y="1039"/>
                </a:lnTo>
                <a:lnTo>
                  <a:pt x="450" y="1060"/>
                </a:lnTo>
                <a:lnTo>
                  <a:pt x="456" y="1080"/>
                </a:lnTo>
                <a:lnTo>
                  <a:pt x="456" y="1103"/>
                </a:lnTo>
                <a:lnTo>
                  <a:pt x="453" y="1125"/>
                </a:lnTo>
                <a:lnTo>
                  <a:pt x="448" y="1147"/>
                </a:lnTo>
                <a:lnTo>
                  <a:pt x="442" y="1167"/>
                </a:lnTo>
                <a:lnTo>
                  <a:pt x="436" y="1188"/>
                </a:lnTo>
                <a:lnTo>
                  <a:pt x="432" y="1209"/>
                </a:lnTo>
                <a:lnTo>
                  <a:pt x="432" y="1228"/>
                </a:lnTo>
                <a:lnTo>
                  <a:pt x="437" y="1250"/>
                </a:lnTo>
                <a:lnTo>
                  <a:pt x="696" y="1250"/>
                </a:lnTo>
                <a:lnTo>
                  <a:pt x="693" y="1205"/>
                </a:lnTo>
                <a:lnTo>
                  <a:pt x="696" y="1173"/>
                </a:lnTo>
                <a:lnTo>
                  <a:pt x="696" y="1149"/>
                </a:lnTo>
                <a:lnTo>
                  <a:pt x="697" y="1127"/>
                </a:lnTo>
                <a:lnTo>
                  <a:pt x="700" y="1103"/>
                </a:lnTo>
                <a:lnTo>
                  <a:pt x="705" y="1079"/>
                </a:lnTo>
                <a:lnTo>
                  <a:pt x="712" y="1063"/>
                </a:lnTo>
                <a:lnTo>
                  <a:pt x="721" y="1048"/>
                </a:lnTo>
                <a:lnTo>
                  <a:pt x="735" y="1036"/>
                </a:lnTo>
                <a:lnTo>
                  <a:pt x="749" y="1027"/>
                </a:lnTo>
                <a:lnTo>
                  <a:pt x="767" y="1021"/>
                </a:lnTo>
                <a:lnTo>
                  <a:pt x="785" y="1019"/>
                </a:lnTo>
                <a:lnTo>
                  <a:pt x="803" y="1017"/>
                </a:lnTo>
                <a:lnTo>
                  <a:pt x="825" y="1017"/>
                </a:lnTo>
                <a:lnTo>
                  <a:pt x="847" y="1019"/>
                </a:lnTo>
                <a:lnTo>
                  <a:pt x="864" y="1021"/>
                </a:lnTo>
                <a:lnTo>
                  <a:pt x="887" y="1023"/>
                </a:lnTo>
                <a:lnTo>
                  <a:pt x="911" y="1025"/>
                </a:lnTo>
                <a:lnTo>
                  <a:pt x="938" y="1025"/>
                </a:lnTo>
                <a:lnTo>
                  <a:pt x="960" y="1023"/>
                </a:lnTo>
                <a:lnTo>
                  <a:pt x="983" y="1019"/>
                </a:lnTo>
                <a:lnTo>
                  <a:pt x="1007" y="1013"/>
                </a:lnTo>
                <a:lnTo>
                  <a:pt x="1024" y="1004"/>
                </a:lnTo>
                <a:lnTo>
                  <a:pt x="1043" y="992"/>
                </a:lnTo>
                <a:lnTo>
                  <a:pt x="1055" y="976"/>
                </a:lnTo>
                <a:lnTo>
                  <a:pt x="1067" y="958"/>
                </a:lnTo>
                <a:lnTo>
                  <a:pt x="1072" y="941"/>
                </a:lnTo>
                <a:lnTo>
                  <a:pt x="1075" y="921"/>
                </a:lnTo>
                <a:lnTo>
                  <a:pt x="1072" y="901"/>
                </a:lnTo>
                <a:lnTo>
                  <a:pt x="1071" y="880"/>
                </a:lnTo>
                <a:lnTo>
                  <a:pt x="1072" y="857"/>
                </a:lnTo>
                <a:lnTo>
                  <a:pt x="1076" y="840"/>
                </a:lnTo>
                <a:lnTo>
                  <a:pt x="1082" y="821"/>
                </a:lnTo>
                <a:lnTo>
                  <a:pt x="1090" y="804"/>
                </a:lnTo>
                <a:lnTo>
                  <a:pt x="1100" y="792"/>
                </a:lnTo>
                <a:lnTo>
                  <a:pt x="1118" y="780"/>
                </a:lnTo>
                <a:lnTo>
                  <a:pt x="1139" y="771"/>
                </a:lnTo>
                <a:lnTo>
                  <a:pt x="1160" y="765"/>
                </a:lnTo>
                <a:lnTo>
                  <a:pt x="1181" y="759"/>
                </a:lnTo>
                <a:lnTo>
                  <a:pt x="1202" y="754"/>
                </a:lnTo>
                <a:lnTo>
                  <a:pt x="1230" y="749"/>
                </a:lnTo>
                <a:lnTo>
                  <a:pt x="1251" y="745"/>
                </a:lnTo>
                <a:lnTo>
                  <a:pt x="1274" y="738"/>
                </a:lnTo>
                <a:lnTo>
                  <a:pt x="1293" y="731"/>
                </a:lnTo>
                <a:lnTo>
                  <a:pt x="1311" y="723"/>
                </a:lnTo>
                <a:lnTo>
                  <a:pt x="1326" y="713"/>
                </a:lnTo>
                <a:lnTo>
                  <a:pt x="1339" y="702"/>
                </a:lnTo>
                <a:lnTo>
                  <a:pt x="1354" y="685"/>
                </a:lnTo>
                <a:lnTo>
                  <a:pt x="1363" y="669"/>
                </a:lnTo>
                <a:lnTo>
                  <a:pt x="1371" y="650"/>
                </a:lnTo>
                <a:lnTo>
                  <a:pt x="1375" y="626"/>
                </a:lnTo>
                <a:lnTo>
                  <a:pt x="1373" y="606"/>
                </a:lnTo>
                <a:lnTo>
                  <a:pt x="1370" y="585"/>
                </a:lnTo>
                <a:lnTo>
                  <a:pt x="1363" y="559"/>
                </a:lnTo>
                <a:lnTo>
                  <a:pt x="1357" y="531"/>
                </a:lnTo>
                <a:lnTo>
                  <a:pt x="1350" y="506"/>
                </a:lnTo>
                <a:lnTo>
                  <a:pt x="1349" y="486"/>
                </a:lnTo>
                <a:lnTo>
                  <a:pt x="1349" y="467"/>
                </a:lnTo>
                <a:lnTo>
                  <a:pt x="1351" y="442"/>
                </a:lnTo>
                <a:lnTo>
                  <a:pt x="1358" y="420"/>
                </a:lnTo>
                <a:lnTo>
                  <a:pt x="1365" y="404"/>
                </a:lnTo>
                <a:lnTo>
                  <a:pt x="1374" y="388"/>
                </a:lnTo>
                <a:lnTo>
                  <a:pt x="1387" y="371"/>
                </a:lnTo>
                <a:lnTo>
                  <a:pt x="1402" y="354"/>
                </a:lnTo>
                <a:lnTo>
                  <a:pt x="1421" y="339"/>
                </a:lnTo>
                <a:lnTo>
                  <a:pt x="1441" y="327"/>
                </a:lnTo>
                <a:lnTo>
                  <a:pt x="1460" y="320"/>
                </a:lnTo>
                <a:lnTo>
                  <a:pt x="1478" y="315"/>
                </a:lnTo>
                <a:lnTo>
                  <a:pt x="1498" y="312"/>
                </a:lnTo>
                <a:lnTo>
                  <a:pt x="1522" y="312"/>
                </a:lnTo>
                <a:lnTo>
                  <a:pt x="1546" y="312"/>
                </a:lnTo>
                <a:close/>
              </a:path>
            </a:pathLst>
          </a:custGeom>
          <a:gradFill rotWithShape="0">
            <a:gsLst>
              <a:gs pos="0">
                <a:srgbClr val="9dcdcd"/>
              </a:gs>
              <a:gs pos="100000">
                <a:srgbClr val="008080"/>
              </a:gs>
            </a:gsLst>
            <a:lin ang="13500000"/>
          </a:gra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32080" y="3646440"/>
            <a:ext cx="189396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การวางแผ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76600" y="3178080"/>
            <a:ext cx="1971720" cy="1739880"/>
          </a:xfrm>
          <a:custGeom>
            <a:avLst/>
            <a:gdLst/>
            <a:ahLst/>
            <a:rect l="l" t="t" r="r" b="b"/>
            <a:pathLst>
              <a:path w="1540" h="1498">
                <a:moveTo>
                  <a:pt x="0" y="312"/>
                </a:moveTo>
                <a:lnTo>
                  <a:pt x="0" y="0"/>
                </a:lnTo>
                <a:lnTo>
                  <a:pt x="1538" y="0"/>
                </a:lnTo>
                <a:lnTo>
                  <a:pt x="1540" y="1196"/>
                </a:lnTo>
                <a:lnTo>
                  <a:pt x="1406" y="1196"/>
                </a:lnTo>
                <a:lnTo>
                  <a:pt x="1401" y="1207"/>
                </a:lnTo>
                <a:lnTo>
                  <a:pt x="1397" y="1221"/>
                </a:lnTo>
                <a:lnTo>
                  <a:pt x="1397" y="1234"/>
                </a:lnTo>
                <a:lnTo>
                  <a:pt x="1398" y="1248"/>
                </a:lnTo>
                <a:lnTo>
                  <a:pt x="1403" y="1267"/>
                </a:lnTo>
                <a:lnTo>
                  <a:pt x="1409" y="1291"/>
                </a:lnTo>
                <a:lnTo>
                  <a:pt x="1414" y="1307"/>
                </a:lnTo>
                <a:lnTo>
                  <a:pt x="1418" y="1327"/>
                </a:lnTo>
                <a:lnTo>
                  <a:pt x="1421" y="1346"/>
                </a:lnTo>
                <a:lnTo>
                  <a:pt x="1421" y="1364"/>
                </a:lnTo>
                <a:lnTo>
                  <a:pt x="1418" y="1382"/>
                </a:lnTo>
                <a:lnTo>
                  <a:pt x="1414" y="1400"/>
                </a:lnTo>
                <a:lnTo>
                  <a:pt x="1407" y="1418"/>
                </a:lnTo>
                <a:lnTo>
                  <a:pt x="1397" y="1431"/>
                </a:lnTo>
                <a:lnTo>
                  <a:pt x="1382" y="1447"/>
                </a:lnTo>
                <a:lnTo>
                  <a:pt x="1367" y="1459"/>
                </a:lnTo>
                <a:lnTo>
                  <a:pt x="1354" y="1471"/>
                </a:lnTo>
                <a:lnTo>
                  <a:pt x="1338" y="1481"/>
                </a:lnTo>
                <a:lnTo>
                  <a:pt x="1319" y="1487"/>
                </a:lnTo>
                <a:lnTo>
                  <a:pt x="1297" y="1494"/>
                </a:lnTo>
                <a:lnTo>
                  <a:pt x="1275" y="1497"/>
                </a:lnTo>
                <a:lnTo>
                  <a:pt x="1257" y="1498"/>
                </a:lnTo>
                <a:lnTo>
                  <a:pt x="1237" y="1498"/>
                </a:lnTo>
                <a:lnTo>
                  <a:pt x="1218" y="1497"/>
                </a:lnTo>
                <a:lnTo>
                  <a:pt x="1203" y="1494"/>
                </a:lnTo>
                <a:lnTo>
                  <a:pt x="1186" y="1489"/>
                </a:lnTo>
                <a:lnTo>
                  <a:pt x="1168" y="1483"/>
                </a:lnTo>
                <a:lnTo>
                  <a:pt x="1155" y="1475"/>
                </a:lnTo>
                <a:lnTo>
                  <a:pt x="1140" y="1465"/>
                </a:lnTo>
                <a:lnTo>
                  <a:pt x="1127" y="1451"/>
                </a:lnTo>
                <a:lnTo>
                  <a:pt x="1114" y="1436"/>
                </a:lnTo>
                <a:lnTo>
                  <a:pt x="1102" y="1422"/>
                </a:lnTo>
                <a:lnTo>
                  <a:pt x="1092" y="1406"/>
                </a:lnTo>
                <a:lnTo>
                  <a:pt x="1086" y="1386"/>
                </a:lnTo>
                <a:lnTo>
                  <a:pt x="1080" y="1363"/>
                </a:lnTo>
                <a:lnTo>
                  <a:pt x="1080" y="1342"/>
                </a:lnTo>
                <a:lnTo>
                  <a:pt x="1086" y="1320"/>
                </a:lnTo>
                <a:lnTo>
                  <a:pt x="1091" y="1299"/>
                </a:lnTo>
                <a:lnTo>
                  <a:pt x="1096" y="1278"/>
                </a:lnTo>
                <a:lnTo>
                  <a:pt x="1103" y="1254"/>
                </a:lnTo>
                <a:lnTo>
                  <a:pt x="1106" y="1235"/>
                </a:lnTo>
                <a:lnTo>
                  <a:pt x="1106" y="1224"/>
                </a:lnTo>
                <a:lnTo>
                  <a:pt x="1104" y="1215"/>
                </a:lnTo>
                <a:lnTo>
                  <a:pt x="1100" y="1204"/>
                </a:lnTo>
                <a:lnTo>
                  <a:pt x="844" y="1204"/>
                </a:lnTo>
                <a:lnTo>
                  <a:pt x="848" y="1159"/>
                </a:lnTo>
                <a:lnTo>
                  <a:pt x="847" y="1133"/>
                </a:lnTo>
                <a:lnTo>
                  <a:pt x="844" y="1109"/>
                </a:lnTo>
                <a:lnTo>
                  <a:pt x="841" y="1087"/>
                </a:lnTo>
                <a:lnTo>
                  <a:pt x="837" y="1072"/>
                </a:lnTo>
                <a:lnTo>
                  <a:pt x="831" y="1059"/>
                </a:lnTo>
                <a:lnTo>
                  <a:pt x="823" y="1047"/>
                </a:lnTo>
                <a:lnTo>
                  <a:pt x="809" y="1036"/>
                </a:lnTo>
                <a:lnTo>
                  <a:pt x="795" y="1027"/>
                </a:lnTo>
                <a:lnTo>
                  <a:pt x="780" y="1021"/>
                </a:lnTo>
                <a:lnTo>
                  <a:pt x="767" y="1019"/>
                </a:lnTo>
                <a:lnTo>
                  <a:pt x="744" y="1017"/>
                </a:lnTo>
                <a:lnTo>
                  <a:pt x="717" y="1017"/>
                </a:lnTo>
                <a:lnTo>
                  <a:pt x="692" y="1020"/>
                </a:lnTo>
                <a:lnTo>
                  <a:pt x="664" y="1021"/>
                </a:lnTo>
                <a:lnTo>
                  <a:pt x="642" y="1024"/>
                </a:lnTo>
                <a:lnTo>
                  <a:pt x="614" y="1025"/>
                </a:lnTo>
                <a:lnTo>
                  <a:pt x="592" y="1024"/>
                </a:lnTo>
                <a:lnTo>
                  <a:pt x="572" y="1021"/>
                </a:lnTo>
                <a:lnTo>
                  <a:pt x="541" y="1015"/>
                </a:lnTo>
                <a:lnTo>
                  <a:pt x="521" y="1005"/>
                </a:lnTo>
                <a:lnTo>
                  <a:pt x="502" y="992"/>
                </a:lnTo>
                <a:lnTo>
                  <a:pt x="490" y="977"/>
                </a:lnTo>
                <a:lnTo>
                  <a:pt x="480" y="961"/>
                </a:lnTo>
                <a:lnTo>
                  <a:pt x="472" y="941"/>
                </a:lnTo>
                <a:lnTo>
                  <a:pt x="470" y="920"/>
                </a:lnTo>
                <a:lnTo>
                  <a:pt x="470" y="893"/>
                </a:lnTo>
                <a:lnTo>
                  <a:pt x="472" y="873"/>
                </a:lnTo>
                <a:lnTo>
                  <a:pt x="470" y="853"/>
                </a:lnTo>
                <a:lnTo>
                  <a:pt x="465" y="830"/>
                </a:lnTo>
                <a:lnTo>
                  <a:pt x="461" y="817"/>
                </a:lnTo>
                <a:lnTo>
                  <a:pt x="454" y="804"/>
                </a:lnTo>
                <a:lnTo>
                  <a:pt x="446" y="794"/>
                </a:lnTo>
                <a:lnTo>
                  <a:pt x="438" y="786"/>
                </a:lnTo>
                <a:lnTo>
                  <a:pt x="421" y="778"/>
                </a:lnTo>
                <a:lnTo>
                  <a:pt x="401" y="769"/>
                </a:lnTo>
                <a:lnTo>
                  <a:pt x="378" y="762"/>
                </a:lnTo>
                <a:lnTo>
                  <a:pt x="351" y="755"/>
                </a:lnTo>
                <a:lnTo>
                  <a:pt x="325" y="750"/>
                </a:lnTo>
                <a:lnTo>
                  <a:pt x="297" y="746"/>
                </a:lnTo>
                <a:lnTo>
                  <a:pt x="277" y="739"/>
                </a:lnTo>
                <a:lnTo>
                  <a:pt x="255" y="733"/>
                </a:lnTo>
                <a:lnTo>
                  <a:pt x="234" y="725"/>
                </a:lnTo>
                <a:lnTo>
                  <a:pt x="219" y="713"/>
                </a:lnTo>
                <a:lnTo>
                  <a:pt x="202" y="698"/>
                </a:lnTo>
                <a:lnTo>
                  <a:pt x="190" y="685"/>
                </a:lnTo>
                <a:lnTo>
                  <a:pt x="179" y="669"/>
                </a:lnTo>
                <a:lnTo>
                  <a:pt x="171" y="650"/>
                </a:lnTo>
                <a:lnTo>
                  <a:pt x="169" y="630"/>
                </a:lnTo>
                <a:lnTo>
                  <a:pt x="169" y="611"/>
                </a:lnTo>
                <a:lnTo>
                  <a:pt x="173" y="594"/>
                </a:lnTo>
                <a:lnTo>
                  <a:pt x="179" y="569"/>
                </a:lnTo>
                <a:lnTo>
                  <a:pt x="186" y="543"/>
                </a:lnTo>
                <a:lnTo>
                  <a:pt x="189" y="520"/>
                </a:lnTo>
                <a:lnTo>
                  <a:pt x="194" y="498"/>
                </a:lnTo>
                <a:lnTo>
                  <a:pt x="197" y="475"/>
                </a:lnTo>
                <a:lnTo>
                  <a:pt x="194" y="451"/>
                </a:lnTo>
                <a:lnTo>
                  <a:pt x="189" y="430"/>
                </a:lnTo>
                <a:lnTo>
                  <a:pt x="181" y="408"/>
                </a:lnTo>
                <a:lnTo>
                  <a:pt x="170" y="388"/>
                </a:lnTo>
                <a:lnTo>
                  <a:pt x="158" y="372"/>
                </a:lnTo>
                <a:lnTo>
                  <a:pt x="151" y="363"/>
                </a:lnTo>
                <a:lnTo>
                  <a:pt x="139" y="351"/>
                </a:lnTo>
                <a:lnTo>
                  <a:pt x="127" y="340"/>
                </a:lnTo>
                <a:lnTo>
                  <a:pt x="115" y="332"/>
                </a:lnTo>
                <a:lnTo>
                  <a:pt x="99" y="324"/>
                </a:lnTo>
                <a:lnTo>
                  <a:pt x="83" y="319"/>
                </a:lnTo>
                <a:lnTo>
                  <a:pt x="63" y="313"/>
                </a:lnTo>
                <a:lnTo>
                  <a:pt x="40" y="312"/>
                </a:lnTo>
                <a:lnTo>
                  <a:pt x="20" y="312"/>
                </a:lnTo>
                <a:lnTo>
                  <a:pt x="0" y="312"/>
                </a:lnTo>
                <a:close/>
              </a:path>
            </a:pathLst>
          </a:custGeom>
          <a:gradFill rotWithShape="0">
            <a:gsLst>
              <a:gs pos="0">
                <a:srgbClr val="ff00ff"/>
              </a:gs>
              <a:gs pos="100000">
                <a:srgbClr val="fee1fe"/>
              </a:gs>
            </a:gsLst>
            <a:lin ang="8100000"/>
          </a:gra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67200" y="3408480"/>
            <a:ext cx="141444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การจัดท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งปม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95520" y="4282920"/>
            <a:ext cx="1971720" cy="1741680"/>
          </a:xfrm>
          <a:custGeom>
            <a:avLst/>
            <a:gdLst/>
            <a:ahLst/>
            <a:rect l="l" t="t" r="r" b="b"/>
            <a:pathLst>
              <a:path w="1540" h="1498">
                <a:moveTo>
                  <a:pt x="1540" y="1234"/>
                </a:moveTo>
                <a:lnTo>
                  <a:pt x="1540" y="1498"/>
                </a:lnTo>
                <a:lnTo>
                  <a:pt x="2" y="1498"/>
                </a:lnTo>
                <a:lnTo>
                  <a:pt x="0" y="302"/>
                </a:lnTo>
                <a:lnTo>
                  <a:pt x="134" y="302"/>
                </a:lnTo>
                <a:lnTo>
                  <a:pt x="139" y="291"/>
                </a:lnTo>
                <a:lnTo>
                  <a:pt x="143" y="276"/>
                </a:lnTo>
                <a:lnTo>
                  <a:pt x="143" y="264"/>
                </a:lnTo>
                <a:lnTo>
                  <a:pt x="142" y="249"/>
                </a:lnTo>
                <a:lnTo>
                  <a:pt x="137" y="231"/>
                </a:lnTo>
                <a:lnTo>
                  <a:pt x="131" y="207"/>
                </a:lnTo>
                <a:lnTo>
                  <a:pt x="126" y="191"/>
                </a:lnTo>
                <a:lnTo>
                  <a:pt x="120" y="171"/>
                </a:lnTo>
                <a:lnTo>
                  <a:pt x="119" y="152"/>
                </a:lnTo>
                <a:lnTo>
                  <a:pt x="119" y="133"/>
                </a:lnTo>
                <a:lnTo>
                  <a:pt x="120" y="116"/>
                </a:lnTo>
                <a:lnTo>
                  <a:pt x="126" y="97"/>
                </a:lnTo>
                <a:lnTo>
                  <a:pt x="133" y="80"/>
                </a:lnTo>
                <a:lnTo>
                  <a:pt x="143" y="67"/>
                </a:lnTo>
                <a:lnTo>
                  <a:pt x="158" y="50"/>
                </a:lnTo>
                <a:lnTo>
                  <a:pt x="171" y="38"/>
                </a:lnTo>
                <a:lnTo>
                  <a:pt x="186" y="26"/>
                </a:lnTo>
                <a:lnTo>
                  <a:pt x="202" y="17"/>
                </a:lnTo>
                <a:lnTo>
                  <a:pt x="221" y="9"/>
                </a:lnTo>
                <a:lnTo>
                  <a:pt x="242" y="4"/>
                </a:lnTo>
                <a:lnTo>
                  <a:pt x="265" y="1"/>
                </a:lnTo>
                <a:lnTo>
                  <a:pt x="283" y="0"/>
                </a:lnTo>
                <a:lnTo>
                  <a:pt x="303" y="0"/>
                </a:lnTo>
                <a:lnTo>
                  <a:pt x="322" y="1"/>
                </a:lnTo>
                <a:lnTo>
                  <a:pt x="337" y="4"/>
                </a:lnTo>
                <a:lnTo>
                  <a:pt x="354" y="9"/>
                </a:lnTo>
                <a:lnTo>
                  <a:pt x="371" y="14"/>
                </a:lnTo>
                <a:lnTo>
                  <a:pt x="385" y="22"/>
                </a:lnTo>
                <a:lnTo>
                  <a:pt x="400" y="33"/>
                </a:lnTo>
                <a:lnTo>
                  <a:pt x="413" y="46"/>
                </a:lnTo>
                <a:lnTo>
                  <a:pt x="426" y="61"/>
                </a:lnTo>
                <a:lnTo>
                  <a:pt x="438" y="76"/>
                </a:lnTo>
                <a:lnTo>
                  <a:pt x="448" y="92"/>
                </a:lnTo>
                <a:lnTo>
                  <a:pt x="454" y="112"/>
                </a:lnTo>
                <a:lnTo>
                  <a:pt x="460" y="135"/>
                </a:lnTo>
                <a:lnTo>
                  <a:pt x="460" y="156"/>
                </a:lnTo>
                <a:lnTo>
                  <a:pt x="454" y="177"/>
                </a:lnTo>
                <a:lnTo>
                  <a:pt x="449" y="199"/>
                </a:lnTo>
                <a:lnTo>
                  <a:pt x="444" y="220"/>
                </a:lnTo>
                <a:lnTo>
                  <a:pt x="437" y="244"/>
                </a:lnTo>
                <a:lnTo>
                  <a:pt x="433" y="263"/>
                </a:lnTo>
                <a:lnTo>
                  <a:pt x="433" y="273"/>
                </a:lnTo>
                <a:lnTo>
                  <a:pt x="436" y="283"/>
                </a:lnTo>
                <a:lnTo>
                  <a:pt x="440" y="294"/>
                </a:lnTo>
                <a:lnTo>
                  <a:pt x="695" y="294"/>
                </a:lnTo>
                <a:lnTo>
                  <a:pt x="689" y="343"/>
                </a:lnTo>
                <a:lnTo>
                  <a:pt x="688" y="372"/>
                </a:lnTo>
                <a:lnTo>
                  <a:pt x="689" y="396"/>
                </a:lnTo>
                <a:lnTo>
                  <a:pt x="691" y="419"/>
                </a:lnTo>
                <a:lnTo>
                  <a:pt x="693" y="443"/>
                </a:lnTo>
                <a:lnTo>
                  <a:pt x="697" y="467"/>
                </a:lnTo>
                <a:lnTo>
                  <a:pt x="705" y="483"/>
                </a:lnTo>
                <a:lnTo>
                  <a:pt x="715" y="496"/>
                </a:lnTo>
                <a:lnTo>
                  <a:pt x="727" y="509"/>
                </a:lnTo>
                <a:lnTo>
                  <a:pt x="743" y="518"/>
                </a:lnTo>
                <a:lnTo>
                  <a:pt x="760" y="525"/>
                </a:lnTo>
                <a:lnTo>
                  <a:pt x="777" y="527"/>
                </a:lnTo>
                <a:lnTo>
                  <a:pt x="796" y="529"/>
                </a:lnTo>
                <a:lnTo>
                  <a:pt x="817" y="529"/>
                </a:lnTo>
                <a:lnTo>
                  <a:pt x="840" y="526"/>
                </a:lnTo>
                <a:lnTo>
                  <a:pt x="856" y="525"/>
                </a:lnTo>
                <a:lnTo>
                  <a:pt x="880" y="522"/>
                </a:lnTo>
                <a:lnTo>
                  <a:pt x="904" y="519"/>
                </a:lnTo>
                <a:lnTo>
                  <a:pt x="931" y="519"/>
                </a:lnTo>
                <a:lnTo>
                  <a:pt x="954" y="522"/>
                </a:lnTo>
                <a:lnTo>
                  <a:pt x="976" y="526"/>
                </a:lnTo>
                <a:lnTo>
                  <a:pt x="999" y="534"/>
                </a:lnTo>
                <a:lnTo>
                  <a:pt x="1018" y="542"/>
                </a:lnTo>
                <a:lnTo>
                  <a:pt x="1036" y="555"/>
                </a:lnTo>
                <a:lnTo>
                  <a:pt x="1048" y="570"/>
                </a:lnTo>
                <a:lnTo>
                  <a:pt x="1059" y="587"/>
                </a:lnTo>
                <a:lnTo>
                  <a:pt x="1066" y="606"/>
                </a:lnTo>
                <a:lnTo>
                  <a:pt x="1068" y="625"/>
                </a:lnTo>
                <a:lnTo>
                  <a:pt x="1066" y="646"/>
                </a:lnTo>
                <a:lnTo>
                  <a:pt x="1064" y="667"/>
                </a:lnTo>
                <a:lnTo>
                  <a:pt x="1066" y="689"/>
                </a:lnTo>
                <a:lnTo>
                  <a:pt x="1068" y="707"/>
                </a:lnTo>
                <a:lnTo>
                  <a:pt x="1075" y="725"/>
                </a:lnTo>
                <a:lnTo>
                  <a:pt x="1083" y="742"/>
                </a:lnTo>
                <a:lnTo>
                  <a:pt x="1094" y="754"/>
                </a:lnTo>
                <a:lnTo>
                  <a:pt x="1110" y="766"/>
                </a:lnTo>
                <a:lnTo>
                  <a:pt x="1131" y="774"/>
                </a:lnTo>
                <a:lnTo>
                  <a:pt x="1154" y="781"/>
                </a:lnTo>
                <a:lnTo>
                  <a:pt x="1173" y="786"/>
                </a:lnTo>
                <a:lnTo>
                  <a:pt x="1195" y="792"/>
                </a:lnTo>
                <a:lnTo>
                  <a:pt x="1222" y="797"/>
                </a:lnTo>
                <a:lnTo>
                  <a:pt x="1245" y="801"/>
                </a:lnTo>
                <a:lnTo>
                  <a:pt x="1267" y="808"/>
                </a:lnTo>
                <a:lnTo>
                  <a:pt x="1286" y="814"/>
                </a:lnTo>
                <a:lnTo>
                  <a:pt x="1305" y="822"/>
                </a:lnTo>
                <a:lnTo>
                  <a:pt x="1319" y="833"/>
                </a:lnTo>
                <a:lnTo>
                  <a:pt x="1331" y="844"/>
                </a:lnTo>
                <a:lnTo>
                  <a:pt x="1347" y="861"/>
                </a:lnTo>
                <a:lnTo>
                  <a:pt x="1357" y="877"/>
                </a:lnTo>
                <a:lnTo>
                  <a:pt x="1365" y="894"/>
                </a:lnTo>
                <a:lnTo>
                  <a:pt x="1369" y="918"/>
                </a:lnTo>
                <a:lnTo>
                  <a:pt x="1366" y="941"/>
                </a:lnTo>
                <a:lnTo>
                  <a:pt x="1362" y="961"/>
                </a:lnTo>
                <a:lnTo>
                  <a:pt x="1357" y="987"/>
                </a:lnTo>
                <a:lnTo>
                  <a:pt x="1350" y="1015"/>
                </a:lnTo>
                <a:lnTo>
                  <a:pt x="1343" y="1040"/>
                </a:lnTo>
                <a:lnTo>
                  <a:pt x="1341" y="1061"/>
                </a:lnTo>
                <a:lnTo>
                  <a:pt x="1341" y="1079"/>
                </a:lnTo>
                <a:lnTo>
                  <a:pt x="1345" y="1104"/>
                </a:lnTo>
                <a:lnTo>
                  <a:pt x="1350" y="1125"/>
                </a:lnTo>
                <a:lnTo>
                  <a:pt x="1358" y="1141"/>
                </a:lnTo>
                <a:lnTo>
                  <a:pt x="1367" y="1157"/>
                </a:lnTo>
                <a:lnTo>
                  <a:pt x="1381" y="1175"/>
                </a:lnTo>
                <a:lnTo>
                  <a:pt x="1395" y="1192"/>
                </a:lnTo>
                <a:lnTo>
                  <a:pt x="1413" y="1207"/>
                </a:lnTo>
                <a:lnTo>
                  <a:pt x="1433" y="1219"/>
                </a:lnTo>
                <a:lnTo>
                  <a:pt x="1452" y="1226"/>
                </a:lnTo>
                <a:lnTo>
                  <a:pt x="1472" y="1231"/>
                </a:lnTo>
                <a:lnTo>
                  <a:pt x="1492" y="1234"/>
                </a:lnTo>
                <a:lnTo>
                  <a:pt x="1516" y="1235"/>
                </a:lnTo>
                <a:lnTo>
                  <a:pt x="1540" y="1234"/>
                </a:lnTo>
                <a:close/>
              </a:path>
            </a:pathLst>
          </a:custGeom>
          <a:gradFill rotWithShape="0">
            <a:gsLst>
              <a:gs pos="0">
                <a:srgbClr val="88fe88"/>
              </a:gs>
              <a:gs pos="100000">
                <a:srgbClr val="00ff00"/>
              </a:gs>
            </a:gsLst>
            <a:lin ang="8100000"/>
          </a:gra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98760" y="5186520"/>
            <a:ext cx="155268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</a:rPr>
              <a:t>วิจัยสถาบั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67240" y="4567320"/>
            <a:ext cx="1981080" cy="1457280"/>
          </a:xfrm>
          <a:custGeom>
            <a:avLst/>
            <a:gdLst/>
            <a:ahLst/>
            <a:rect l="l" t="t" r="r" b="b"/>
            <a:pathLst>
              <a:path w="1546" h="1255">
                <a:moveTo>
                  <a:pt x="0" y="992"/>
                </a:moveTo>
                <a:lnTo>
                  <a:pt x="0" y="1255"/>
                </a:lnTo>
                <a:lnTo>
                  <a:pt x="1546" y="1255"/>
                </a:lnTo>
                <a:lnTo>
                  <a:pt x="1544" y="0"/>
                </a:lnTo>
                <a:lnTo>
                  <a:pt x="1407" y="0"/>
                </a:lnTo>
                <a:lnTo>
                  <a:pt x="1400" y="24"/>
                </a:lnTo>
                <a:lnTo>
                  <a:pt x="1400" y="41"/>
                </a:lnTo>
                <a:lnTo>
                  <a:pt x="1404" y="65"/>
                </a:lnTo>
                <a:lnTo>
                  <a:pt x="1412" y="91"/>
                </a:lnTo>
                <a:lnTo>
                  <a:pt x="1420" y="121"/>
                </a:lnTo>
                <a:lnTo>
                  <a:pt x="1424" y="145"/>
                </a:lnTo>
                <a:lnTo>
                  <a:pt x="1424" y="167"/>
                </a:lnTo>
                <a:lnTo>
                  <a:pt x="1421" y="191"/>
                </a:lnTo>
                <a:lnTo>
                  <a:pt x="1415" y="213"/>
                </a:lnTo>
                <a:lnTo>
                  <a:pt x="1400" y="235"/>
                </a:lnTo>
                <a:lnTo>
                  <a:pt x="1383" y="253"/>
                </a:lnTo>
                <a:lnTo>
                  <a:pt x="1364" y="271"/>
                </a:lnTo>
                <a:lnTo>
                  <a:pt x="1343" y="283"/>
                </a:lnTo>
                <a:lnTo>
                  <a:pt x="1317" y="292"/>
                </a:lnTo>
                <a:lnTo>
                  <a:pt x="1295" y="298"/>
                </a:lnTo>
                <a:lnTo>
                  <a:pt x="1263" y="299"/>
                </a:lnTo>
                <a:lnTo>
                  <a:pt x="1225" y="296"/>
                </a:lnTo>
                <a:lnTo>
                  <a:pt x="1201" y="292"/>
                </a:lnTo>
                <a:lnTo>
                  <a:pt x="1180" y="287"/>
                </a:lnTo>
                <a:lnTo>
                  <a:pt x="1160" y="275"/>
                </a:lnTo>
                <a:lnTo>
                  <a:pt x="1134" y="255"/>
                </a:lnTo>
                <a:lnTo>
                  <a:pt x="1118" y="236"/>
                </a:lnTo>
                <a:lnTo>
                  <a:pt x="1104" y="216"/>
                </a:lnTo>
                <a:lnTo>
                  <a:pt x="1096" y="195"/>
                </a:lnTo>
                <a:lnTo>
                  <a:pt x="1090" y="175"/>
                </a:lnTo>
                <a:lnTo>
                  <a:pt x="1090" y="152"/>
                </a:lnTo>
                <a:lnTo>
                  <a:pt x="1093" y="129"/>
                </a:lnTo>
                <a:lnTo>
                  <a:pt x="1098" y="108"/>
                </a:lnTo>
                <a:lnTo>
                  <a:pt x="1104" y="88"/>
                </a:lnTo>
                <a:lnTo>
                  <a:pt x="1110" y="67"/>
                </a:lnTo>
                <a:lnTo>
                  <a:pt x="1114" y="45"/>
                </a:lnTo>
                <a:lnTo>
                  <a:pt x="1114" y="26"/>
                </a:lnTo>
                <a:lnTo>
                  <a:pt x="1109" y="5"/>
                </a:lnTo>
                <a:lnTo>
                  <a:pt x="850" y="5"/>
                </a:lnTo>
                <a:lnTo>
                  <a:pt x="853" y="49"/>
                </a:lnTo>
                <a:lnTo>
                  <a:pt x="850" y="80"/>
                </a:lnTo>
                <a:lnTo>
                  <a:pt x="849" y="105"/>
                </a:lnTo>
                <a:lnTo>
                  <a:pt x="849" y="128"/>
                </a:lnTo>
                <a:lnTo>
                  <a:pt x="846" y="152"/>
                </a:lnTo>
                <a:lnTo>
                  <a:pt x="841" y="176"/>
                </a:lnTo>
                <a:lnTo>
                  <a:pt x="834" y="192"/>
                </a:lnTo>
                <a:lnTo>
                  <a:pt x="825" y="207"/>
                </a:lnTo>
                <a:lnTo>
                  <a:pt x="811" y="219"/>
                </a:lnTo>
                <a:lnTo>
                  <a:pt x="797" y="228"/>
                </a:lnTo>
                <a:lnTo>
                  <a:pt x="779" y="233"/>
                </a:lnTo>
                <a:lnTo>
                  <a:pt x="761" y="236"/>
                </a:lnTo>
                <a:lnTo>
                  <a:pt x="743" y="237"/>
                </a:lnTo>
                <a:lnTo>
                  <a:pt x="721" y="237"/>
                </a:lnTo>
                <a:lnTo>
                  <a:pt x="699" y="235"/>
                </a:lnTo>
                <a:lnTo>
                  <a:pt x="682" y="233"/>
                </a:lnTo>
                <a:lnTo>
                  <a:pt x="659" y="232"/>
                </a:lnTo>
                <a:lnTo>
                  <a:pt x="635" y="229"/>
                </a:lnTo>
                <a:lnTo>
                  <a:pt x="608" y="229"/>
                </a:lnTo>
                <a:lnTo>
                  <a:pt x="586" y="232"/>
                </a:lnTo>
                <a:lnTo>
                  <a:pt x="563" y="235"/>
                </a:lnTo>
                <a:lnTo>
                  <a:pt x="539" y="241"/>
                </a:lnTo>
                <a:lnTo>
                  <a:pt x="522" y="251"/>
                </a:lnTo>
                <a:lnTo>
                  <a:pt x="503" y="263"/>
                </a:lnTo>
                <a:lnTo>
                  <a:pt x="491" y="279"/>
                </a:lnTo>
                <a:lnTo>
                  <a:pt x="479" y="296"/>
                </a:lnTo>
                <a:lnTo>
                  <a:pt x="474" y="314"/>
                </a:lnTo>
                <a:lnTo>
                  <a:pt x="471" y="334"/>
                </a:lnTo>
                <a:lnTo>
                  <a:pt x="474" y="354"/>
                </a:lnTo>
                <a:lnTo>
                  <a:pt x="475" y="375"/>
                </a:lnTo>
                <a:lnTo>
                  <a:pt x="474" y="398"/>
                </a:lnTo>
                <a:lnTo>
                  <a:pt x="470" y="415"/>
                </a:lnTo>
                <a:lnTo>
                  <a:pt x="464" y="434"/>
                </a:lnTo>
                <a:lnTo>
                  <a:pt x="456" y="451"/>
                </a:lnTo>
                <a:lnTo>
                  <a:pt x="446" y="463"/>
                </a:lnTo>
                <a:lnTo>
                  <a:pt x="428" y="475"/>
                </a:lnTo>
                <a:lnTo>
                  <a:pt x="407" y="483"/>
                </a:lnTo>
                <a:lnTo>
                  <a:pt x="385" y="490"/>
                </a:lnTo>
                <a:lnTo>
                  <a:pt x="365" y="495"/>
                </a:lnTo>
                <a:lnTo>
                  <a:pt x="344" y="501"/>
                </a:lnTo>
                <a:lnTo>
                  <a:pt x="316" y="506"/>
                </a:lnTo>
                <a:lnTo>
                  <a:pt x="295" y="510"/>
                </a:lnTo>
                <a:lnTo>
                  <a:pt x="272" y="517"/>
                </a:lnTo>
                <a:lnTo>
                  <a:pt x="253" y="523"/>
                </a:lnTo>
                <a:lnTo>
                  <a:pt x="235" y="531"/>
                </a:lnTo>
                <a:lnTo>
                  <a:pt x="220" y="542"/>
                </a:lnTo>
                <a:lnTo>
                  <a:pt x="207" y="553"/>
                </a:lnTo>
                <a:lnTo>
                  <a:pt x="192" y="570"/>
                </a:lnTo>
                <a:lnTo>
                  <a:pt x="183" y="586"/>
                </a:lnTo>
                <a:lnTo>
                  <a:pt x="175" y="605"/>
                </a:lnTo>
                <a:lnTo>
                  <a:pt x="171" y="627"/>
                </a:lnTo>
                <a:lnTo>
                  <a:pt x="173" y="649"/>
                </a:lnTo>
                <a:lnTo>
                  <a:pt x="176" y="670"/>
                </a:lnTo>
                <a:lnTo>
                  <a:pt x="183" y="695"/>
                </a:lnTo>
                <a:lnTo>
                  <a:pt x="189" y="724"/>
                </a:lnTo>
                <a:lnTo>
                  <a:pt x="195" y="749"/>
                </a:lnTo>
                <a:lnTo>
                  <a:pt x="197" y="769"/>
                </a:lnTo>
                <a:lnTo>
                  <a:pt x="197" y="788"/>
                </a:lnTo>
                <a:lnTo>
                  <a:pt x="195" y="813"/>
                </a:lnTo>
                <a:lnTo>
                  <a:pt x="188" y="834"/>
                </a:lnTo>
                <a:lnTo>
                  <a:pt x="183" y="853"/>
                </a:lnTo>
                <a:lnTo>
                  <a:pt x="175" y="870"/>
                </a:lnTo>
                <a:lnTo>
                  <a:pt x="164" y="893"/>
                </a:lnTo>
                <a:lnTo>
                  <a:pt x="149" y="918"/>
                </a:lnTo>
                <a:lnTo>
                  <a:pt x="133" y="937"/>
                </a:lnTo>
                <a:lnTo>
                  <a:pt x="117" y="952"/>
                </a:lnTo>
                <a:lnTo>
                  <a:pt x="102" y="965"/>
                </a:lnTo>
                <a:lnTo>
                  <a:pt x="86" y="976"/>
                </a:lnTo>
                <a:lnTo>
                  <a:pt x="70" y="983"/>
                </a:lnTo>
                <a:lnTo>
                  <a:pt x="48" y="988"/>
                </a:lnTo>
                <a:lnTo>
                  <a:pt x="22" y="992"/>
                </a:lnTo>
                <a:lnTo>
                  <a:pt x="0" y="992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8080fe"/>
              </a:gs>
            </a:gsLst>
            <a:lin ang="13500000"/>
          </a:gra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86200" y="5119560"/>
            <a:ext cx="172260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ff"/>
                </a:solidFill>
                <a:latin typeface="Angsana New"/>
              </a:rPr>
              <a:t>ติดตามและประเมินผ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71760" y="3535200"/>
            <a:ext cx="2193840" cy="2184480"/>
          </a:xfrm>
          <a:custGeom>
            <a:avLst/>
            <a:gdLst/>
            <a:ahLst/>
            <a:rect l="l" t="t" r="r" b="b"/>
            <a:pathLst>
              <a:path w="1714" h="1879">
                <a:moveTo>
                  <a:pt x="652" y="393"/>
                </a:moveTo>
                <a:lnTo>
                  <a:pt x="670" y="372"/>
                </a:lnTo>
                <a:lnTo>
                  <a:pt x="682" y="352"/>
                </a:lnTo>
                <a:lnTo>
                  <a:pt x="688" y="329"/>
                </a:lnTo>
                <a:lnTo>
                  <a:pt x="688" y="300"/>
                </a:lnTo>
                <a:lnTo>
                  <a:pt x="680" y="266"/>
                </a:lnTo>
                <a:lnTo>
                  <a:pt x="674" y="238"/>
                </a:lnTo>
                <a:lnTo>
                  <a:pt x="664" y="203"/>
                </a:lnTo>
                <a:lnTo>
                  <a:pt x="660" y="166"/>
                </a:lnTo>
                <a:lnTo>
                  <a:pt x="664" y="143"/>
                </a:lnTo>
                <a:lnTo>
                  <a:pt x="671" y="115"/>
                </a:lnTo>
                <a:lnTo>
                  <a:pt x="684" y="86"/>
                </a:lnTo>
                <a:lnTo>
                  <a:pt x="703" y="58"/>
                </a:lnTo>
                <a:lnTo>
                  <a:pt x="727" y="35"/>
                </a:lnTo>
                <a:lnTo>
                  <a:pt x="749" y="18"/>
                </a:lnTo>
                <a:lnTo>
                  <a:pt x="778" y="7"/>
                </a:lnTo>
                <a:lnTo>
                  <a:pt x="813" y="2"/>
                </a:lnTo>
                <a:lnTo>
                  <a:pt x="850" y="0"/>
                </a:lnTo>
                <a:lnTo>
                  <a:pt x="901" y="0"/>
                </a:lnTo>
                <a:lnTo>
                  <a:pt x="941" y="4"/>
                </a:lnTo>
                <a:lnTo>
                  <a:pt x="963" y="12"/>
                </a:lnTo>
                <a:lnTo>
                  <a:pt x="981" y="23"/>
                </a:lnTo>
                <a:lnTo>
                  <a:pt x="1000" y="35"/>
                </a:lnTo>
                <a:lnTo>
                  <a:pt x="1018" y="54"/>
                </a:lnTo>
                <a:lnTo>
                  <a:pt x="1036" y="78"/>
                </a:lnTo>
                <a:lnTo>
                  <a:pt x="1049" y="99"/>
                </a:lnTo>
                <a:lnTo>
                  <a:pt x="1056" y="118"/>
                </a:lnTo>
                <a:lnTo>
                  <a:pt x="1061" y="150"/>
                </a:lnTo>
                <a:lnTo>
                  <a:pt x="1061" y="178"/>
                </a:lnTo>
                <a:lnTo>
                  <a:pt x="1057" y="206"/>
                </a:lnTo>
                <a:lnTo>
                  <a:pt x="1052" y="227"/>
                </a:lnTo>
                <a:lnTo>
                  <a:pt x="1045" y="262"/>
                </a:lnTo>
                <a:lnTo>
                  <a:pt x="1036" y="298"/>
                </a:lnTo>
                <a:lnTo>
                  <a:pt x="1032" y="321"/>
                </a:lnTo>
                <a:lnTo>
                  <a:pt x="1038" y="344"/>
                </a:lnTo>
                <a:lnTo>
                  <a:pt x="1046" y="360"/>
                </a:lnTo>
                <a:lnTo>
                  <a:pt x="1061" y="381"/>
                </a:lnTo>
                <a:lnTo>
                  <a:pt x="1082" y="398"/>
                </a:lnTo>
                <a:lnTo>
                  <a:pt x="1102" y="413"/>
                </a:lnTo>
                <a:lnTo>
                  <a:pt x="1132" y="425"/>
                </a:lnTo>
                <a:lnTo>
                  <a:pt x="1161" y="433"/>
                </a:lnTo>
                <a:lnTo>
                  <a:pt x="1189" y="440"/>
                </a:lnTo>
                <a:lnTo>
                  <a:pt x="1218" y="444"/>
                </a:lnTo>
                <a:lnTo>
                  <a:pt x="1249" y="452"/>
                </a:lnTo>
                <a:lnTo>
                  <a:pt x="1273" y="460"/>
                </a:lnTo>
                <a:lnTo>
                  <a:pt x="1292" y="469"/>
                </a:lnTo>
                <a:lnTo>
                  <a:pt x="1307" y="480"/>
                </a:lnTo>
                <a:lnTo>
                  <a:pt x="1317" y="492"/>
                </a:lnTo>
                <a:lnTo>
                  <a:pt x="1325" y="507"/>
                </a:lnTo>
                <a:lnTo>
                  <a:pt x="1332" y="524"/>
                </a:lnTo>
                <a:lnTo>
                  <a:pt x="1335" y="540"/>
                </a:lnTo>
                <a:lnTo>
                  <a:pt x="1337" y="555"/>
                </a:lnTo>
                <a:lnTo>
                  <a:pt x="1337" y="575"/>
                </a:lnTo>
                <a:lnTo>
                  <a:pt x="1335" y="597"/>
                </a:lnTo>
                <a:lnTo>
                  <a:pt x="1335" y="615"/>
                </a:lnTo>
                <a:lnTo>
                  <a:pt x="1339" y="636"/>
                </a:lnTo>
                <a:lnTo>
                  <a:pt x="1348" y="655"/>
                </a:lnTo>
                <a:lnTo>
                  <a:pt x="1359" y="671"/>
                </a:lnTo>
                <a:lnTo>
                  <a:pt x="1372" y="683"/>
                </a:lnTo>
                <a:lnTo>
                  <a:pt x="1389" y="696"/>
                </a:lnTo>
                <a:lnTo>
                  <a:pt x="1407" y="704"/>
                </a:lnTo>
                <a:lnTo>
                  <a:pt x="1433" y="710"/>
                </a:lnTo>
                <a:lnTo>
                  <a:pt x="1456" y="712"/>
                </a:lnTo>
                <a:lnTo>
                  <a:pt x="1477" y="714"/>
                </a:lnTo>
                <a:lnTo>
                  <a:pt x="1501" y="712"/>
                </a:lnTo>
                <a:lnTo>
                  <a:pt x="1531" y="710"/>
                </a:lnTo>
                <a:lnTo>
                  <a:pt x="1554" y="708"/>
                </a:lnTo>
                <a:lnTo>
                  <a:pt x="1576" y="706"/>
                </a:lnTo>
                <a:lnTo>
                  <a:pt x="1598" y="704"/>
                </a:lnTo>
                <a:lnTo>
                  <a:pt x="1623" y="706"/>
                </a:lnTo>
                <a:lnTo>
                  <a:pt x="1636" y="708"/>
                </a:lnTo>
                <a:lnTo>
                  <a:pt x="1652" y="712"/>
                </a:lnTo>
                <a:lnTo>
                  <a:pt x="1667" y="720"/>
                </a:lnTo>
                <a:lnTo>
                  <a:pt x="1683" y="732"/>
                </a:lnTo>
                <a:lnTo>
                  <a:pt x="1695" y="746"/>
                </a:lnTo>
                <a:lnTo>
                  <a:pt x="1704" y="766"/>
                </a:lnTo>
                <a:lnTo>
                  <a:pt x="1708" y="783"/>
                </a:lnTo>
                <a:lnTo>
                  <a:pt x="1711" y="804"/>
                </a:lnTo>
                <a:lnTo>
                  <a:pt x="1714" y="843"/>
                </a:lnTo>
                <a:lnTo>
                  <a:pt x="1712" y="888"/>
                </a:lnTo>
                <a:lnTo>
                  <a:pt x="1714" y="937"/>
                </a:lnTo>
                <a:lnTo>
                  <a:pt x="1710" y="993"/>
                </a:lnTo>
                <a:lnTo>
                  <a:pt x="1706" y="1031"/>
                </a:lnTo>
                <a:lnTo>
                  <a:pt x="1702" y="1062"/>
                </a:lnTo>
                <a:lnTo>
                  <a:pt x="1695" y="1079"/>
                </a:lnTo>
                <a:lnTo>
                  <a:pt x="1684" y="1095"/>
                </a:lnTo>
                <a:lnTo>
                  <a:pt x="1672" y="1106"/>
                </a:lnTo>
                <a:lnTo>
                  <a:pt x="1656" y="1115"/>
                </a:lnTo>
                <a:lnTo>
                  <a:pt x="1638" y="1121"/>
                </a:lnTo>
                <a:lnTo>
                  <a:pt x="1622" y="1125"/>
                </a:lnTo>
                <a:lnTo>
                  <a:pt x="1588" y="1126"/>
                </a:lnTo>
                <a:lnTo>
                  <a:pt x="1559" y="1125"/>
                </a:lnTo>
                <a:lnTo>
                  <a:pt x="1535" y="1121"/>
                </a:lnTo>
                <a:lnTo>
                  <a:pt x="1513" y="1119"/>
                </a:lnTo>
                <a:lnTo>
                  <a:pt x="1489" y="1118"/>
                </a:lnTo>
                <a:lnTo>
                  <a:pt x="1468" y="1118"/>
                </a:lnTo>
                <a:lnTo>
                  <a:pt x="1449" y="1119"/>
                </a:lnTo>
                <a:lnTo>
                  <a:pt x="1429" y="1121"/>
                </a:lnTo>
                <a:lnTo>
                  <a:pt x="1405" y="1127"/>
                </a:lnTo>
                <a:lnTo>
                  <a:pt x="1392" y="1133"/>
                </a:lnTo>
                <a:lnTo>
                  <a:pt x="1380" y="1138"/>
                </a:lnTo>
                <a:lnTo>
                  <a:pt x="1364" y="1149"/>
                </a:lnTo>
                <a:lnTo>
                  <a:pt x="1353" y="1162"/>
                </a:lnTo>
                <a:lnTo>
                  <a:pt x="1345" y="1174"/>
                </a:lnTo>
                <a:lnTo>
                  <a:pt x="1337" y="1189"/>
                </a:lnTo>
                <a:lnTo>
                  <a:pt x="1333" y="1204"/>
                </a:lnTo>
                <a:lnTo>
                  <a:pt x="1332" y="1220"/>
                </a:lnTo>
                <a:lnTo>
                  <a:pt x="1333" y="1237"/>
                </a:lnTo>
                <a:lnTo>
                  <a:pt x="1333" y="1266"/>
                </a:lnTo>
                <a:lnTo>
                  <a:pt x="1332" y="1297"/>
                </a:lnTo>
                <a:lnTo>
                  <a:pt x="1324" y="1320"/>
                </a:lnTo>
                <a:lnTo>
                  <a:pt x="1316" y="1338"/>
                </a:lnTo>
                <a:lnTo>
                  <a:pt x="1304" y="1352"/>
                </a:lnTo>
                <a:lnTo>
                  <a:pt x="1287" y="1362"/>
                </a:lnTo>
                <a:lnTo>
                  <a:pt x="1269" y="1372"/>
                </a:lnTo>
                <a:lnTo>
                  <a:pt x="1249" y="1377"/>
                </a:lnTo>
                <a:lnTo>
                  <a:pt x="1224" y="1383"/>
                </a:lnTo>
                <a:lnTo>
                  <a:pt x="1202" y="1389"/>
                </a:lnTo>
                <a:lnTo>
                  <a:pt x="1177" y="1393"/>
                </a:lnTo>
                <a:lnTo>
                  <a:pt x="1156" y="1397"/>
                </a:lnTo>
                <a:lnTo>
                  <a:pt x="1132" y="1403"/>
                </a:lnTo>
                <a:lnTo>
                  <a:pt x="1113" y="1412"/>
                </a:lnTo>
                <a:lnTo>
                  <a:pt x="1092" y="1421"/>
                </a:lnTo>
                <a:lnTo>
                  <a:pt x="1072" y="1433"/>
                </a:lnTo>
                <a:lnTo>
                  <a:pt x="1057" y="1449"/>
                </a:lnTo>
                <a:lnTo>
                  <a:pt x="1044" y="1468"/>
                </a:lnTo>
                <a:lnTo>
                  <a:pt x="1033" y="1491"/>
                </a:lnTo>
                <a:lnTo>
                  <a:pt x="1030" y="1511"/>
                </a:lnTo>
                <a:lnTo>
                  <a:pt x="1032" y="1533"/>
                </a:lnTo>
                <a:lnTo>
                  <a:pt x="1036" y="1555"/>
                </a:lnTo>
                <a:lnTo>
                  <a:pt x="1042" y="1577"/>
                </a:lnTo>
                <a:lnTo>
                  <a:pt x="1048" y="1603"/>
                </a:lnTo>
                <a:lnTo>
                  <a:pt x="1052" y="1626"/>
                </a:lnTo>
                <a:lnTo>
                  <a:pt x="1057" y="1655"/>
                </a:lnTo>
                <a:lnTo>
                  <a:pt x="1057" y="1684"/>
                </a:lnTo>
                <a:lnTo>
                  <a:pt x="1050" y="1714"/>
                </a:lnTo>
                <a:lnTo>
                  <a:pt x="1044" y="1736"/>
                </a:lnTo>
                <a:lnTo>
                  <a:pt x="1036" y="1759"/>
                </a:lnTo>
                <a:lnTo>
                  <a:pt x="1025" y="1780"/>
                </a:lnTo>
                <a:lnTo>
                  <a:pt x="1010" y="1807"/>
                </a:lnTo>
                <a:lnTo>
                  <a:pt x="994" y="1824"/>
                </a:lnTo>
                <a:lnTo>
                  <a:pt x="981" y="1837"/>
                </a:lnTo>
                <a:lnTo>
                  <a:pt x="963" y="1851"/>
                </a:lnTo>
                <a:lnTo>
                  <a:pt x="945" y="1865"/>
                </a:lnTo>
                <a:lnTo>
                  <a:pt x="927" y="1871"/>
                </a:lnTo>
                <a:lnTo>
                  <a:pt x="911" y="1875"/>
                </a:lnTo>
                <a:lnTo>
                  <a:pt x="885" y="1878"/>
                </a:lnTo>
                <a:lnTo>
                  <a:pt x="854" y="1879"/>
                </a:lnTo>
                <a:lnTo>
                  <a:pt x="817" y="1878"/>
                </a:lnTo>
                <a:lnTo>
                  <a:pt x="799" y="1878"/>
                </a:lnTo>
                <a:lnTo>
                  <a:pt x="777" y="1874"/>
                </a:lnTo>
                <a:lnTo>
                  <a:pt x="753" y="1867"/>
                </a:lnTo>
                <a:lnTo>
                  <a:pt x="731" y="1855"/>
                </a:lnTo>
                <a:lnTo>
                  <a:pt x="718" y="1845"/>
                </a:lnTo>
                <a:lnTo>
                  <a:pt x="703" y="1830"/>
                </a:lnTo>
                <a:lnTo>
                  <a:pt x="691" y="1816"/>
                </a:lnTo>
                <a:lnTo>
                  <a:pt x="679" y="1799"/>
                </a:lnTo>
                <a:lnTo>
                  <a:pt x="670" y="1782"/>
                </a:lnTo>
                <a:lnTo>
                  <a:pt x="662" y="1760"/>
                </a:lnTo>
                <a:lnTo>
                  <a:pt x="658" y="1738"/>
                </a:lnTo>
                <a:lnTo>
                  <a:pt x="656" y="1720"/>
                </a:lnTo>
                <a:lnTo>
                  <a:pt x="656" y="1696"/>
                </a:lnTo>
                <a:lnTo>
                  <a:pt x="658" y="1676"/>
                </a:lnTo>
                <a:lnTo>
                  <a:pt x="664" y="1655"/>
                </a:lnTo>
                <a:lnTo>
                  <a:pt x="670" y="1630"/>
                </a:lnTo>
                <a:lnTo>
                  <a:pt x="676" y="1606"/>
                </a:lnTo>
                <a:lnTo>
                  <a:pt x="680" y="1584"/>
                </a:lnTo>
                <a:lnTo>
                  <a:pt x="682" y="1564"/>
                </a:lnTo>
                <a:lnTo>
                  <a:pt x="680" y="1548"/>
                </a:lnTo>
                <a:lnTo>
                  <a:pt x="676" y="1532"/>
                </a:lnTo>
                <a:lnTo>
                  <a:pt x="666" y="1512"/>
                </a:lnTo>
                <a:lnTo>
                  <a:pt x="655" y="1499"/>
                </a:lnTo>
                <a:lnTo>
                  <a:pt x="642" y="1484"/>
                </a:lnTo>
                <a:lnTo>
                  <a:pt x="627" y="1473"/>
                </a:lnTo>
                <a:lnTo>
                  <a:pt x="612" y="1463"/>
                </a:lnTo>
                <a:lnTo>
                  <a:pt x="591" y="1455"/>
                </a:lnTo>
                <a:lnTo>
                  <a:pt x="572" y="1449"/>
                </a:lnTo>
                <a:lnTo>
                  <a:pt x="548" y="1444"/>
                </a:lnTo>
                <a:lnTo>
                  <a:pt x="527" y="1441"/>
                </a:lnTo>
                <a:lnTo>
                  <a:pt x="507" y="1436"/>
                </a:lnTo>
                <a:lnTo>
                  <a:pt x="483" y="1431"/>
                </a:lnTo>
                <a:lnTo>
                  <a:pt x="463" y="1423"/>
                </a:lnTo>
                <a:lnTo>
                  <a:pt x="439" y="1416"/>
                </a:lnTo>
                <a:lnTo>
                  <a:pt x="420" y="1408"/>
                </a:lnTo>
                <a:lnTo>
                  <a:pt x="405" y="1396"/>
                </a:lnTo>
                <a:lnTo>
                  <a:pt x="393" y="1380"/>
                </a:lnTo>
                <a:lnTo>
                  <a:pt x="385" y="1360"/>
                </a:lnTo>
                <a:lnTo>
                  <a:pt x="379" y="1333"/>
                </a:lnTo>
                <a:lnTo>
                  <a:pt x="377" y="1312"/>
                </a:lnTo>
                <a:lnTo>
                  <a:pt x="379" y="1288"/>
                </a:lnTo>
                <a:lnTo>
                  <a:pt x="381" y="1269"/>
                </a:lnTo>
                <a:lnTo>
                  <a:pt x="379" y="1246"/>
                </a:lnTo>
                <a:lnTo>
                  <a:pt x="372" y="1229"/>
                </a:lnTo>
                <a:lnTo>
                  <a:pt x="360" y="1210"/>
                </a:lnTo>
                <a:lnTo>
                  <a:pt x="348" y="1198"/>
                </a:lnTo>
                <a:lnTo>
                  <a:pt x="333" y="1186"/>
                </a:lnTo>
                <a:lnTo>
                  <a:pt x="313" y="1178"/>
                </a:lnTo>
                <a:lnTo>
                  <a:pt x="291" y="1170"/>
                </a:lnTo>
                <a:lnTo>
                  <a:pt x="267" y="1168"/>
                </a:lnTo>
                <a:lnTo>
                  <a:pt x="247" y="1165"/>
                </a:lnTo>
                <a:lnTo>
                  <a:pt x="224" y="1165"/>
                </a:lnTo>
                <a:lnTo>
                  <a:pt x="204" y="1168"/>
                </a:lnTo>
                <a:lnTo>
                  <a:pt x="184" y="1169"/>
                </a:lnTo>
                <a:lnTo>
                  <a:pt x="164" y="1172"/>
                </a:lnTo>
                <a:lnTo>
                  <a:pt x="144" y="1174"/>
                </a:lnTo>
                <a:lnTo>
                  <a:pt x="110" y="1174"/>
                </a:lnTo>
                <a:lnTo>
                  <a:pt x="89" y="1173"/>
                </a:lnTo>
                <a:lnTo>
                  <a:pt x="66" y="1168"/>
                </a:lnTo>
                <a:lnTo>
                  <a:pt x="50" y="1160"/>
                </a:lnTo>
                <a:lnTo>
                  <a:pt x="33" y="1146"/>
                </a:lnTo>
                <a:lnTo>
                  <a:pt x="21" y="1131"/>
                </a:lnTo>
                <a:lnTo>
                  <a:pt x="13" y="1115"/>
                </a:lnTo>
                <a:lnTo>
                  <a:pt x="4" y="1085"/>
                </a:lnTo>
                <a:lnTo>
                  <a:pt x="2" y="1053"/>
                </a:lnTo>
                <a:lnTo>
                  <a:pt x="1" y="1021"/>
                </a:lnTo>
                <a:lnTo>
                  <a:pt x="0" y="981"/>
                </a:lnTo>
                <a:lnTo>
                  <a:pt x="2" y="946"/>
                </a:lnTo>
                <a:lnTo>
                  <a:pt x="4" y="908"/>
                </a:lnTo>
                <a:lnTo>
                  <a:pt x="5" y="875"/>
                </a:lnTo>
                <a:lnTo>
                  <a:pt x="8" y="840"/>
                </a:lnTo>
                <a:lnTo>
                  <a:pt x="12" y="814"/>
                </a:lnTo>
                <a:lnTo>
                  <a:pt x="16" y="784"/>
                </a:lnTo>
                <a:lnTo>
                  <a:pt x="21" y="762"/>
                </a:lnTo>
                <a:lnTo>
                  <a:pt x="29" y="747"/>
                </a:lnTo>
                <a:lnTo>
                  <a:pt x="41" y="732"/>
                </a:lnTo>
                <a:lnTo>
                  <a:pt x="53" y="723"/>
                </a:lnTo>
                <a:lnTo>
                  <a:pt x="69" y="712"/>
                </a:lnTo>
                <a:lnTo>
                  <a:pt x="84" y="710"/>
                </a:lnTo>
                <a:lnTo>
                  <a:pt x="102" y="706"/>
                </a:lnTo>
                <a:lnTo>
                  <a:pt x="126" y="704"/>
                </a:lnTo>
                <a:lnTo>
                  <a:pt x="148" y="706"/>
                </a:lnTo>
                <a:lnTo>
                  <a:pt x="177" y="710"/>
                </a:lnTo>
                <a:lnTo>
                  <a:pt x="202" y="711"/>
                </a:lnTo>
                <a:lnTo>
                  <a:pt x="224" y="712"/>
                </a:lnTo>
                <a:lnTo>
                  <a:pt x="253" y="714"/>
                </a:lnTo>
                <a:lnTo>
                  <a:pt x="284" y="710"/>
                </a:lnTo>
                <a:lnTo>
                  <a:pt x="309" y="704"/>
                </a:lnTo>
                <a:lnTo>
                  <a:pt x="333" y="695"/>
                </a:lnTo>
                <a:lnTo>
                  <a:pt x="349" y="685"/>
                </a:lnTo>
                <a:lnTo>
                  <a:pt x="365" y="671"/>
                </a:lnTo>
                <a:lnTo>
                  <a:pt x="377" y="652"/>
                </a:lnTo>
                <a:lnTo>
                  <a:pt x="385" y="633"/>
                </a:lnTo>
                <a:lnTo>
                  <a:pt x="388" y="613"/>
                </a:lnTo>
                <a:lnTo>
                  <a:pt x="387" y="599"/>
                </a:lnTo>
                <a:lnTo>
                  <a:pt x="385" y="571"/>
                </a:lnTo>
                <a:lnTo>
                  <a:pt x="387" y="543"/>
                </a:lnTo>
                <a:lnTo>
                  <a:pt x="392" y="521"/>
                </a:lnTo>
                <a:lnTo>
                  <a:pt x="399" y="501"/>
                </a:lnTo>
                <a:lnTo>
                  <a:pt x="408" y="487"/>
                </a:lnTo>
                <a:lnTo>
                  <a:pt x="427" y="472"/>
                </a:lnTo>
                <a:lnTo>
                  <a:pt x="447" y="461"/>
                </a:lnTo>
                <a:lnTo>
                  <a:pt x="472" y="453"/>
                </a:lnTo>
                <a:lnTo>
                  <a:pt x="498" y="446"/>
                </a:lnTo>
                <a:lnTo>
                  <a:pt x="519" y="441"/>
                </a:lnTo>
                <a:lnTo>
                  <a:pt x="546" y="437"/>
                </a:lnTo>
                <a:lnTo>
                  <a:pt x="571" y="432"/>
                </a:lnTo>
                <a:lnTo>
                  <a:pt x="600" y="424"/>
                </a:lnTo>
                <a:lnTo>
                  <a:pt x="628" y="412"/>
                </a:lnTo>
                <a:lnTo>
                  <a:pt x="652" y="393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90840" y="4395960"/>
            <a:ext cx="210816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1c1c1c"/>
                </a:solidFill>
                <a:latin typeface="Angsana New"/>
              </a:rPr>
              <a:t>ประกันคุณภาพ</a:t>
            </a:r>
            <a:r>
              <a:rPr b="1" lang="th-TH" sz="2800" spc="-1" strike="noStrike">
                <a:solidFill>
                  <a:srgbClr val="1c1c1c"/>
                </a:solidFill>
                <a:latin typeface="Angsana New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1c1c1c"/>
                </a:solidFill>
                <a:latin typeface="Angsana New"/>
              </a:rPr>
              <a:t>กพร</a:t>
            </a:r>
            <a:r>
              <a:rPr b="1" lang="th-TH" sz="2800" spc="-1" strike="noStrike">
                <a:solidFill>
                  <a:srgbClr val="1c1c1c"/>
                </a:solidFill>
                <a:latin typeface="Angsana Ne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35280" y="2479680"/>
            <a:ext cx="5257800" cy="504720"/>
          </a:xfrm>
          <a:prstGeom prst="upArrowCallout">
            <a:avLst>
              <a:gd name="adj1" fmla="val 74857"/>
              <a:gd name="adj2" fmla="val 129251"/>
              <a:gd name="adj3" fmla="val 16667"/>
              <a:gd name="adj4" fmla="val 6666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5375160" y="4298760"/>
            <a:ext cx="2906640" cy="608040"/>
          </a:xfrm>
          <a:prstGeom prst="upArrowCallout">
            <a:avLst>
              <a:gd name="adj1" fmla="val 34351"/>
              <a:gd name="adj2" fmla="val 59312"/>
              <a:gd name="adj3" fmla="val 16667"/>
              <a:gd name="adj4" fmla="val 6666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5596560" y="4204440"/>
            <a:ext cx="2951280" cy="825480"/>
          </a:xfrm>
          <a:prstGeom prst="rect">
            <a:avLst/>
          </a:prstGeom>
          <a:solidFill>
            <a:srgbClr val="cce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ส่วนงานอื่น    ส่วนสนับสนุ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671760" y="4312440"/>
            <a:ext cx="2928960" cy="603000"/>
          </a:xfrm>
          <a:prstGeom prst="upArrowCallout">
            <a:avLst>
              <a:gd name="adj1" fmla="val 34904"/>
              <a:gd name="adj2" fmla="val 60267"/>
              <a:gd name="adj3" fmla="val 16667"/>
              <a:gd name="adj4" fmla="val 6666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824400" y="440136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ส่วนงานวิชา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94080" y="3032280"/>
            <a:ext cx="358920" cy="142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03640" y="2583000"/>
            <a:ext cx="24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คณะกรรมการผู้บริห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3640" y="6062760"/>
            <a:ext cx="5400720" cy="574560"/>
          </a:xfrm>
          <a:prstGeom prst="upArrowCallout">
            <a:avLst>
              <a:gd name="adj1" fmla="val 67545"/>
              <a:gd name="adj2" fmla="val 116626"/>
              <a:gd name="adj3" fmla="val 16667"/>
              <a:gd name="adj4" fmla="val 6666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41440" y="6211800"/>
            <a:ext cx="424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คณะทำงานด้านยุทธศาสตร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ส่วนแผ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05440" y="6375240"/>
            <a:ext cx="25196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ngsana New"/>
                <a:hlinkClick r:id="rId2"/>
              </a:rPr>
              <a:t>Link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ngsana New"/>
                <a:hlinkClick r:id="rId3"/>
              </a:rPr>
              <a:t> </a:t>
            </a:r>
            <a:r>
              <a:rPr b="0" lang="th-TH" sz="1800" spc="-1" strike="noStrike" u="sng">
                <a:solidFill>
                  <a:srgbClr val="ff0000"/>
                </a:solidFill>
                <a:uFillTx/>
                <a:latin typeface="Angsana New"/>
                <a:hlinkClick r:id="rId4"/>
              </a:rPr>
              <a:t>ภาพที่ 4, 5,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2247000">
            <a:off x="4815360" y="124092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 A R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35440" y="119700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48000" y="152568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184464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00400" y="21668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7792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th-TH" sz="3200" spc="-1" strike="noStrike">
                <a:solidFill>
                  <a:srgbClr val="333399"/>
                </a:solidFill>
                <a:latin typeface="Arial Unicode MS"/>
                <a:cs typeface="Arial Unicode MS"/>
              </a:rPr>
              <a:t>การตอบชุดคำถามเครื่องมือ </a:t>
            </a:r>
            <a:r>
              <a:rPr b="1" lang="en-US" sz="32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PART </a:t>
            </a:r>
            <a:r>
              <a:rPr b="1" lang="th-TH" sz="3200" spc="-1" strike="noStrike">
                <a:solidFill>
                  <a:srgbClr val="333399"/>
                </a:solidFill>
                <a:latin typeface="Arial Unicode MS"/>
                <a:cs typeface="Arial Unicode MS"/>
              </a:rPr>
              <a:t>ปี </a:t>
            </a:r>
            <a:r>
              <a:rPr b="1" lang="th-TH" sz="32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50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4720" y="2549520"/>
            <a:ext cx="8460000" cy="31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สรุปคะแนนการประเมินผลด้วยเครื่องมือ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RT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ปี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50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ของ สจล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0000"/>
                </a:solidFill>
                <a:uFillTx/>
                <a:latin typeface="Arial Unicode MS"/>
                <a:cs typeface="Arial Unicode MS"/>
              </a:rPr>
              <a:t>ตัวอย่าง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th-TH" sz="2400" spc="-1" strike="noStrike" u="sng">
                <a:solidFill>
                  <a:srgbClr val="ff0000"/>
                </a:solidFill>
                <a:uFillTx/>
                <a:latin typeface="Arial Unicode MS"/>
                <a:cs typeface="Arial Unicode MS"/>
                <a:hlinkClick r:id="rId2"/>
              </a:rPr>
              <a:t>การตอบชุดคำถาม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ผลผลิต ผู้สำเร็จการศึกษาด้านวิทยาศาสตร์และเทคโนโลย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5724360" y="6067440"/>
            <a:ext cx="28800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gsana New"/>
              </a:rPr>
              <a:t>Link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h-TH" sz="18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สรุปคะแนนรายงานผล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6920" y="244080"/>
            <a:ext cx="69138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333399"/>
                </a:solidFill>
                <a:latin typeface="Arial Unicode MS"/>
                <a:cs typeface="Arial Unicode MS"/>
              </a:rPr>
              <a:t>การจัดเตรียมเอกสารอ้างอิง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2669760"/>
            <a:ext cx="7848720" cy="31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SzPct val="60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ส่วนแผนงาน จัดเตรียมและตรวจสอบเอกสารที่ใช้อ้างอิงการตอบชุดคำถาม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SzPct val="60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จัดทำสรุปชื่อเอกสารอ้างอิงทั้งหมด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5508720" y="5985000"/>
            <a:ext cx="2519280" cy="7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</a:rPr>
              <a:t>Link :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2000" spc="-1" strike="noStrike" u="sng">
                <a:solidFill>
                  <a:srgbClr val="ff0000"/>
                </a:solidFill>
                <a:uFillTx/>
                <a:latin typeface="Angsana New"/>
                <a:hlinkClick r:id="rId2"/>
              </a:rPr>
              <a:t>แบบสรุปเอกสารอ้างอิ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539640" y="2530080"/>
            <a:ext cx="8282160" cy="20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คำถามในเครื่องมือ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RT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ค่อนข้างเข้าใจยาก ต้องใช้เวลาพอสมควร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ระยะเวลาในการจัดทำน้อย จึงทำให้มีคนรู้เรื่องนี้ยังไม่มากนั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1360" indent="-44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ขาดแรงจูงใจทำ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RT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Arial Unicode MS"/>
                <a:cs typeface="Arial Unicode MS"/>
              </a:rPr>
              <a:t>แล้วได้อะไร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595080" y="2361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333399"/>
                </a:solidFill>
                <a:latin typeface="Arial Unicode MS"/>
                <a:cs typeface="Arial Unicode MS"/>
              </a:rPr>
              <a:t>ปัญหา – อุปสรรคในปี </a:t>
            </a:r>
            <a:r>
              <a:rPr b="1" lang="en-US" sz="4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5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-757440" y="1090440"/>
            <a:ext cx="8281800" cy="10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13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ccff66"/>
                </a:solidFill>
                <a:latin typeface="Arial Unicode MS"/>
                <a:cs typeface="Arial Unicode MS"/>
              </a:rPr>
              <a:t>จบการนำเสนอค่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2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2:48:36Z</dcterms:created>
  <dc:creator>Your User Name</dc:creator>
  <dc:description/>
  <dc:language>en-US</dc:language>
  <cp:lastModifiedBy>hom</cp:lastModifiedBy>
  <dcterms:modified xsi:type="dcterms:W3CDTF">2009-01-12T12:15:29Z</dcterms:modified>
  <cp:revision>109</cp:revision>
  <dc:subject/>
  <dc:title>แนวทางการจัดทำคำรับรองการปฏิบัติราชการ และการประเมินผลของหน่วยงานระดับคณะ/กอง ประจำปีงบประมาณ พ.ศ. 2551</dc:title>
</cp:coreProperties>
</file>