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801600" cy="9601200"/>
  <p:notesSz cx="140938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60480" y="853560"/>
            <a:ext cx="10880640" cy="1600200"/>
          </a:xfrm>
          <a:prstGeom prst="rect">
            <a:avLst/>
          </a:prstGeom>
          <a:noFill/>
          <a:ln w="0">
            <a:noFill/>
          </a:ln>
        </p:spPr>
        <p:txBody>
          <a:bodyPr lIns="135000" rIns="135000" tIns="67680" bIns="67680" anchor="ctr">
            <a:noAutofit/>
          </a:bodyPr>
          <a:p>
            <a:pPr indent="0" algn="ctr">
              <a:buNone/>
              <a:tabLst>
                <a:tab algn="l" pos="0"/>
                <a:tab algn="l" pos="1117440"/>
                <a:tab algn="l" pos="2235240"/>
                <a:tab algn="l" pos="3352680"/>
                <a:tab algn="l" pos="4470480"/>
                <a:tab algn="l" pos="5587920"/>
                <a:tab algn="l" pos="6705720"/>
                <a:tab algn="l" pos="7823160"/>
                <a:tab algn="l" pos="894096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60480" y="2773080"/>
            <a:ext cx="10880640" cy="2747880"/>
          </a:xfrm>
          <a:prstGeom prst="rect">
            <a:avLst/>
          </a:prstGeom>
          <a:noFill/>
          <a:ln w="0">
            <a:noFill/>
          </a:ln>
        </p:spPr>
        <p:txBody>
          <a:bodyPr lIns="135000" rIns="135000" tIns="67680" bIns="676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117440"/>
                <a:tab algn="l" pos="2235240"/>
                <a:tab algn="l" pos="3352680"/>
                <a:tab algn="l" pos="4470480"/>
                <a:tab algn="l" pos="5587920"/>
                <a:tab algn="l" pos="6705720"/>
                <a:tab algn="l" pos="7823160"/>
                <a:tab algn="l" pos="894096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60480" y="5782320"/>
            <a:ext cx="10880640" cy="2747880"/>
          </a:xfrm>
          <a:prstGeom prst="rect">
            <a:avLst/>
          </a:prstGeom>
          <a:noFill/>
          <a:ln w="0">
            <a:noFill/>
          </a:ln>
        </p:spPr>
        <p:txBody>
          <a:bodyPr lIns="135000" rIns="135000" tIns="67680" bIns="676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117440"/>
                <a:tab algn="l" pos="2235240"/>
                <a:tab algn="l" pos="3352680"/>
                <a:tab algn="l" pos="4470480"/>
                <a:tab algn="l" pos="5587920"/>
                <a:tab algn="l" pos="6705720"/>
                <a:tab algn="l" pos="7823160"/>
                <a:tab algn="l" pos="894096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60480" y="853560"/>
            <a:ext cx="10880640" cy="1600200"/>
          </a:xfrm>
          <a:prstGeom prst="rect">
            <a:avLst/>
          </a:prstGeom>
          <a:noFill/>
          <a:ln w="0">
            <a:noFill/>
          </a:ln>
        </p:spPr>
        <p:txBody>
          <a:bodyPr lIns="135000" rIns="135000" tIns="67680" bIns="67680" anchor="ctr">
            <a:noAutofit/>
          </a:bodyPr>
          <a:p>
            <a:pPr indent="0" algn="ctr">
              <a:buNone/>
              <a:tabLst>
                <a:tab algn="l" pos="0"/>
                <a:tab algn="l" pos="1117440"/>
                <a:tab algn="l" pos="2235240"/>
                <a:tab algn="l" pos="3352680"/>
                <a:tab algn="l" pos="4470480"/>
                <a:tab algn="l" pos="5587920"/>
                <a:tab algn="l" pos="6705720"/>
                <a:tab algn="l" pos="7823160"/>
                <a:tab algn="l" pos="894096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60480" y="2773080"/>
            <a:ext cx="5309640" cy="2747880"/>
          </a:xfrm>
          <a:prstGeom prst="rect">
            <a:avLst/>
          </a:prstGeom>
          <a:noFill/>
          <a:ln w="0">
            <a:noFill/>
          </a:ln>
        </p:spPr>
        <p:txBody>
          <a:bodyPr lIns="135000" rIns="135000" tIns="67680" bIns="676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117440"/>
                <a:tab algn="l" pos="2235240"/>
                <a:tab algn="l" pos="3352680"/>
                <a:tab algn="l" pos="4470480"/>
                <a:tab algn="l" pos="5587920"/>
                <a:tab algn="l" pos="6705720"/>
                <a:tab algn="l" pos="7823160"/>
                <a:tab algn="l" pos="894096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36160" y="2773080"/>
            <a:ext cx="5309640" cy="2747880"/>
          </a:xfrm>
          <a:prstGeom prst="rect">
            <a:avLst/>
          </a:prstGeom>
          <a:noFill/>
          <a:ln w="0">
            <a:noFill/>
          </a:ln>
        </p:spPr>
        <p:txBody>
          <a:bodyPr lIns="135000" rIns="135000" tIns="67680" bIns="676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117440"/>
                <a:tab algn="l" pos="2235240"/>
                <a:tab algn="l" pos="3352680"/>
                <a:tab algn="l" pos="4470480"/>
                <a:tab algn="l" pos="5587920"/>
                <a:tab algn="l" pos="6705720"/>
                <a:tab algn="l" pos="7823160"/>
                <a:tab algn="l" pos="894096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60480" y="5782320"/>
            <a:ext cx="5309640" cy="2747880"/>
          </a:xfrm>
          <a:prstGeom prst="rect">
            <a:avLst/>
          </a:prstGeom>
          <a:noFill/>
          <a:ln w="0">
            <a:noFill/>
          </a:ln>
        </p:spPr>
        <p:txBody>
          <a:bodyPr lIns="135000" rIns="135000" tIns="67680" bIns="676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117440"/>
                <a:tab algn="l" pos="2235240"/>
                <a:tab algn="l" pos="3352680"/>
                <a:tab algn="l" pos="4470480"/>
                <a:tab algn="l" pos="5587920"/>
                <a:tab algn="l" pos="6705720"/>
                <a:tab algn="l" pos="7823160"/>
                <a:tab algn="l" pos="894096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536160" y="5782320"/>
            <a:ext cx="5309640" cy="2747880"/>
          </a:xfrm>
          <a:prstGeom prst="rect">
            <a:avLst/>
          </a:prstGeom>
          <a:noFill/>
          <a:ln w="0">
            <a:noFill/>
          </a:ln>
        </p:spPr>
        <p:txBody>
          <a:bodyPr lIns="135000" rIns="135000" tIns="67680" bIns="676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117440"/>
                <a:tab algn="l" pos="2235240"/>
                <a:tab algn="l" pos="3352680"/>
                <a:tab algn="l" pos="4470480"/>
                <a:tab algn="l" pos="5587920"/>
                <a:tab algn="l" pos="6705720"/>
                <a:tab algn="l" pos="7823160"/>
                <a:tab algn="l" pos="894096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0480" y="853560"/>
            <a:ext cx="10880640" cy="1600200"/>
          </a:xfrm>
          <a:prstGeom prst="rect">
            <a:avLst/>
          </a:prstGeom>
          <a:noFill/>
          <a:ln w="0">
            <a:noFill/>
          </a:ln>
        </p:spPr>
        <p:txBody>
          <a:bodyPr lIns="135000" rIns="135000" tIns="67680" bIns="67680" anchor="ctr">
            <a:noAutofit/>
          </a:bodyPr>
          <a:p>
            <a:pPr indent="0" algn="ctr">
              <a:buNone/>
              <a:tabLst>
                <a:tab algn="l" pos="0"/>
                <a:tab algn="l" pos="1117440"/>
                <a:tab algn="l" pos="2235240"/>
                <a:tab algn="l" pos="3352680"/>
                <a:tab algn="l" pos="4470480"/>
                <a:tab algn="l" pos="5587920"/>
                <a:tab algn="l" pos="6705720"/>
                <a:tab algn="l" pos="7823160"/>
                <a:tab algn="l" pos="894096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60480" y="2773080"/>
            <a:ext cx="3503160" cy="2747880"/>
          </a:xfrm>
          <a:prstGeom prst="rect">
            <a:avLst/>
          </a:prstGeom>
          <a:noFill/>
          <a:ln w="0">
            <a:noFill/>
          </a:ln>
        </p:spPr>
        <p:txBody>
          <a:bodyPr lIns="135000" rIns="135000" tIns="67680" bIns="676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117440"/>
                <a:tab algn="l" pos="2235240"/>
                <a:tab algn="l" pos="3352680"/>
                <a:tab algn="l" pos="4470480"/>
                <a:tab algn="l" pos="5587920"/>
                <a:tab algn="l" pos="6705720"/>
                <a:tab algn="l" pos="7823160"/>
                <a:tab algn="l" pos="894096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9320" y="2773080"/>
            <a:ext cx="3503160" cy="2747880"/>
          </a:xfrm>
          <a:prstGeom prst="rect">
            <a:avLst/>
          </a:prstGeom>
          <a:noFill/>
          <a:ln w="0">
            <a:noFill/>
          </a:ln>
        </p:spPr>
        <p:txBody>
          <a:bodyPr lIns="135000" rIns="135000" tIns="67680" bIns="676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117440"/>
                <a:tab algn="l" pos="2235240"/>
                <a:tab algn="l" pos="3352680"/>
                <a:tab algn="l" pos="4470480"/>
                <a:tab algn="l" pos="5587920"/>
                <a:tab algn="l" pos="6705720"/>
                <a:tab algn="l" pos="7823160"/>
                <a:tab algn="l" pos="894096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17800" y="2773080"/>
            <a:ext cx="3503160" cy="2747880"/>
          </a:xfrm>
          <a:prstGeom prst="rect">
            <a:avLst/>
          </a:prstGeom>
          <a:noFill/>
          <a:ln w="0">
            <a:noFill/>
          </a:ln>
        </p:spPr>
        <p:txBody>
          <a:bodyPr lIns="135000" rIns="135000" tIns="67680" bIns="676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117440"/>
                <a:tab algn="l" pos="2235240"/>
                <a:tab algn="l" pos="3352680"/>
                <a:tab algn="l" pos="4470480"/>
                <a:tab algn="l" pos="5587920"/>
                <a:tab algn="l" pos="6705720"/>
                <a:tab algn="l" pos="7823160"/>
                <a:tab algn="l" pos="894096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60480" y="5782320"/>
            <a:ext cx="3503160" cy="2747880"/>
          </a:xfrm>
          <a:prstGeom prst="rect">
            <a:avLst/>
          </a:prstGeom>
          <a:noFill/>
          <a:ln w="0">
            <a:noFill/>
          </a:ln>
        </p:spPr>
        <p:txBody>
          <a:bodyPr lIns="135000" rIns="135000" tIns="67680" bIns="676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117440"/>
                <a:tab algn="l" pos="2235240"/>
                <a:tab algn="l" pos="3352680"/>
                <a:tab algn="l" pos="4470480"/>
                <a:tab algn="l" pos="5587920"/>
                <a:tab algn="l" pos="6705720"/>
                <a:tab algn="l" pos="7823160"/>
                <a:tab algn="l" pos="894096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639320" y="5782320"/>
            <a:ext cx="3503160" cy="2747880"/>
          </a:xfrm>
          <a:prstGeom prst="rect">
            <a:avLst/>
          </a:prstGeom>
          <a:noFill/>
          <a:ln w="0">
            <a:noFill/>
          </a:ln>
        </p:spPr>
        <p:txBody>
          <a:bodyPr lIns="135000" rIns="135000" tIns="67680" bIns="676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117440"/>
                <a:tab algn="l" pos="2235240"/>
                <a:tab algn="l" pos="3352680"/>
                <a:tab algn="l" pos="4470480"/>
                <a:tab algn="l" pos="5587920"/>
                <a:tab algn="l" pos="6705720"/>
                <a:tab algn="l" pos="7823160"/>
                <a:tab algn="l" pos="894096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317800" y="5782320"/>
            <a:ext cx="3503160" cy="2747880"/>
          </a:xfrm>
          <a:prstGeom prst="rect">
            <a:avLst/>
          </a:prstGeom>
          <a:noFill/>
          <a:ln w="0">
            <a:noFill/>
          </a:ln>
        </p:spPr>
        <p:txBody>
          <a:bodyPr lIns="135000" rIns="135000" tIns="67680" bIns="676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117440"/>
                <a:tab algn="l" pos="2235240"/>
                <a:tab algn="l" pos="3352680"/>
                <a:tab algn="l" pos="4470480"/>
                <a:tab algn="l" pos="5587920"/>
                <a:tab algn="l" pos="6705720"/>
                <a:tab algn="l" pos="7823160"/>
                <a:tab algn="l" pos="894096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60480" y="853560"/>
            <a:ext cx="10880640" cy="1600200"/>
          </a:xfrm>
          <a:prstGeom prst="rect">
            <a:avLst/>
          </a:prstGeom>
          <a:noFill/>
          <a:ln w="0">
            <a:noFill/>
          </a:ln>
        </p:spPr>
        <p:txBody>
          <a:bodyPr lIns="135000" rIns="135000" tIns="67680" bIns="67680" anchor="ctr">
            <a:noAutofit/>
          </a:bodyPr>
          <a:p>
            <a:pPr indent="0" algn="ctr">
              <a:buNone/>
              <a:tabLst>
                <a:tab algn="l" pos="0"/>
                <a:tab algn="l" pos="1117440"/>
                <a:tab algn="l" pos="2235240"/>
                <a:tab algn="l" pos="3352680"/>
                <a:tab algn="l" pos="4470480"/>
                <a:tab algn="l" pos="5587920"/>
                <a:tab algn="l" pos="6705720"/>
                <a:tab algn="l" pos="7823160"/>
                <a:tab algn="l" pos="894096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60480" y="2773080"/>
            <a:ext cx="1088064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117440"/>
                <a:tab algn="l" pos="2235240"/>
                <a:tab algn="l" pos="3352680"/>
                <a:tab algn="l" pos="4470480"/>
                <a:tab algn="l" pos="5587920"/>
                <a:tab algn="l" pos="6705720"/>
                <a:tab algn="l" pos="7823160"/>
                <a:tab algn="l" pos="894096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60480" y="853560"/>
            <a:ext cx="10880640" cy="1600200"/>
          </a:xfrm>
          <a:prstGeom prst="rect">
            <a:avLst/>
          </a:prstGeom>
          <a:noFill/>
          <a:ln w="0">
            <a:noFill/>
          </a:ln>
        </p:spPr>
        <p:txBody>
          <a:bodyPr lIns="135000" rIns="135000" tIns="67680" bIns="67680" anchor="ctr">
            <a:noAutofit/>
          </a:bodyPr>
          <a:p>
            <a:pPr indent="0" algn="ctr">
              <a:buNone/>
              <a:tabLst>
                <a:tab algn="l" pos="0"/>
                <a:tab algn="l" pos="1117440"/>
                <a:tab algn="l" pos="2235240"/>
                <a:tab algn="l" pos="3352680"/>
                <a:tab algn="l" pos="4470480"/>
                <a:tab algn="l" pos="5587920"/>
                <a:tab algn="l" pos="6705720"/>
                <a:tab algn="l" pos="7823160"/>
                <a:tab algn="l" pos="894096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60480" y="2773080"/>
            <a:ext cx="10880640" cy="5761080"/>
          </a:xfrm>
          <a:prstGeom prst="rect">
            <a:avLst/>
          </a:prstGeom>
          <a:noFill/>
          <a:ln w="0">
            <a:noFill/>
          </a:ln>
        </p:spPr>
        <p:txBody>
          <a:bodyPr lIns="135000" rIns="135000" tIns="67680" bIns="676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117440"/>
                <a:tab algn="l" pos="2235240"/>
                <a:tab algn="l" pos="3352680"/>
                <a:tab algn="l" pos="4470480"/>
                <a:tab algn="l" pos="5587920"/>
                <a:tab algn="l" pos="6705720"/>
                <a:tab algn="l" pos="7823160"/>
                <a:tab algn="l" pos="894096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60480" y="853560"/>
            <a:ext cx="10880640" cy="1600200"/>
          </a:xfrm>
          <a:prstGeom prst="rect">
            <a:avLst/>
          </a:prstGeom>
          <a:noFill/>
          <a:ln w="0">
            <a:noFill/>
          </a:ln>
        </p:spPr>
        <p:txBody>
          <a:bodyPr lIns="135000" rIns="135000" tIns="67680" bIns="67680" anchor="ctr">
            <a:noAutofit/>
          </a:bodyPr>
          <a:p>
            <a:pPr indent="0" algn="ctr">
              <a:buNone/>
              <a:tabLst>
                <a:tab algn="l" pos="0"/>
                <a:tab algn="l" pos="1117440"/>
                <a:tab algn="l" pos="2235240"/>
                <a:tab algn="l" pos="3352680"/>
                <a:tab algn="l" pos="4470480"/>
                <a:tab algn="l" pos="5587920"/>
                <a:tab algn="l" pos="6705720"/>
                <a:tab algn="l" pos="7823160"/>
                <a:tab algn="l" pos="894096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60480" y="2773080"/>
            <a:ext cx="5309640" cy="5761080"/>
          </a:xfrm>
          <a:prstGeom prst="rect">
            <a:avLst/>
          </a:prstGeom>
          <a:noFill/>
          <a:ln w="0">
            <a:noFill/>
          </a:ln>
        </p:spPr>
        <p:txBody>
          <a:bodyPr lIns="135000" rIns="135000" tIns="67680" bIns="676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117440"/>
                <a:tab algn="l" pos="2235240"/>
                <a:tab algn="l" pos="3352680"/>
                <a:tab algn="l" pos="4470480"/>
                <a:tab algn="l" pos="5587920"/>
                <a:tab algn="l" pos="6705720"/>
                <a:tab algn="l" pos="7823160"/>
                <a:tab algn="l" pos="894096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536160" y="2773080"/>
            <a:ext cx="5309640" cy="5761080"/>
          </a:xfrm>
          <a:prstGeom prst="rect">
            <a:avLst/>
          </a:prstGeom>
          <a:noFill/>
          <a:ln w="0">
            <a:noFill/>
          </a:ln>
        </p:spPr>
        <p:txBody>
          <a:bodyPr lIns="135000" rIns="135000" tIns="67680" bIns="676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117440"/>
                <a:tab algn="l" pos="2235240"/>
                <a:tab algn="l" pos="3352680"/>
                <a:tab algn="l" pos="4470480"/>
                <a:tab algn="l" pos="5587920"/>
                <a:tab algn="l" pos="6705720"/>
                <a:tab algn="l" pos="7823160"/>
                <a:tab algn="l" pos="894096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0480" y="853560"/>
            <a:ext cx="10880640" cy="1600200"/>
          </a:xfrm>
          <a:prstGeom prst="rect">
            <a:avLst/>
          </a:prstGeom>
          <a:noFill/>
          <a:ln w="0">
            <a:noFill/>
          </a:ln>
        </p:spPr>
        <p:txBody>
          <a:bodyPr lIns="135000" rIns="135000" tIns="67680" bIns="67680" anchor="ctr">
            <a:noAutofit/>
          </a:bodyPr>
          <a:p>
            <a:pPr indent="0" algn="ctr">
              <a:buNone/>
              <a:tabLst>
                <a:tab algn="l" pos="0"/>
                <a:tab algn="l" pos="1117440"/>
                <a:tab algn="l" pos="2235240"/>
                <a:tab algn="l" pos="3352680"/>
                <a:tab algn="l" pos="4470480"/>
                <a:tab algn="l" pos="5587920"/>
                <a:tab algn="l" pos="6705720"/>
                <a:tab algn="l" pos="7823160"/>
                <a:tab algn="l" pos="894096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60480" y="853560"/>
            <a:ext cx="1088064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117440"/>
                <a:tab algn="l" pos="2235240"/>
                <a:tab algn="l" pos="3352680"/>
                <a:tab algn="l" pos="4470480"/>
                <a:tab algn="l" pos="5587920"/>
                <a:tab algn="l" pos="6705720"/>
                <a:tab algn="l" pos="7823160"/>
                <a:tab algn="l" pos="894096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0480" y="853560"/>
            <a:ext cx="10880640" cy="1600200"/>
          </a:xfrm>
          <a:prstGeom prst="rect">
            <a:avLst/>
          </a:prstGeom>
          <a:noFill/>
          <a:ln w="0">
            <a:noFill/>
          </a:ln>
        </p:spPr>
        <p:txBody>
          <a:bodyPr lIns="135000" rIns="135000" tIns="67680" bIns="67680" anchor="ctr">
            <a:noAutofit/>
          </a:bodyPr>
          <a:p>
            <a:pPr indent="0" algn="ctr">
              <a:buNone/>
              <a:tabLst>
                <a:tab algn="l" pos="0"/>
                <a:tab algn="l" pos="1117440"/>
                <a:tab algn="l" pos="2235240"/>
                <a:tab algn="l" pos="3352680"/>
                <a:tab algn="l" pos="4470480"/>
                <a:tab algn="l" pos="5587920"/>
                <a:tab algn="l" pos="6705720"/>
                <a:tab algn="l" pos="7823160"/>
                <a:tab algn="l" pos="894096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60480" y="2773080"/>
            <a:ext cx="5309640" cy="2747880"/>
          </a:xfrm>
          <a:prstGeom prst="rect">
            <a:avLst/>
          </a:prstGeom>
          <a:noFill/>
          <a:ln w="0">
            <a:noFill/>
          </a:ln>
        </p:spPr>
        <p:txBody>
          <a:bodyPr lIns="135000" rIns="135000" tIns="67680" bIns="676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117440"/>
                <a:tab algn="l" pos="2235240"/>
                <a:tab algn="l" pos="3352680"/>
                <a:tab algn="l" pos="4470480"/>
                <a:tab algn="l" pos="5587920"/>
                <a:tab algn="l" pos="6705720"/>
                <a:tab algn="l" pos="7823160"/>
                <a:tab algn="l" pos="894096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536160" y="2773080"/>
            <a:ext cx="5309640" cy="5761080"/>
          </a:xfrm>
          <a:prstGeom prst="rect">
            <a:avLst/>
          </a:prstGeom>
          <a:noFill/>
          <a:ln w="0">
            <a:noFill/>
          </a:ln>
        </p:spPr>
        <p:txBody>
          <a:bodyPr lIns="135000" rIns="135000" tIns="67680" bIns="676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117440"/>
                <a:tab algn="l" pos="2235240"/>
                <a:tab algn="l" pos="3352680"/>
                <a:tab algn="l" pos="4470480"/>
                <a:tab algn="l" pos="5587920"/>
                <a:tab algn="l" pos="6705720"/>
                <a:tab algn="l" pos="7823160"/>
                <a:tab algn="l" pos="894096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60480" y="5782320"/>
            <a:ext cx="5309640" cy="2747880"/>
          </a:xfrm>
          <a:prstGeom prst="rect">
            <a:avLst/>
          </a:prstGeom>
          <a:noFill/>
          <a:ln w="0">
            <a:noFill/>
          </a:ln>
        </p:spPr>
        <p:txBody>
          <a:bodyPr lIns="135000" rIns="135000" tIns="67680" bIns="676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117440"/>
                <a:tab algn="l" pos="2235240"/>
                <a:tab algn="l" pos="3352680"/>
                <a:tab algn="l" pos="4470480"/>
                <a:tab algn="l" pos="5587920"/>
                <a:tab algn="l" pos="6705720"/>
                <a:tab algn="l" pos="7823160"/>
                <a:tab algn="l" pos="894096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60480" y="853560"/>
            <a:ext cx="10880640" cy="1600200"/>
          </a:xfrm>
          <a:prstGeom prst="rect">
            <a:avLst/>
          </a:prstGeom>
          <a:noFill/>
          <a:ln w="0">
            <a:noFill/>
          </a:ln>
        </p:spPr>
        <p:txBody>
          <a:bodyPr lIns="135000" rIns="135000" tIns="67680" bIns="67680" anchor="ctr">
            <a:noAutofit/>
          </a:bodyPr>
          <a:p>
            <a:pPr indent="0" algn="ctr">
              <a:buNone/>
              <a:tabLst>
                <a:tab algn="l" pos="0"/>
                <a:tab algn="l" pos="1117440"/>
                <a:tab algn="l" pos="2235240"/>
                <a:tab algn="l" pos="3352680"/>
                <a:tab algn="l" pos="4470480"/>
                <a:tab algn="l" pos="5587920"/>
                <a:tab algn="l" pos="6705720"/>
                <a:tab algn="l" pos="7823160"/>
                <a:tab algn="l" pos="894096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60480" y="2773080"/>
            <a:ext cx="5309640" cy="5761080"/>
          </a:xfrm>
          <a:prstGeom prst="rect">
            <a:avLst/>
          </a:prstGeom>
          <a:noFill/>
          <a:ln w="0">
            <a:noFill/>
          </a:ln>
        </p:spPr>
        <p:txBody>
          <a:bodyPr lIns="135000" rIns="135000" tIns="67680" bIns="676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117440"/>
                <a:tab algn="l" pos="2235240"/>
                <a:tab algn="l" pos="3352680"/>
                <a:tab algn="l" pos="4470480"/>
                <a:tab algn="l" pos="5587920"/>
                <a:tab algn="l" pos="6705720"/>
                <a:tab algn="l" pos="7823160"/>
                <a:tab algn="l" pos="894096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536160" y="2773080"/>
            <a:ext cx="5309640" cy="2747880"/>
          </a:xfrm>
          <a:prstGeom prst="rect">
            <a:avLst/>
          </a:prstGeom>
          <a:noFill/>
          <a:ln w="0">
            <a:noFill/>
          </a:ln>
        </p:spPr>
        <p:txBody>
          <a:bodyPr lIns="135000" rIns="135000" tIns="67680" bIns="676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117440"/>
                <a:tab algn="l" pos="2235240"/>
                <a:tab algn="l" pos="3352680"/>
                <a:tab algn="l" pos="4470480"/>
                <a:tab algn="l" pos="5587920"/>
                <a:tab algn="l" pos="6705720"/>
                <a:tab algn="l" pos="7823160"/>
                <a:tab algn="l" pos="894096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36160" y="5782320"/>
            <a:ext cx="5309640" cy="2747880"/>
          </a:xfrm>
          <a:prstGeom prst="rect">
            <a:avLst/>
          </a:prstGeom>
          <a:noFill/>
          <a:ln w="0">
            <a:noFill/>
          </a:ln>
        </p:spPr>
        <p:txBody>
          <a:bodyPr lIns="135000" rIns="135000" tIns="67680" bIns="676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117440"/>
                <a:tab algn="l" pos="2235240"/>
                <a:tab algn="l" pos="3352680"/>
                <a:tab algn="l" pos="4470480"/>
                <a:tab algn="l" pos="5587920"/>
                <a:tab algn="l" pos="6705720"/>
                <a:tab algn="l" pos="7823160"/>
                <a:tab algn="l" pos="894096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60480" y="853560"/>
            <a:ext cx="10880640" cy="1600200"/>
          </a:xfrm>
          <a:prstGeom prst="rect">
            <a:avLst/>
          </a:prstGeom>
          <a:noFill/>
          <a:ln w="0">
            <a:noFill/>
          </a:ln>
        </p:spPr>
        <p:txBody>
          <a:bodyPr lIns="135000" rIns="135000" tIns="67680" bIns="67680" anchor="ctr">
            <a:noAutofit/>
          </a:bodyPr>
          <a:p>
            <a:pPr indent="0" algn="ctr">
              <a:buNone/>
              <a:tabLst>
                <a:tab algn="l" pos="0"/>
                <a:tab algn="l" pos="1117440"/>
                <a:tab algn="l" pos="2235240"/>
                <a:tab algn="l" pos="3352680"/>
                <a:tab algn="l" pos="4470480"/>
                <a:tab algn="l" pos="5587920"/>
                <a:tab algn="l" pos="6705720"/>
                <a:tab algn="l" pos="7823160"/>
                <a:tab algn="l" pos="894096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60480" y="2773080"/>
            <a:ext cx="5309640" cy="2747880"/>
          </a:xfrm>
          <a:prstGeom prst="rect">
            <a:avLst/>
          </a:prstGeom>
          <a:noFill/>
          <a:ln w="0">
            <a:noFill/>
          </a:ln>
        </p:spPr>
        <p:txBody>
          <a:bodyPr lIns="135000" rIns="135000" tIns="67680" bIns="676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117440"/>
                <a:tab algn="l" pos="2235240"/>
                <a:tab algn="l" pos="3352680"/>
                <a:tab algn="l" pos="4470480"/>
                <a:tab algn="l" pos="5587920"/>
                <a:tab algn="l" pos="6705720"/>
                <a:tab algn="l" pos="7823160"/>
                <a:tab algn="l" pos="894096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536160" y="2773080"/>
            <a:ext cx="5309640" cy="2747880"/>
          </a:xfrm>
          <a:prstGeom prst="rect">
            <a:avLst/>
          </a:prstGeom>
          <a:noFill/>
          <a:ln w="0">
            <a:noFill/>
          </a:ln>
        </p:spPr>
        <p:txBody>
          <a:bodyPr lIns="135000" rIns="135000" tIns="67680" bIns="676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117440"/>
                <a:tab algn="l" pos="2235240"/>
                <a:tab algn="l" pos="3352680"/>
                <a:tab algn="l" pos="4470480"/>
                <a:tab algn="l" pos="5587920"/>
                <a:tab algn="l" pos="6705720"/>
                <a:tab algn="l" pos="7823160"/>
                <a:tab algn="l" pos="894096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60480" y="5782320"/>
            <a:ext cx="10880640" cy="2747880"/>
          </a:xfrm>
          <a:prstGeom prst="rect">
            <a:avLst/>
          </a:prstGeom>
          <a:noFill/>
          <a:ln w="0">
            <a:noFill/>
          </a:ln>
        </p:spPr>
        <p:txBody>
          <a:bodyPr lIns="135000" rIns="135000" tIns="67680" bIns="6768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117440"/>
                <a:tab algn="l" pos="2235240"/>
                <a:tab algn="l" pos="3352680"/>
                <a:tab algn="l" pos="4470480"/>
                <a:tab algn="l" pos="5587920"/>
                <a:tab algn="l" pos="6705720"/>
                <a:tab algn="l" pos="7823160"/>
                <a:tab algn="l" pos="894096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60480" y="853560"/>
            <a:ext cx="10880640" cy="1600200"/>
          </a:xfrm>
          <a:prstGeom prst="rect">
            <a:avLst/>
          </a:prstGeom>
          <a:noFill/>
          <a:ln w="0">
            <a:noFill/>
          </a:ln>
        </p:spPr>
        <p:txBody>
          <a:bodyPr lIns="135000" rIns="135000" tIns="67680" bIns="67680" anchor="ctr">
            <a:noAutofit/>
          </a:bodyPr>
          <a:p>
            <a:pPr indent="0" algn="ctr">
              <a:buNone/>
              <a:tabLst>
                <a:tab algn="l" pos="0"/>
                <a:tab algn="l" pos="1117440"/>
                <a:tab algn="l" pos="2235240"/>
                <a:tab algn="l" pos="3352680"/>
                <a:tab algn="l" pos="4470480"/>
                <a:tab algn="l" pos="5587920"/>
                <a:tab algn="l" pos="6705720"/>
                <a:tab algn="l" pos="7823160"/>
                <a:tab algn="l" pos="894096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60480" y="2773080"/>
            <a:ext cx="10880640" cy="5761080"/>
          </a:xfrm>
          <a:prstGeom prst="rect">
            <a:avLst/>
          </a:prstGeom>
          <a:noFill/>
          <a:ln w="0">
            <a:noFill/>
          </a:ln>
        </p:spPr>
        <p:txBody>
          <a:bodyPr lIns="135000" rIns="135000" tIns="67680" bIns="67680" anchor="t">
            <a:normAutofit fontScale="93000"/>
          </a:bodyPr>
          <a:p>
            <a:pPr marL="466200" indent="-46620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1117440"/>
                <a:tab algn="l" pos="2235240"/>
                <a:tab algn="l" pos="3352680"/>
                <a:tab algn="l" pos="4470480"/>
                <a:tab algn="l" pos="5587920"/>
                <a:tab algn="l" pos="6705720"/>
                <a:tab algn="l" pos="7823160"/>
                <a:tab algn="l" pos="894096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12680" indent="-388080"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1117440"/>
                <a:tab algn="l" pos="2235240"/>
                <a:tab algn="l" pos="3352680"/>
                <a:tab algn="l" pos="4470480"/>
                <a:tab algn="l" pos="5587920"/>
                <a:tab algn="l" pos="6705720"/>
                <a:tab algn="l" pos="7823160"/>
                <a:tab algn="l" pos="894096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59160" indent="-31284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1117440"/>
                <a:tab algn="l" pos="2235240"/>
                <a:tab algn="l" pos="3352680"/>
                <a:tab algn="l" pos="4470480"/>
                <a:tab algn="l" pos="5587920"/>
                <a:tab algn="l" pos="6705720"/>
                <a:tab algn="l" pos="7823160"/>
                <a:tab algn="l" pos="894096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3" marL="2181960" indent="-311400">
              <a:spcBef>
                <a:spcPts val="1199"/>
              </a:spcBef>
              <a:buClr>
                <a:srgbClr val="ffffff"/>
              </a:buClr>
              <a:buFont typeface="Times New Roman"/>
              <a:buChar char="–"/>
              <a:tabLst>
                <a:tab algn="l" pos="1117440"/>
                <a:tab algn="l" pos="2235240"/>
                <a:tab algn="l" pos="3352680"/>
                <a:tab algn="l" pos="4470480"/>
                <a:tab algn="l" pos="5587920"/>
                <a:tab algn="l" pos="6705720"/>
                <a:tab algn="l" pos="7823160"/>
                <a:tab algn="l" pos="894096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4" marL="2804760" indent="-309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1117440"/>
                <a:tab algn="l" pos="2235240"/>
                <a:tab algn="l" pos="3352680"/>
                <a:tab algn="l" pos="4470480"/>
                <a:tab algn="l" pos="5587920"/>
                <a:tab algn="l" pos="6705720"/>
                <a:tab algn="l" pos="7823160"/>
                <a:tab algn="l" pos="894096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5" marL="2804760" indent="-309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1117440"/>
                <a:tab algn="l" pos="2235240"/>
                <a:tab algn="l" pos="3352680"/>
                <a:tab algn="l" pos="4470480"/>
                <a:tab algn="l" pos="5587920"/>
                <a:tab algn="l" pos="6705720"/>
                <a:tab algn="l" pos="7823160"/>
                <a:tab algn="l" pos="894096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lvl="6" marL="2804760" indent="-309960">
              <a:spcBef>
                <a:spcPts val="1199"/>
              </a:spcBef>
              <a:buClr>
                <a:srgbClr val="ffffff"/>
              </a:buClr>
              <a:buFont typeface="Times New Roman"/>
              <a:buChar char="•"/>
              <a:tabLst>
                <a:tab algn="l" pos="1117440"/>
                <a:tab algn="l" pos="2235240"/>
                <a:tab algn="l" pos="3352680"/>
                <a:tab algn="l" pos="4470480"/>
                <a:tab algn="l" pos="5587920"/>
                <a:tab algn="l" pos="6705720"/>
                <a:tab algn="l" pos="7823160"/>
                <a:tab algn="l" pos="894096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0480" y="8746920"/>
            <a:ext cx="2666880" cy="641160"/>
          </a:xfrm>
          <a:prstGeom prst="rect">
            <a:avLst/>
          </a:prstGeom>
          <a:noFill/>
          <a:ln w="0">
            <a:noFill/>
          </a:ln>
        </p:spPr>
        <p:txBody>
          <a:bodyPr lIns="135000" rIns="135000" tIns="67680" bIns="676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17440"/>
                <a:tab algn="l" pos="2235240"/>
                <a:tab algn="l" pos="3352680"/>
                <a:tab algn="l" pos="4470480"/>
                <a:tab algn="l" pos="5587920"/>
                <a:tab algn="l" pos="6705720"/>
                <a:tab algn="l" pos="7823160"/>
                <a:tab algn="l" pos="8940960"/>
                <a:tab algn="l" pos="10058400"/>
              </a:tabLst>
              <a:defRPr b="0" lang="en-US" sz="2100" spc="-1" strike="noStrike">
                <a:solidFill>
                  <a:srgbClr val="ffffff"/>
                </a:solidFill>
                <a:latin typeface="Times New Roman"/>
                <a:ea typeface="CordiaUP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17440"/>
                <a:tab algn="l" pos="2235240"/>
                <a:tab algn="l" pos="3352680"/>
                <a:tab algn="l" pos="4470480"/>
                <a:tab algn="l" pos="5587920"/>
                <a:tab algn="l" pos="6705720"/>
                <a:tab algn="l" pos="7823160"/>
                <a:tab algn="l" pos="894096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CordiaUPC"/>
              </a:rPr>
              <a:t>&lt;date/time&gt;</a:t>
            </a:r>
            <a:endParaRPr b="0" lang="en-US" sz="21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746920"/>
            <a:ext cx="4054320" cy="641160"/>
          </a:xfrm>
          <a:prstGeom prst="rect">
            <a:avLst/>
          </a:prstGeom>
          <a:noFill/>
          <a:ln w="0">
            <a:noFill/>
          </a:ln>
        </p:spPr>
        <p:txBody>
          <a:bodyPr lIns="135000" rIns="135000" tIns="67680" bIns="676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117440"/>
                <a:tab algn="l" pos="2235240"/>
                <a:tab algn="l" pos="3352680"/>
                <a:tab algn="l" pos="4470480"/>
                <a:tab algn="l" pos="5587920"/>
                <a:tab algn="l" pos="6705720"/>
                <a:tab algn="l" pos="7823160"/>
                <a:tab algn="l" pos="8940960"/>
                <a:tab algn="l" pos="10058400"/>
              </a:tabLst>
              <a:defRPr b="0" lang="en-US" sz="2100" spc="-1" strike="noStrike">
                <a:solidFill>
                  <a:srgbClr val="ffffff"/>
                </a:solidFill>
                <a:latin typeface="Times New Roman"/>
                <a:ea typeface="CordiaUP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17440"/>
                <a:tab algn="l" pos="2235240"/>
                <a:tab algn="l" pos="3352680"/>
                <a:tab algn="l" pos="4470480"/>
                <a:tab algn="l" pos="5587920"/>
                <a:tab algn="l" pos="6705720"/>
                <a:tab algn="l" pos="7823160"/>
                <a:tab algn="l" pos="894096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Times New Roman"/>
                <a:ea typeface="CordiaUPC"/>
              </a:rPr>
              <a:t>&lt;footer&gt;</a:t>
            </a:r>
            <a:endParaRPr b="0" lang="en-US" sz="21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8244000" y="2927520"/>
            <a:ext cx="2319120" cy="1368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41" name=""/>
          <p:cNvSpPr/>
          <p:nvPr/>
        </p:nvSpPr>
        <p:spPr>
          <a:xfrm>
            <a:off x="8244000" y="1415880"/>
            <a:ext cx="2319120" cy="1368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42" name=""/>
          <p:cNvSpPr/>
          <p:nvPr/>
        </p:nvSpPr>
        <p:spPr>
          <a:xfrm>
            <a:off x="8229600" y="4397400"/>
            <a:ext cx="2319480" cy="1368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43" name=""/>
          <p:cNvSpPr/>
          <p:nvPr/>
        </p:nvSpPr>
        <p:spPr>
          <a:xfrm>
            <a:off x="8229600" y="7392960"/>
            <a:ext cx="2319480" cy="1368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44" name=""/>
          <p:cNvSpPr/>
          <p:nvPr/>
        </p:nvSpPr>
        <p:spPr>
          <a:xfrm>
            <a:off x="7523280" y="36050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45" name=""/>
          <p:cNvSpPr/>
          <p:nvPr/>
        </p:nvSpPr>
        <p:spPr>
          <a:xfrm>
            <a:off x="6281640" y="328680"/>
            <a:ext cx="1143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46" name=""/>
          <p:cNvSpPr/>
          <p:nvPr/>
        </p:nvSpPr>
        <p:spPr>
          <a:xfrm>
            <a:off x="8672400" y="1344600"/>
            <a:ext cx="16891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ngsana New"/>
                <a:ea typeface="Cordia New"/>
              </a:rPr>
              <a:t>- 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Cordia New"/>
              </a:rPr>
              <a:t>โครงการ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Cordia New"/>
              </a:rPr>
              <a:t>/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Cordia New"/>
              </a:rPr>
              <a:t>งบประมาณ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Cordia New"/>
              </a:rPr>
              <a:t>- 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Cordia New"/>
              </a:rPr>
              <a:t>แผนแม่บทหลัก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Cordia New"/>
              </a:rPr>
              <a:t>- 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Cordia New"/>
              </a:rPr>
              <a:t>ผู้รับผิดชอบ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47" name=""/>
          <p:cNvSpPr/>
          <p:nvPr/>
        </p:nvSpPr>
        <p:spPr>
          <a:xfrm>
            <a:off x="5708520" y="6024600"/>
            <a:ext cx="1806840" cy="86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ขั้นตอนที่ </a:t>
            </a:r>
            <a:r>
              <a:rPr b="1" lang="th-TH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คำรับรองการปฏิบัติ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ราชการ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48" name=""/>
          <p:cNvSpPr/>
          <p:nvPr/>
        </p:nvSpPr>
        <p:spPr>
          <a:xfrm>
            <a:off x="5710320" y="7435800"/>
            <a:ext cx="1842840" cy="1541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ขั้นตอนที่ </a:t>
            </a:r>
            <a:r>
              <a:rPr b="1" lang="th-TH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แบบมอบหมายงาน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ตาม </a:t>
            </a:r>
            <a:r>
              <a:rPr b="1" lang="en-US" sz="1600" spc="-1" strike="noStrike">
                <a:solidFill>
                  <a:srgbClr val="000000"/>
                </a:solidFill>
                <a:latin typeface="Angsana New"/>
                <a:ea typeface="Cordia New"/>
              </a:rPr>
              <a:t>Job Description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ของบุคคล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49" name=""/>
          <p:cNvSpPr/>
          <p:nvPr/>
        </p:nvSpPr>
        <p:spPr>
          <a:xfrm>
            <a:off x="6761160" y="2711520"/>
            <a:ext cx="15588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 </a:t>
            </a: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เสนอของบประมาณ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50" name=""/>
          <p:cNvSpPr/>
          <p:nvPr/>
        </p:nvSpPr>
        <p:spPr>
          <a:xfrm>
            <a:off x="2657520" y="1690560"/>
            <a:ext cx="1655640" cy="1008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ขั้นตอนที่ </a:t>
            </a:r>
            <a:r>
              <a:rPr b="1" lang="th-TH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แผนกลยุทธ์ </a:t>
            </a:r>
            <a:r>
              <a:rPr b="1" lang="th-TH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10 </a:t>
            </a: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ปี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(</a:t>
            </a: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พ</a:t>
            </a:r>
            <a:r>
              <a:rPr b="1" lang="th-TH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.</a:t>
            </a: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ศ</a:t>
            </a:r>
            <a:r>
              <a:rPr b="1" lang="th-TH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.2550-2559)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51" name=""/>
          <p:cNvSpPr/>
          <p:nvPr/>
        </p:nvSpPr>
        <p:spPr>
          <a:xfrm>
            <a:off x="5753160" y="1697040"/>
            <a:ext cx="1873080" cy="1014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ขั้นตอนที่ </a:t>
            </a:r>
            <a:r>
              <a:rPr b="1" lang="th-TH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2 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แผนปฏิบัติการ </a:t>
            </a:r>
            <a:r>
              <a:rPr b="1" lang="th-TH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5 </a:t>
            </a: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ปี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(</a:t>
            </a: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พ</a:t>
            </a:r>
            <a:r>
              <a:rPr b="1" lang="th-TH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.</a:t>
            </a: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ศ</a:t>
            </a:r>
            <a:r>
              <a:rPr b="1" lang="th-TH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.2550-2554)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52" name=""/>
          <p:cNvSpPr/>
          <p:nvPr/>
        </p:nvSpPr>
        <p:spPr>
          <a:xfrm>
            <a:off x="5694480" y="3071880"/>
            <a:ext cx="1828800" cy="1079280"/>
          </a:xfrm>
          <a:prstGeom prst="diamond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53" name=""/>
          <p:cNvSpPr/>
          <p:nvPr/>
        </p:nvSpPr>
        <p:spPr>
          <a:xfrm>
            <a:off x="5608800" y="4497480"/>
            <a:ext cx="2016000" cy="879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ขั้นตอนที่ </a:t>
            </a:r>
            <a:r>
              <a:rPr b="1" lang="th-TH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แผนปฏิบัติราชการ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ประจำปี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4125960"/>
            <a:ext cx="20894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โครงการที่ ได้รับงบประมาณ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55" name=""/>
          <p:cNvSpPr/>
          <p:nvPr/>
        </p:nvSpPr>
        <p:spPr>
          <a:xfrm>
            <a:off x="6545160" y="5519880"/>
            <a:ext cx="2408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ถ่ายทอดตัวชี้วัดสู่หน่วยงาน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56" name=""/>
          <p:cNvSpPr/>
          <p:nvPr/>
        </p:nvSpPr>
        <p:spPr>
          <a:xfrm>
            <a:off x="6531120" y="6961320"/>
            <a:ext cx="1811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</a:t>
            </a:r>
            <a:r>
              <a:rPr b="1" lang="hi-IN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ถ่ายทอดตัวชี้วัดสู่บุคคล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57" name=""/>
          <p:cNvSpPr/>
          <p:nvPr/>
        </p:nvSpPr>
        <p:spPr>
          <a:xfrm>
            <a:off x="2944800" y="4957920"/>
            <a:ext cx="1800360" cy="863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ขั้นตอนที่ </a:t>
            </a:r>
            <a:r>
              <a:rPr b="1" lang="th-TH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รับเงินรางวัลตามผลงาน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58" name=""/>
          <p:cNvSpPr/>
          <p:nvPr/>
        </p:nvSpPr>
        <p:spPr>
          <a:xfrm>
            <a:off x="2925720" y="6354720"/>
            <a:ext cx="1962360" cy="1368360"/>
          </a:xfrm>
          <a:prstGeom prst="diamond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59" name=""/>
          <p:cNvSpPr/>
          <p:nvPr/>
        </p:nvSpPr>
        <p:spPr>
          <a:xfrm>
            <a:off x="2986200" y="7967520"/>
            <a:ext cx="1873080" cy="863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   </a:t>
            </a: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ขั้นตอนที่ </a:t>
            </a:r>
            <a:r>
              <a:rPr b="1" lang="th-TH" sz="1600" spc="-1" strike="noStrike">
                <a:solidFill>
                  <a:srgbClr val="000000"/>
                </a:solidFill>
                <a:latin typeface="Cordia New"/>
                <a:ea typeface="Cordia New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รับเงินเลื่อนขั้นตามผลงาน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60" name=""/>
          <p:cNvSpPr/>
          <p:nvPr/>
        </p:nvSpPr>
        <p:spPr>
          <a:xfrm>
            <a:off x="7615080" y="1245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61" name=""/>
          <p:cNvSpPr/>
          <p:nvPr/>
        </p:nvSpPr>
        <p:spPr>
          <a:xfrm>
            <a:off x="6616800" y="2711520"/>
            <a:ext cx="0" cy="34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7553160" y="8040600"/>
            <a:ext cx="671760" cy="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63" name=""/>
          <p:cNvSpPr/>
          <p:nvPr/>
        </p:nvSpPr>
        <p:spPr>
          <a:xfrm>
            <a:off x="6616800" y="537696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64" name=""/>
          <p:cNvSpPr/>
          <p:nvPr/>
        </p:nvSpPr>
        <p:spPr>
          <a:xfrm>
            <a:off x="6616800" y="415116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7552800" y="6527880"/>
            <a:ext cx="6620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66" name=""/>
          <p:cNvSpPr/>
          <p:nvPr/>
        </p:nvSpPr>
        <p:spPr>
          <a:xfrm>
            <a:off x="6616800" y="6888240"/>
            <a:ext cx="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384800" y="2265120"/>
            <a:ext cx="792000" cy="1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68" name=""/>
          <p:cNvSpPr/>
          <p:nvPr/>
        </p:nvSpPr>
        <p:spPr>
          <a:xfrm>
            <a:off x="4313160" y="1908000"/>
            <a:ext cx="1511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แปลงแผนกลยุทธ์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4960440" y="5447880"/>
            <a:ext cx="662040" cy="515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529160" y="6312960"/>
            <a:ext cx="1008000" cy="41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71" name=""/>
          <p:cNvSpPr/>
          <p:nvPr/>
        </p:nvSpPr>
        <p:spPr>
          <a:xfrm>
            <a:off x="4600440" y="7319880"/>
            <a:ext cx="9367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888080" y="7896240"/>
            <a:ext cx="720720" cy="53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73" name=""/>
          <p:cNvSpPr/>
          <p:nvPr/>
        </p:nvSpPr>
        <p:spPr>
          <a:xfrm>
            <a:off x="3087720" y="87120"/>
            <a:ext cx="7128000" cy="16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2800"/>
            </a:br>
            <a:r>
              <a:rPr b="1" lang="th-TH" sz="2400" spc="-1" strike="noStrike">
                <a:solidFill>
                  <a:srgbClr val="000000"/>
                </a:solidFill>
                <a:latin typeface="Cordia New"/>
                <a:cs typeface="Cordia New"/>
              </a:rPr>
              <a:t>แผนภาพที่  </a:t>
            </a:r>
            <a:r>
              <a:rPr b="1" lang="th-TH" sz="2400" spc="-1" strike="noStrike">
                <a:solidFill>
                  <a:srgbClr val="000000"/>
                </a:solidFill>
                <a:latin typeface="Cordia New"/>
                <a:ea typeface="Cordia New"/>
              </a:rPr>
              <a:t>4     </a:t>
            </a:r>
            <a:r>
              <a:rPr b="1" lang="th-TH" sz="2400" spc="-1" strike="noStrike">
                <a:solidFill>
                  <a:srgbClr val="000000"/>
                </a:solidFill>
                <a:latin typeface="Cordia New"/>
                <a:cs typeface="Cordia New"/>
              </a:rPr>
              <a:t>แสดงกลไกและขั้นตอนในการนำแผนไปสู่การปฏิบัติ</a:t>
            </a:r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74" name=""/>
          <p:cNvSpPr/>
          <p:nvPr/>
        </p:nvSpPr>
        <p:spPr>
          <a:xfrm>
            <a:off x="3827160" y="5433840"/>
            <a:ext cx="8784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ngsana New"/>
              </a:rPr>
              <a:t>             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75" name=""/>
          <p:cNvSpPr/>
          <p:nvPr/>
        </p:nvSpPr>
        <p:spPr>
          <a:xfrm>
            <a:off x="3969000" y="10056960"/>
            <a:ext cx="898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            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76" name=""/>
          <p:cNvSpPr/>
          <p:nvPr/>
        </p:nvSpPr>
        <p:spPr>
          <a:xfrm>
            <a:off x="3448080" y="7870680"/>
            <a:ext cx="10494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77" name=""/>
          <p:cNvSpPr/>
          <p:nvPr/>
        </p:nvSpPr>
        <p:spPr>
          <a:xfrm>
            <a:off x="3946680" y="10341000"/>
            <a:ext cx="2444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78" name=""/>
          <p:cNvSpPr/>
          <p:nvPr/>
        </p:nvSpPr>
        <p:spPr>
          <a:xfrm>
            <a:off x="3957480" y="9463320"/>
            <a:ext cx="930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79" name=""/>
          <p:cNvSpPr/>
          <p:nvPr/>
        </p:nvSpPr>
        <p:spPr>
          <a:xfrm>
            <a:off x="3957120" y="10714320"/>
            <a:ext cx="185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80" name=""/>
          <p:cNvSpPr/>
          <p:nvPr/>
        </p:nvSpPr>
        <p:spPr>
          <a:xfrm>
            <a:off x="5378400" y="3259080"/>
            <a:ext cx="2448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</a:rPr>
              <a:t>ขั้นตอนที่ 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</a:rPr>
              <a:t>จัดสรรงบประมาณ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81" name=""/>
          <p:cNvSpPr/>
          <p:nvPr/>
        </p:nvSpPr>
        <p:spPr>
          <a:xfrm>
            <a:off x="7985160" y="3287880"/>
            <a:ext cx="280836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ngsana New"/>
                <a:ea typeface="Cordia New"/>
              </a:rPr>
              <a:t> 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Cordia New"/>
              </a:rPr>
              <a:t>พิจารณาโครงการ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Cordia New"/>
              </a:rPr>
              <a:t> 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Cordia New"/>
              </a:rPr>
              <a:t>ตามลำดับความสำคัญกลยุทธ์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82" name=""/>
          <p:cNvSpPr/>
          <p:nvPr/>
        </p:nvSpPr>
        <p:spPr>
          <a:xfrm>
            <a:off x="8488440" y="4497480"/>
            <a:ext cx="20160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ngsana New"/>
                <a:ea typeface="Cordia New"/>
              </a:rPr>
              <a:t>- 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Cordia New"/>
              </a:rPr>
              <a:t>โครงการ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Cordia New"/>
              </a:rPr>
              <a:t>/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Cordia New"/>
              </a:rPr>
              <a:t>งบประมาณ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Cordia New"/>
              </a:rPr>
              <a:t>- 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Cordia New"/>
              </a:rPr>
              <a:t>ตัวชี้วัด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Cordia New"/>
              </a:rPr>
              <a:t>/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Cordia New"/>
              </a:rPr>
              <a:t>เป้าหมาย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Cordia New"/>
              </a:rPr>
              <a:t>- 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Cordia New"/>
              </a:rPr>
              <a:t>ระยะเวลาการดำเนินงาน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Cordia New"/>
              </a:rPr>
              <a:t>- 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Cordia New"/>
              </a:rPr>
              <a:t>ผู้รับผิดชอบ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83" name=""/>
          <p:cNvSpPr/>
          <p:nvPr/>
        </p:nvSpPr>
        <p:spPr>
          <a:xfrm>
            <a:off x="8229600" y="5880240"/>
            <a:ext cx="2319480" cy="1368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84" name=""/>
          <p:cNvSpPr/>
          <p:nvPr/>
        </p:nvSpPr>
        <p:spPr>
          <a:xfrm>
            <a:off x="8373960" y="6095880"/>
            <a:ext cx="2305080" cy="8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ngsana New"/>
                <a:ea typeface="Cordia New"/>
              </a:rPr>
              <a:t>- 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Cordia New"/>
              </a:rPr>
              <a:t>ตัวชี้วัดตามแผนกลยุทธ์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Cordia New"/>
              </a:rPr>
              <a:t>- 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Cordia New"/>
              </a:rPr>
              <a:t>ตัวชี้วัดตาม ก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Cordia New"/>
              </a:rPr>
              <a:t>.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Cordia New"/>
              </a:rPr>
              <a:t>พ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Cordia New"/>
              </a:rPr>
              <a:t>.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Cordia New"/>
              </a:rPr>
              <a:t>ร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Cordia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>
              <a:buClr>
                <a:srgbClr val="000000"/>
              </a:buClr>
              <a:buFont typeface="Angsana New"/>
              <a:buChar char="-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Cordia New"/>
              </a:rPr>
              <a:t>ตัวชี้วัดตามสำนักงบประมาณ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85" name=""/>
          <p:cNvSpPr/>
          <p:nvPr/>
        </p:nvSpPr>
        <p:spPr>
          <a:xfrm>
            <a:off x="8488440" y="7608960"/>
            <a:ext cx="18716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ngsana New"/>
                <a:ea typeface="Cordia New"/>
              </a:rPr>
              <a:t>- 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Cordia New"/>
              </a:rPr>
              <a:t>ตัวชี้วัดตามหน่วยงาน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Cordia New"/>
              </a:rPr>
              <a:t>- 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Cordia New"/>
              </a:rPr>
              <a:t>ตัวชี้วัดตามหน้าที่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Cordia New"/>
              </a:rPr>
              <a:t>- 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Cordia New"/>
              </a:rPr>
              <a:t>ตัวชี้วัดที่ได้รับมอบหมาย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86" name=""/>
          <p:cNvSpPr/>
          <p:nvPr/>
        </p:nvSpPr>
        <p:spPr>
          <a:xfrm>
            <a:off x="3059280" y="6643800"/>
            <a:ext cx="172872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ngsana New"/>
              </a:rPr>
              <a:t>ขั้นตอนที่ </a:t>
            </a:r>
            <a:r>
              <a:rPr b="1" lang="en-US" sz="1600" spc="-1" strike="noStrike">
                <a:solidFill>
                  <a:srgbClr val="000000"/>
                </a:solidFill>
                <a:latin typeface="Angsana New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hi-IN" sz="1600" spc="-1" strike="noStrike">
                <a:solidFill>
                  <a:srgbClr val="000000"/>
                </a:solidFill>
                <a:latin typeface="Angsana New"/>
              </a:rPr>
              <a:t>ประเมินผล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710120" y="4944960"/>
            <a:ext cx="530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7695720" y="2063880"/>
            <a:ext cx="530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28840" y="165240"/>
            <a:ext cx="1280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90" name=""/>
          <p:cNvSpPr/>
          <p:nvPr/>
        </p:nvSpPr>
        <p:spPr>
          <a:xfrm>
            <a:off x="1936800" y="276084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91" name=""/>
          <p:cNvSpPr/>
          <p:nvPr/>
        </p:nvSpPr>
        <p:spPr>
          <a:xfrm>
            <a:off x="1413000" y="7931160"/>
            <a:ext cx="1280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92" name=""/>
          <p:cNvSpPr/>
          <p:nvPr/>
        </p:nvSpPr>
        <p:spPr>
          <a:xfrm>
            <a:off x="1413000" y="9304200"/>
            <a:ext cx="1280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93" name=""/>
          <p:cNvSpPr/>
          <p:nvPr/>
        </p:nvSpPr>
        <p:spPr>
          <a:xfrm>
            <a:off x="1413000" y="9304200"/>
            <a:ext cx="1280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94" name=""/>
          <p:cNvSpPr/>
          <p:nvPr/>
        </p:nvSpPr>
        <p:spPr>
          <a:xfrm>
            <a:off x="3303720" y="1128600"/>
            <a:ext cx="36734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ส่วนงาน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ส่วนจัดส่งคำรับรอง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การปฏิบัติงาน รายละเอียดตัวชี้วัดให้ส่วนแผนงาน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95" name=""/>
          <p:cNvSpPr/>
          <p:nvPr/>
        </p:nvSpPr>
        <p:spPr>
          <a:xfrm>
            <a:off x="8921880" y="1128600"/>
            <a:ext cx="332712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หัวหน้าส่วนงาน</a:t>
            </a:r>
            <a:r>
              <a:rPr b="1" lang="en-US" sz="1600" spc="-1" strike="noStrike">
                <a:solidFill>
                  <a:srgbClr val="000000"/>
                </a:solidFill>
                <a:latin typeface="Angsana New"/>
                <a:ea typeface="Times New Roman"/>
              </a:rPr>
              <a:t>/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ส่วน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Browallia New"/>
              </a:rPr>
              <a:t> 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ลงนามใน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คำรับรองการปฏิบัติงานกับอธิการบดี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96" name=""/>
          <p:cNvSpPr/>
          <p:nvPr/>
        </p:nvSpPr>
        <p:spPr>
          <a:xfrm>
            <a:off x="9182160" y="3000240"/>
            <a:ext cx="2979720" cy="113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ส่วนงาน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ส่วนรายงานผลการปฏิบัติงาน ของหน่วยงาน ให้ส่วนแผนงานพร้อมปัญหา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อุปสรรค 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ถ้ามี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97" name=""/>
          <p:cNvSpPr/>
          <p:nvPr/>
        </p:nvSpPr>
        <p:spPr>
          <a:xfrm>
            <a:off x="5479920" y="2928960"/>
            <a:ext cx="236088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ส่วนแผนงาน รายงานผลการปฏิบัติงาน ต่อผู้บริหารและส่งให้สำนักงบประมาณ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98" name=""/>
          <p:cNvSpPr/>
          <p:nvPr/>
        </p:nvSpPr>
        <p:spPr>
          <a:xfrm>
            <a:off x="4960800" y="5592600"/>
            <a:ext cx="2278080" cy="141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ส่วนแผนงาน รายงานสรุปผล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การปฏิบัติงานประจำปี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รอบ ๑๒ เดือน ของส่วนงาน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ส่วน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99" name=""/>
          <p:cNvSpPr/>
          <p:nvPr/>
        </p:nvSpPr>
        <p:spPr>
          <a:xfrm>
            <a:off x="4600440" y="7723080"/>
            <a:ext cx="2592360" cy="11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ส่วนแผนงาน แจ้งผลการประเมินฯ ให้ส่วนงาน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ส่วน ทราบ และนำไปปรับปรุงการดำเนินงานต่อไป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0" name=""/>
          <p:cNvSpPr/>
          <p:nvPr/>
        </p:nvSpPr>
        <p:spPr>
          <a:xfrm>
            <a:off x="8848800" y="7824960"/>
            <a:ext cx="3024000" cy="11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คณะกรรมการผู้บริหารฯและสภาสถาบันฯ 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พิจารณาผลการปฏิบัติงานของส่วนงาน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ส่วน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1" name=""/>
          <p:cNvSpPr/>
          <p:nvPr/>
        </p:nvSpPr>
        <p:spPr>
          <a:xfrm>
            <a:off x="8777160" y="5521320"/>
            <a:ext cx="33847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ส่วนแผนงาน นำเสนอผลการปฏิบัติงาน 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ตามคำรับรองฯและแผนกลยุทธ์ 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ต่อคณะกรรมการผู้บริหารสถาบันฯ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สภาสถาบันฯ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2" name=""/>
          <p:cNvSpPr/>
          <p:nvPr/>
        </p:nvSpPr>
        <p:spPr>
          <a:xfrm>
            <a:off x="568440" y="7753320"/>
            <a:ext cx="331128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นำผลการประเมินไปเชื่อมโยงกับ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เงินรางวัล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แรงจูงใจและนำไปทบทวนแผนในปีต่อไป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3" name=""/>
          <p:cNvSpPr/>
          <p:nvPr/>
        </p:nvSpPr>
        <p:spPr>
          <a:xfrm rot="10800000">
            <a:off x="7899120" y="2568240"/>
            <a:ext cx="1150920" cy="197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4" name=""/>
          <p:cNvSpPr/>
          <p:nvPr/>
        </p:nvSpPr>
        <p:spPr>
          <a:xfrm>
            <a:off x="7802640" y="3073320"/>
            <a:ext cx="14778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Times New Roman"/>
              </a:rPr>
              <a:t>        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Times New Roman"/>
              </a:rPr>
              <a:t>ทุกวันที่ ๑๕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Times New Roman"/>
              </a:rPr>
              <a:t>    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Times New Roman"/>
              </a:rPr>
              <a:t>ของเดือนถัดไป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Times New Roman"/>
              </a:rPr>
              <a:t>     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Times New Roman"/>
              </a:rPr>
              <a:t>เมื่อสิ้นไตรมาส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5" name=""/>
          <p:cNvSpPr/>
          <p:nvPr/>
        </p:nvSpPr>
        <p:spPr>
          <a:xfrm>
            <a:off x="1792440" y="912960"/>
            <a:ext cx="1079280" cy="1317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6" name=""/>
          <p:cNvSpPr/>
          <p:nvPr/>
        </p:nvSpPr>
        <p:spPr>
          <a:xfrm>
            <a:off x="7466040" y="5607000"/>
            <a:ext cx="11523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1711800" y="3498120"/>
            <a:ext cx="1025640" cy="2909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8" name=""/>
          <p:cNvSpPr/>
          <p:nvPr/>
        </p:nvSpPr>
        <p:spPr>
          <a:xfrm>
            <a:off x="496800" y="2928960"/>
            <a:ext cx="3551400" cy="136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ส่วนแผนงาน รายงานสรุปผลการปฏิบัติงานประจำปี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Times New Roman"/>
              </a:rPr>
              <a:t> 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ของส่วนงาน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ส่วน 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รอบ ๖ เดือน และ ๙ เดือน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เสนอคณะกรรมการผู้บริหารฯ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สภาสถาบันฯเสนอผู้บริหาร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09" name=""/>
          <p:cNvSpPr/>
          <p:nvPr/>
        </p:nvSpPr>
        <p:spPr>
          <a:xfrm>
            <a:off x="423720" y="5592600"/>
            <a:ext cx="302436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แจ้งผลการประเมิน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หน่วยงาน รอบ ๖ เดือน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Times New Roman"/>
              </a:rPr>
              <a:t> 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และ 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๙ เดือน  เพื่อให้ส่วนงาน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ส่วน เร่งรัดการดำเนินงานให้เป็นไปตามเป้าหมาย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4097160" y="2682720"/>
            <a:ext cx="1224000" cy="194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1" name=""/>
          <p:cNvSpPr/>
          <p:nvPr/>
        </p:nvSpPr>
        <p:spPr>
          <a:xfrm>
            <a:off x="1273320" y="4411800"/>
            <a:ext cx="180000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Times New Roman"/>
              </a:rPr>
              <a:t>     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Times New Roman"/>
              </a:rPr>
              <a:t>ภายในวันที่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๓๑ พค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๕๒  และ 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๓๑ สค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๕๒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2" name=""/>
          <p:cNvSpPr/>
          <p:nvPr/>
        </p:nvSpPr>
        <p:spPr>
          <a:xfrm rot="5400000">
            <a:off x="10116000" y="6426720"/>
            <a:ext cx="677880" cy="1828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4024080" y="8040600"/>
            <a:ext cx="399960" cy="4111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4" name=""/>
          <p:cNvSpPr/>
          <p:nvPr/>
        </p:nvSpPr>
        <p:spPr>
          <a:xfrm>
            <a:off x="2728800" y="-183600"/>
            <a:ext cx="792180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ngsana New"/>
              </a:rPr>
              <a:t>แผนภาพที่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</a:rPr>
              <a:t>5  </a:t>
            </a:r>
            <a:r>
              <a:rPr b="1" lang="th-TH" sz="2400" spc="-1" strike="noStrike">
                <a:solidFill>
                  <a:srgbClr val="000000"/>
                </a:solidFill>
                <a:latin typeface="Angsana New"/>
              </a:rPr>
              <a:t>แสดงขั้นตอนในการติดตามและประเมินผลการปฏิบัติงานของส่วนงาน และ ส่วน</a:t>
            </a:r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5" name=""/>
          <p:cNvSpPr/>
          <p:nvPr/>
        </p:nvSpPr>
        <p:spPr>
          <a:xfrm>
            <a:off x="1428840" y="165240"/>
            <a:ext cx="1280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6" name=""/>
          <p:cNvSpPr/>
          <p:nvPr/>
        </p:nvSpPr>
        <p:spPr>
          <a:xfrm>
            <a:off x="4113000" y="5871960"/>
            <a:ext cx="1850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7" name=""/>
          <p:cNvSpPr/>
          <p:nvPr/>
        </p:nvSpPr>
        <p:spPr>
          <a:xfrm>
            <a:off x="4128840" y="7153920"/>
            <a:ext cx="185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8" name=""/>
          <p:cNvSpPr/>
          <p:nvPr/>
        </p:nvSpPr>
        <p:spPr>
          <a:xfrm>
            <a:off x="1428480" y="6932520"/>
            <a:ext cx="1850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19" name=""/>
          <p:cNvSpPr/>
          <p:nvPr/>
        </p:nvSpPr>
        <p:spPr>
          <a:xfrm>
            <a:off x="1432080" y="772812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0" name=""/>
          <p:cNvSpPr/>
          <p:nvPr/>
        </p:nvSpPr>
        <p:spPr>
          <a:xfrm>
            <a:off x="1428480" y="8205480"/>
            <a:ext cx="1850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1" name=""/>
          <p:cNvSpPr/>
          <p:nvPr/>
        </p:nvSpPr>
        <p:spPr>
          <a:xfrm>
            <a:off x="1413000" y="9304200"/>
            <a:ext cx="1280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2" name=""/>
          <p:cNvSpPr/>
          <p:nvPr/>
        </p:nvSpPr>
        <p:spPr>
          <a:xfrm>
            <a:off x="1413000" y="9304200"/>
            <a:ext cx="1280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45360" bIns="-45360" anchor="ctr">
            <a:sp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3" name=""/>
          <p:cNvSpPr/>
          <p:nvPr/>
        </p:nvSpPr>
        <p:spPr>
          <a:xfrm>
            <a:off x="1720800" y="1271520"/>
            <a:ext cx="10764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Times New Roman"/>
              </a:rPr>
              <a:t>ภายในวันที่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ngsana New"/>
                <a:ea typeface="Times New Roman"/>
              </a:rPr>
              <a:t> 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Times New Roman"/>
              </a:rPr>
              <a:t>๒๖ มค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Times New Roman"/>
              </a:rPr>
              <a:t>.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๕๒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4" name=""/>
          <p:cNvSpPr/>
          <p:nvPr/>
        </p:nvSpPr>
        <p:spPr>
          <a:xfrm>
            <a:off x="7481880" y="890640"/>
            <a:ext cx="1079640" cy="1388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7337520" y="7666200"/>
            <a:ext cx="1339920" cy="1201680"/>
          </a:xfrm>
          <a:prstGeom prst="rightArrow">
            <a:avLst>
              <a:gd name="adj1" fmla="val 50000"/>
              <a:gd name="adj2" fmla="val 278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7969320"/>
            <a:ext cx="144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Times New Roman"/>
              </a:rPr>
              <a:t>ภายในเดือน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มค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-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กพ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๕๓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7" name=""/>
          <p:cNvSpPr/>
          <p:nvPr/>
        </p:nvSpPr>
        <p:spPr>
          <a:xfrm>
            <a:off x="9856800" y="7032600"/>
            <a:ext cx="107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Times New Roman"/>
              </a:rPr>
              <a:t>    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Times New Roman"/>
              </a:rPr>
              <a:t>ภายในเดือน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มค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๕๓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10317600" y="1602360"/>
            <a:ext cx="677880" cy="1828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29" name=""/>
          <p:cNvSpPr/>
          <p:nvPr/>
        </p:nvSpPr>
        <p:spPr>
          <a:xfrm>
            <a:off x="10174320" y="2136600"/>
            <a:ext cx="93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Times New Roman"/>
              </a:rPr>
              <a:t>   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Times New Roman"/>
              </a:rPr>
              <a:t>ทุกสิ้นเดือน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0" name=""/>
          <p:cNvSpPr/>
          <p:nvPr/>
        </p:nvSpPr>
        <p:spPr>
          <a:xfrm>
            <a:off x="7337520" y="5952960"/>
            <a:ext cx="1152360" cy="4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Times New Roman"/>
              </a:rPr>
              <a:t> 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Times New Roman"/>
              </a:rPr>
              <a:t>ภายในเดือน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ธค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๕๒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1" name=""/>
          <p:cNvSpPr/>
          <p:nvPr/>
        </p:nvSpPr>
        <p:spPr>
          <a:xfrm>
            <a:off x="3521160" y="5592600"/>
            <a:ext cx="1295280" cy="129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2" name=""/>
          <p:cNvSpPr/>
          <p:nvPr/>
        </p:nvSpPr>
        <p:spPr>
          <a:xfrm>
            <a:off x="3376440" y="5923080"/>
            <a:ext cx="136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Times New Roman"/>
              </a:rPr>
              <a:t>  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Times New Roman"/>
              </a:rPr>
              <a:t>ภายในเดือน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ตค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-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พย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๕๒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3" name=""/>
          <p:cNvSpPr/>
          <p:nvPr/>
        </p:nvSpPr>
        <p:spPr>
          <a:xfrm>
            <a:off x="3881520" y="3230640"/>
            <a:ext cx="15652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Times New Roman"/>
              </a:rPr>
              <a:t>       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Times New Roman"/>
              </a:rPr>
              <a:t>ภายในวันที่ ๓๐ 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Times New Roman"/>
              </a:rPr>
              <a:t>       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Times New Roman"/>
              </a:rPr>
              <a:t>เม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Times New Roman"/>
              </a:rPr>
              <a:t>.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Times New Roman"/>
              </a:rPr>
              <a:t>ย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Times New Roman"/>
              </a:rPr>
              <a:t>. 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Times New Roman"/>
              </a:rPr>
              <a:t>๕๒  และ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Times New Roman"/>
              </a:rPr>
              <a:t>         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Times New Roman"/>
              </a:rPr>
              <a:t>๓๑ กค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Times New Roman"/>
              </a:rPr>
              <a:t>. 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Times New Roman"/>
              </a:rPr>
              <a:t>๕๒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th-TH" sz="1600" spc="-1" strike="noStrike">
                <a:solidFill>
                  <a:srgbClr val="000000"/>
                </a:solidFill>
                <a:latin typeface="Angsana New"/>
                <a:ea typeface="Times New Roman"/>
              </a:rPr>
              <a:t>     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4" name=""/>
          <p:cNvSpPr/>
          <p:nvPr/>
        </p:nvSpPr>
        <p:spPr>
          <a:xfrm>
            <a:off x="7553160" y="1100160"/>
            <a:ext cx="1008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Times New Roman"/>
              </a:rPr>
              <a:t>ภายในวันที่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Times New Roman"/>
              </a:rPr>
              <a:t>๓ กพ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Times New Roman"/>
              </a:rPr>
              <a:t>. 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Times New Roman"/>
              </a:rPr>
              <a:t>๕๒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697280" y="1209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6" name=""/>
          <p:cNvSpPr/>
          <p:nvPr/>
        </p:nvSpPr>
        <p:spPr>
          <a:xfrm>
            <a:off x="3232080" y="3505320"/>
            <a:ext cx="9720" cy="39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7" name=""/>
          <p:cNvSpPr/>
          <p:nvPr/>
        </p:nvSpPr>
        <p:spPr>
          <a:xfrm>
            <a:off x="3821040" y="2836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8" name=""/>
          <p:cNvSpPr/>
          <p:nvPr/>
        </p:nvSpPr>
        <p:spPr>
          <a:xfrm>
            <a:off x="4087800" y="275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39" name=""/>
          <p:cNvSpPr/>
          <p:nvPr/>
        </p:nvSpPr>
        <p:spPr>
          <a:xfrm>
            <a:off x="3830760" y="2343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0" name=""/>
          <p:cNvSpPr/>
          <p:nvPr/>
        </p:nvSpPr>
        <p:spPr>
          <a:xfrm>
            <a:off x="4087800" y="226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1" name=""/>
          <p:cNvSpPr/>
          <p:nvPr/>
        </p:nvSpPr>
        <p:spPr>
          <a:xfrm>
            <a:off x="4097160" y="1190520"/>
            <a:ext cx="0" cy="80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2" name=""/>
          <p:cNvSpPr/>
          <p:nvPr/>
        </p:nvSpPr>
        <p:spPr>
          <a:xfrm>
            <a:off x="3840120" y="1365120"/>
            <a:ext cx="0" cy="800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3" name=""/>
          <p:cNvSpPr/>
          <p:nvPr/>
        </p:nvSpPr>
        <p:spPr>
          <a:xfrm>
            <a:off x="8945640" y="3316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4" name=""/>
          <p:cNvSpPr/>
          <p:nvPr/>
        </p:nvSpPr>
        <p:spPr>
          <a:xfrm>
            <a:off x="8945640" y="2813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5" name=""/>
          <p:cNvSpPr/>
          <p:nvPr/>
        </p:nvSpPr>
        <p:spPr>
          <a:xfrm>
            <a:off x="8945640" y="2324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6" name=""/>
          <p:cNvSpPr/>
          <p:nvPr/>
        </p:nvSpPr>
        <p:spPr>
          <a:xfrm>
            <a:off x="8945640" y="1390680"/>
            <a:ext cx="0" cy="799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7" name=""/>
          <p:cNvSpPr/>
          <p:nvPr/>
        </p:nvSpPr>
        <p:spPr>
          <a:xfrm>
            <a:off x="4192560" y="82566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8" name=""/>
          <p:cNvSpPr/>
          <p:nvPr/>
        </p:nvSpPr>
        <p:spPr>
          <a:xfrm>
            <a:off x="4192560" y="7553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49" name=""/>
          <p:cNvSpPr/>
          <p:nvPr/>
        </p:nvSpPr>
        <p:spPr>
          <a:xfrm>
            <a:off x="8894880" y="754236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0" name=""/>
          <p:cNvSpPr/>
          <p:nvPr/>
        </p:nvSpPr>
        <p:spPr>
          <a:xfrm>
            <a:off x="6316560" y="765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1" name=""/>
          <p:cNvSpPr/>
          <p:nvPr/>
        </p:nvSpPr>
        <p:spPr>
          <a:xfrm>
            <a:off x="6316560" y="3230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2" name=""/>
          <p:cNvSpPr/>
          <p:nvPr/>
        </p:nvSpPr>
        <p:spPr>
          <a:xfrm>
            <a:off x="6545160" y="1387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3" name=""/>
          <p:cNvSpPr/>
          <p:nvPr/>
        </p:nvSpPr>
        <p:spPr>
          <a:xfrm>
            <a:off x="6294600" y="129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4" name=""/>
          <p:cNvSpPr/>
          <p:nvPr/>
        </p:nvSpPr>
        <p:spPr>
          <a:xfrm>
            <a:off x="6400800" y="4176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8985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6" name=""/>
          <p:cNvSpPr/>
          <p:nvPr/>
        </p:nvSpPr>
        <p:spPr>
          <a:xfrm>
            <a:off x="6316560" y="8717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7" name=""/>
          <p:cNvSpPr/>
          <p:nvPr/>
        </p:nvSpPr>
        <p:spPr>
          <a:xfrm>
            <a:off x="8894880" y="8161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8" name=""/>
          <p:cNvSpPr/>
          <p:nvPr/>
        </p:nvSpPr>
        <p:spPr>
          <a:xfrm>
            <a:off x="6832440" y="753732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59" name=""/>
          <p:cNvSpPr/>
          <p:nvPr/>
        </p:nvSpPr>
        <p:spPr>
          <a:xfrm>
            <a:off x="4325760" y="5683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60" name=""/>
          <p:cNvSpPr/>
          <p:nvPr/>
        </p:nvSpPr>
        <p:spPr>
          <a:xfrm>
            <a:off x="4078440" y="3490920"/>
            <a:ext cx="18720" cy="21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61" name=""/>
          <p:cNvSpPr/>
          <p:nvPr/>
        </p:nvSpPr>
        <p:spPr>
          <a:xfrm>
            <a:off x="3801960" y="354348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62" name=""/>
          <p:cNvSpPr/>
          <p:nvPr/>
        </p:nvSpPr>
        <p:spPr>
          <a:xfrm>
            <a:off x="7859880" y="31449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63" name=""/>
          <p:cNvSpPr/>
          <p:nvPr/>
        </p:nvSpPr>
        <p:spPr>
          <a:xfrm>
            <a:off x="7859880" y="263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64" name=""/>
          <p:cNvSpPr/>
          <p:nvPr/>
        </p:nvSpPr>
        <p:spPr>
          <a:xfrm>
            <a:off x="7650000" y="2152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65" name=""/>
          <p:cNvSpPr/>
          <p:nvPr/>
        </p:nvSpPr>
        <p:spPr>
          <a:xfrm>
            <a:off x="4535640" y="313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66" name=""/>
          <p:cNvSpPr/>
          <p:nvPr/>
        </p:nvSpPr>
        <p:spPr>
          <a:xfrm>
            <a:off x="4554360" y="26589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67" name=""/>
          <p:cNvSpPr/>
          <p:nvPr/>
        </p:nvSpPr>
        <p:spPr>
          <a:xfrm>
            <a:off x="4792680" y="2171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68" name=""/>
          <p:cNvSpPr/>
          <p:nvPr/>
        </p:nvSpPr>
        <p:spPr>
          <a:xfrm>
            <a:off x="5392800" y="1055520"/>
            <a:ext cx="2057400" cy="34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ยุทธศาสตร์</a:t>
            </a:r>
            <a:r>
              <a:rPr b="1" lang="en-US" sz="1400" spc="-1" strike="noStrike">
                <a:solidFill>
                  <a:srgbClr val="0000ff"/>
                </a:solidFill>
                <a:latin typeface="Angsana New"/>
              </a:rPr>
              <a:t>/</a:t>
            </a: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เป้าหมายยุทธศาสตร์ชาติ</a:t>
            </a:r>
            <a:endParaRPr b="0" lang="en-US" sz="1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69" name=""/>
          <p:cNvSpPr/>
          <p:nvPr/>
        </p:nvSpPr>
        <p:spPr>
          <a:xfrm>
            <a:off x="5891040" y="576360"/>
            <a:ext cx="1028880" cy="342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นโยบายรัฐบาล</a:t>
            </a:r>
            <a:endParaRPr b="0" lang="en-US" sz="1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0" name=""/>
          <p:cNvSpPr/>
          <p:nvPr/>
        </p:nvSpPr>
        <p:spPr>
          <a:xfrm>
            <a:off x="6316560" y="1762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1" name=""/>
          <p:cNvSpPr/>
          <p:nvPr/>
        </p:nvSpPr>
        <p:spPr>
          <a:xfrm>
            <a:off x="6316560" y="225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2" name=""/>
          <p:cNvSpPr/>
          <p:nvPr/>
        </p:nvSpPr>
        <p:spPr>
          <a:xfrm>
            <a:off x="6545160" y="233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3" name=""/>
          <p:cNvSpPr/>
          <p:nvPr/>
        </p:nvSpPr>
        <p:spPr>
          <a:xfrm>
            <a:off x="6450120" y="2286000"/>
            <a:ext cx="80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ผลลัพธ์</a:t>
            </a:r>
            <a:endParaRPr b="0" lang="en-US" sz="1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4" name=""/>
          <p:cNvSpPr/>
          <p:nvPr/>
        </p:nvSpPr>
        <p:spPr>
          <a:xfrm>
            <a:off x="6316560" y="273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5" name=""/>
          <p:cNvSpPr/>
          <p:nvPr/>
        </p:nvSpPr>
        <p:spPr>
          <a:xfrm>
            <a:off x="6545160" y="2803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6" name=""/>
          <p:cNvSpPr/>
          <p:nvPr/>
        </p:nvSpPr>
        <p:spPr>
          <a:xfrm>
            <a:off x="5002200" y="2971800"/>
            <a:ext cx="2857680" cy="34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ยุทธศาสตร์</a:t>
            </a:r>
            <a:r>
              <a:rPr b="1" lang="en-US" sz="1400" spc="-1" strike="noStrike">
                <a:solidFill>
                  <a:srgbClr val="0000ff"/>
                </a:solidFill>
                <a:latin typeface="Angsana New"/>
              </a:rPr>
              <a:t>/</a:t>
            </a: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เป้าหมายการให้บริการหน่วยงาน </a:t>
            </a:r>
            <a:r>
              <a:rPr b="1" lang="en-US" sz="1400" spc="-1" strike="noStrike">
                <a:solidFill>
                  <a:srgbClr val="0000ff"/>
                </a:solidFill>
                <a:latin typeface="Angsana New"/>
              </a:rPr>
              <a:t>(</a:t>
            </a: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สถาบัน</a:t>
            </a:r>
            <a:r>
              <a:rPr b="1" lang="en-US" sz="1400" spc="-1" strike="noStrike">
                <a:solidFill>
                  <a:srgbClr val="0000ff"/>
                </a:solidFill>
                <a:latin typeface="Angsana New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7" name=""/>
          <p:cNvSpPr/>
          <p:nvPr/>
        </p:nvSpPr>
        <p:spPr>
          <a:xfrm>
            <a:off x="6545160" y="3306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8" name=""/>
          <p:cNvSpPr/>
          <p:nvPr/>
        </p:nvSpPr>
        <p:spPr>
          <a:xfrm>
            <a:off x="5753160" y="3467160"/>
            <a:ext cx="1028520" cy="342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ผลผลิต</a:t>
            </a:r>
            <a:r>
              <a:rPr b="1" lang="en-US" sz="1400" spc="-1" strike="noStrike">
                <a:solidFill>
                  <a:srgbClr val="0000ff"/>
                </a:solidFill>
                <a:latin typeface="Angsana New"/>
              </a:rPr>
              <a:t>/</a:t>
            </a: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โครงการ</a:t>
            </a:r>
            <a:endParaRPr b="0" lang="en-US" sz="1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79" name=""/>
          <p:cNvSpPr/>
          <p:nvPr/>
        </p:nvSpPr>
        <p:spPr>
          <a:xfrm>
            <a:off x="2944800" y="1036800"/>
            <a:ext cx="1771560" cy="342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แผนบริหารราชการแผ่นดิน</a:t>
            </a:r>
            <a:endParaRPr b="0" lang="en-US" sz="1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0" name=""/>
          <p:cNvSpPr/>
          <p:nvPr/>
        </p:nvSpPr>
        <p:spPr>
          <a:xfrm>
            <a:off x="8259840" y="2981160"/>
            <a:ext cx="1371600" cy="343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ตัวชี้วัด </a:t>
            </a:r>
            <a:r>
              <a:rPr b="1" lang="en-US" sz="1400" spc="-1" strike="noStrike">
                <a:solidFill>
                  <a:srgbClr val="0000ff"/>
                </a:solidFill>
                <a:latin typeface="Angsana New"/>
              </a:rPr>
              <a:t>- </a:t>
            </a: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ค่าเป้าหมาย</a:t>
            </a:r>
            <a:endParaRPr b="0" lang="en-US" sz="1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1" name=""/>
          <p:cNvSpPr/>
          <p:nvPr/>
        </p:nvSpPr>
        <p:spPr>
          <a:xfrm>
            <a:off x="2871720" y="1990800"/>
            <a:ext cx="1959120" cy="342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แผนปฏิบัติราชการ </a:t>
            </a:r>
            <a:r>
              <a:rPr b="1" lang="en-US" sz="1400" spc="-1" strike="noStrike">
                <a:solidFill>
                  <a:srgbClr val="0000ff"/>
                </a:solidFill>
                <a:latin typeface="Angsana New"/>
              </a:rPr>
              <a:t>4 </a:t>
            </a: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ปี</a:t>
            </a:r>
            <a:r>
              <a:rPr b="1" lang="en-US" sz="1400" spc="-1" strike="noStrike">
                <a:solidFill>
                  <a:srgbClr val="0000ff"/>
                </a:solidFill>
                <a:latin typeface="Angsana New"/>
              </a:rPr>
              <a:t>/</a:t>
            </a: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ประจำปี</a:t>
            </a:r>
            <a:endParaRPr b="0" lang="en-US" sz="1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2" name=""/>
          <p:cNvSpPr/>
          <p:nvPr/>
        </p:nvSpPr>
        <p:spPr>
          <a:xfrm>
            <a:off x="2944800" y="2976480"/>
            <a:ext cx="1886040" cy="571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แผนกลยุทธ์</a:t>
            </a:r>
            <a:endParaRPr b="0" lang="en-US" sz="14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แผนปฏิบัติราชการ </a:t>
            </a:r>
            <a:r>
              <a:rPr b="1" lang="en-US" sz="1400" spc="-1" strike="noStrike">
                <a:solidFill>
                  <a:srgbClr val="0000ff"/>
                </a:solidFill>
                <a:latin typeface="Angsana New"/>
              </a:rPr>
              <a:t>4 </a:t>
            </a: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ปี</a:t>
            </a:r>
            <a:r>
              <a:rPr b="1" lang="en-US" sz="1400" spc="-1" strike="noStrike">
                <a:solidFill>
                  <a:srgbClr val="0000ff"/>
                </a:solidFill>
                <a:latin typeface="Angsana New"/>
              </a:rPr>
              <a:t>/</a:t>
            </a: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ประจำปี</a:t>
            </a:r>
            <a:endParaRPr b="0" lang="en-US" sz="1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3" name=""/>
          <p:cNvSpPr/>
          <p:nvPr/>
        </p:nvSpPr>
        <p:spPr>
          <a:xfrm>
            <a:off x="2871720" y="2496960"/>
            <a:ext cx="1959120" cy="343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แผนปฏิบัติราชการ </a:t>
            </a:r>
            <a:r>
              <a:rPr b="1" lang="en-US" sz="1400" spc="-1" strike="noStrike">
                <a:solidFill>
                  <a:srgbClr val="0000ff"/>
                </a:solidFill>
                <a:latin typeface="Angsana New"/>
              </a:rPr>
              <a:t>4 </a:t>
            </a: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ปี</a:t>
            </a:r>
            <a:r>
              <a:rPr b="1" lang="en-US" sz="1400" spc="-1" strike="noStrike">
                <a:solidFill>
                  <a:srgbClr val="0000ff"/>
                </a:solidFill>
                <a:latin typeface="Angsana New"/>
              </a:rPr>
              <a:t>/</a:t>
            </a: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ประจำปี</a:t>
            </a:r>
            <a:endParaRPr b="0" lang="en-US" sz="1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4" name=""/>
          <p:cNvSpPr/>
          <p:nvPr/>
        </p:nvSpPr>
        <p:spPr>
          <a:xfrm>
            <a:off x="3421080" y="5564160"/>
            <a:ext cx="1028520" cy="3430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แผนงบประมาณ</a:t>
            </a:r>
            <a:endParaRPr b="0" lang="en-US" sz="1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5" name=""/>
          <p:cNvSpPr/>
          <p:nvPr/>
        </p:nvSpPr>
        <p:spPr>
          <a:xfrm>
            <a:off x="6551640" y="1306440"/>
            <a:ext cx="8017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ผลกระทบ</a:t>
            </a:r>
            <a:endParaRPr b="0" lang="en-US" sz="1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6" name=""/>
          <p:cNvSpPr/>
          <p:nvPr/>
        </p:nvSpPr>
        <p:spPr>
          <a:xfrm>
            <a:off x="6450120" y="2765520"/>
            <a:ext cx="8017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ผลลัพธ์</a:t>
            </a:r>
            <a:endParaRPr b="0" lang="en-US" sz="1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7" name=""/>
          <p:cNvSpPr/>
          <p:nvPr/>
        </p:nvSpPr>
        <p:spPr>
          <a:xfrm>
            <a:off x="6316560" y="3811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8" name=""/>
          <p:cNvSpPr/>
          <p:nvPr/>
        </p:nvSpPr>
        <p:spPr>
          <a:xfrm>
            <a:off x="6477120" y="3268800"/>
            <a:ext cx="8017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ผลสำเร็จ</a:t>
            </a:r>
            <a:endParaRPr b="0" lang="en-US" sz="1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89" name=""/>
          <p:cNvSpPr/>
          <p:nvPr/>
        </p:nvSpPr>
        <p:spPr>
          <a:xfrm>
            <a:off x="5792760" y="3979800"/>
            <a:ext cx="1028880" cy="343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หน่วยงาน</a:t>
            </a:r>
            <a:endParaRPr b="0" lang="en-US" sz="1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0" name=""/>
          <p:cNvSpPr/>
          <p:nvPr/>
        </p:nvSpPr>
        <p:spPr>
          <a:xfrm>
            <a:off x="6316560" y="4305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1" name=""/>
          <p:cNvSpPr/>
          <p:nvPr/>
        </p:nvSpPr>
        <p:spPr>
          <a:xfrm>
            <a:off x="6316560" y="4781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2" name=""/>
          <p:cNvSpPr/>
          <p:nvPr/>
        </p:nvSpPr>
        <p:spPr>
          <a:xfrm>
            <a:off x="6316560" y="5261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3" name=""/>
          <p:cNvSpPr/>
          <p:nvPr/>
        </p:nvSpPr>
        <p:spPr>
          <a:xfrm>
            <a:off x="6316560" y="5737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4" name=""/>
          <p:cNvSpPr/>
          <p:nvPr/>
        </p:nvSpPr>
        <p:spPr>
          <a:xfrm>
            <a:off x="6316560" y="6230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5" name=""/>
          <p:cNvSpPr/>
          <p:nvPr/>
        </p:nvSpPr>
        <p:spPr>
          <a:xfrm>
            <a:off x="6316560" y="722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6" name=""/>
          <p:cNvSpPr/>
          <p:nvPr/>
        </p:nvSpPr>
        <p:spPr>
          <a:xfrm>
            <a:off x="5792760" y="7392960"/>
            <a:ext cx="1028880" cy="343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งบรายจ่าย</a:t>
            </a:r>
            <a:endParaRPr b="0" lang="en-US" sz="1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7" name=""/>
          <p:cNvSpPr/>
          <p:nvPr/>
        </p:nvSpPr>
        <p:spPr>
          <a:xfrm>
            <a:off x="8294760" y="7351560"/>
            <a:ext cx="1143000" cy="3430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แผนจัดซื้อ</a:t>
            </a:r>
            <a:r>
              <a:rPr b="1" lang="en-US" sz="1400" spc="-1" strike="noStrike">
                <a:solidFill>
                  <a:srgbClr val="0000ff"/>
                </a:solidFill>
                <a:latin typeface="Angsana New"/>
              </a:rPr>
              <a:t>-</a:t>
            </a: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จัดจ้าง</a:t>
            </a:r>
            <a:endParaRPr b="0" lang="en-US" sz="1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8" name=""/>
          <p:cNvSpPr/>
          <p:nvPr/>
        </p:nvSpPr>
        <p:spPr>
          <a:xfrm>
            <a:off x="8259840" y="2487600"/>
            <a:ext cx="1371600" cy="343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ตัวชี้วัด </a:t>
            </a:r>
            <a:r>
              <a:rPr b="1" lang="en-US" sz="1400" spc="-1" strike="noStrike">
                <a:solidFill>
                  <a:srgbClr val="0000ff"/>
                </a:solidFill>
                <a:latin typeface="Angsana New"/>
              </a:rPr>
              <a:t>- </a:t>
            </a: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ค่าเป้าหมาย</a:t>
            </a:r>
            <a:endParaRPr b="0" lang="en-US" sz="1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199" name=""/>
          <p:cNvSpPr/>
          <p:nvPr/>
        </p:nvSpPr>
        <p:spPr>
          <a:xfrm>
            <a:off x="8259840" y="1981080"/>
            <a:ext cx="1371600" cy="343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ตัวชี้วัด </a:t>
            </a:r>
            <a:r>
              <a:rPr b="1" lang="en-US" sz="1400" spc="-1" strike="noStrike">
                <a:solidFill>
                  <a:srgbClr val="0000ff"/>
                </a:solidFill>
                <a:latin typeface="Angsana New"/>
              </a:rPr>
              <a:t>- </a:t>
            </a: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ค่าเป้าหมาย</a:t>
            </a:r>
            <a:endParaRPr b="0" lang="en-US" sz="1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0" name=""/>
          <p:cNvSpPr/>
          <p:nvPr/>
        </p:nvSpPr>
        <p:spPr>
          <a:xfrm>
            <a:off x="8269200" y="3486240"/>
            <a:ext cx="1371600" cy="342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ตัวชี้วัด </a:t>
            </a:r>
            <a:r>
              <a:rPr b="1" lang="en-US" sz="1400" spc="-1" strike="noStrike">
                <a:solidFill>
                  <a:srgbClr val="0000ff"/>
                </a:solidFill>
                <a:latin typeface="Angsana New"/>
              </a:rPr>
              <a:t>- </a:t>
            </a: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ค่าเป้าหมาย</a:t>
            </a:r>
            <a:endParaRPr b="0" lang="en-US" sz="1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1" name=""/>
          <p:cNvSpPr/>
          <p:nvPr/>
        </p:nvSpPr>
        <p:spPr>
          <a:xfrm>
            <a:off x="8259840" y="1047600"/>
            <a:ext cx="1371600" cy="343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ตัวชี้วัด </a:t>
            </a:r>
            <a:r>
              <a:rPr b="1" lang="en-US" sz="1400" spc="-1" strike="noStrike">
                <a:solidFill>
                  <a:srgbClr val="0000ff"/>
                </a:solidFill>
                <a:latin typeface="Angsana New"/>
              </a:rPr>
              <a:t>- </a:t>
            </a: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ค่าเป้าหมาย</a:t>
            </a:r>
            <a:endParaRPr b="0" lang="en-US" sz="1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2" name=""/>
          <p:cNvSpPr/>
          <p:nvPr/>
        </p:nvSpPr>
        <p:spPr>
          <a:xfrm>
            <a:off x="7450200" y="1224000"/>
            <a:ext cx="799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3" name=""/>
          <p:cNvSpPr/>
          <p:nvPr/>
        </p:nvSpPr>
        <p:spPr>
          <a:xfrm>
            <a:off x="6773760" y="3648240"/>
            <a:ext cx="1486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4" name=""/>
          <p:cNvSpPr/>
          <p:nvPr/>
        </p:nvSpPr>
        <p:spPr>
          <a:xfrm>
            <a:off x="8066160" y="7542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5" name=""/>
          <p:cNvSpPr/>
          <p:nvPr/>
        </p:nvSpPr>
        <p:spPr>
          <a:xfrm>
            <a:off x="3201840" y="5952960"/>
            <a:ext cx="1943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ngsana New"/>
              </a:rPr>
              <a:t>(</a:t>
            </a: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ทั้งงบประมาณแผ่นดิน</a:t>
            </a:r>
            <a:r>
              <a:rPr b="1" lang="en-US" sz="1400" spc="-1" strike="noStrike">
                <a:solidFill>
                  <a:srgbClr val="0000ff"/>
                </a:solidFill>
                <a:latin typeface="Angsana New"/>
              </a:rPr>
              <a:t>/</a:t>
            </a: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เงินรายได้</a:t>
            </a:r>
            <a:r>
              <a:rPr b="1" lang="en-US" sz="1400" spc="-1" strike="noStrike">
                <a:solidFill>
                  <a:srgbClr val="0000ff"/>
                </a:solidFill>
                <a:latin typeface="Angsana New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6" name=""/>
          <p:cNvSpPr/>
          <p:nvPr/>
        </p:nvSpPr>
        <p:spPr>
          <a:xfrm>
            <a:off x="5468760" y="3917880"/>
            <a:ext cx="1600200" cy="4411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439880" y="5808600"/>
            <a:ext cx="102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8" name=""/>
          <p:cNvSpPr/>
          <p:nvPr/>
        </p:nvSpPr>
        <p:spPr>
          <a:xfrm>
            <a:off x="5802480" y="4456080"/>
            <a:ext cx="1028520" cy="343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แผนงาน</a:t>
            </a:r>
            <a:endParaRPr b="0" lang="en-US" sz="1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09" name=""/>
          <p:cNvSpPr/>
          <p:nvPr/>
        </p:nvSpPr>
        <p:spPr>
          <a:xfrm>
            <a:off x="6316560" y="6726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0" name=""/>
          <p:cNvSpPr/>
          <p:nvPr/>
        </p:nvSpPr>
        <p:spPr>
          <a:xfrm>
            <a:off x="5716440" y="7883640"/>
            <a:ext cx="1209960" cy="342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รายงานการใช้จ่ายเงิน</a:t>
            </a:r>
            <a:endParaRPr b="0" lang="en-US" sz="1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1" name=""/>
          <p:cNvSpPr/>
          <p:nvPr/>
        </p:nvSpPr>
        <p:spPr>
          <a:xfrm>
            <a:off x="5578560" y="8472600"/>
            <a:ext cx="1485720" cy="342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การติดตามและประเมินผล</a:t>
            </a:r>
            <a:endParaRPr b="0" lang="en-US" sz="1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2" name=""/>
          <p:cNvSpPr/>
          <p:nvPr/>
        </p:nvSpPr>
        <p:spPr>
          <a:xfrm>
            <a:off x="7408800" y="7361280"/>
            <a:ext cx="685800" cy="34272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งบลงทุน</a:t>
            </a:r>
            <a:endParaRPr b="0" lang="en-US" sz="1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3" name=""/>
          <p:cNvSpPr/>
          <p:nvPr/>
        </p:nvSpPr>
        <p:spPr>
          <a:xfrm>
            <a:off x="8085240" y="7877160"/>
            <a:ext cx="1600200" cy="34308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รายงานผลการจัดซื้อ</a:t>
            </a:r>
            <a:r>
              <a:rPr b="1" lang="en-US" sz="1400" spc="-1" strike="noStrike">
                <a:solidFill>
                  <a:srgbClr val="0000ff"/>
                </a:solidFill>
                <a:latin typeface="Angsana New"/>
              </a:rPr>
              <a:t>-</a:t>
            </a: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จัดจ้าง</a:t>
            </a:r>
            <a:endParaRPr b="0" lang="en-US" sz="1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4" name=""/>
          <p:cNvSpPr/>
          <p:nvPr/>
        </p:nvSpPr>
        <p:spPr>
          <a:xfrm>
            <a:off x="7064280" y="8628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5" name=""/>
          <p:cNvSpPr/>
          <p:nvPr/>
        </p:nvSpPr>
        <p:spPr>
          <a:xfrm>
            <a:off x="3468600" y="7781760"/>
            <a:ext cx="1438200" cy="5050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รายงานผลการปฏิบัติงานตามคำรับรอง</a:t>
            </a:r>
            <a:endParaRPr b="0" lang="en-US" sz="1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6" name=""/>
          <p:cNvSpPr/>
          <p:nvPr/>
        </p:nvSpPr>
        <p:spPr>
          <a:xfrm>
            <a:off x="3497400" y="7305840"/>
            <a:ext cx="1371600" cy="3427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คำรับรองการปฏิบัติงาน</a:t>
            </a:r>
            <a:endParaRPr b="0" lang="en-US" sz="1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7" name=""/>
          <p:cNvSpPr/>
          <p:nvPr/>
        </p:nvSpPr>
        <p:spPr>
          <a:xfrm>
            <a:off x="4192560" y="8612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8" name=""/>
          <p:cNvSpPr/>
          <p:nvPr/>
        </p:nvSpPr>
        <p:spPr>
          <a:xfrm>
            <a:off x="3259080" y="746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19" name=""/>
          <p:cNvSpPr/>
          <p:nvPr/>
        </p:nvSpPr>
        <p:spPr>
          <a:xfrm>
            <a:off x="2728800" y="315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728800" y="8953560"/>
            <a:ext cx="3587760" cy="2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0" y="8688240"/>
            <a:ext cx="1943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นำผลไปใช้ทบทวนการวางแผน</a:t>
            </a:r>
            <a:endParaRPr b="0" lang="en-US" sz="1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2" name=""/>
          <p:cNvSpPr/>
          <p:nvPr/>
        </p:nvSpPr>
        <p:spPr>
          <a:xfrm>
            <a:off x="2719440" y="3164040"/>
            <a:ext cx="9360" cy="581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3" name=""/>
          <p:cNvSpPr/>
          <p:nvPr/>
        </p:nvSpPr>
        <p:spPr>
          <a:xfrm>
            <a:off x="2655720" y="120600"/>
            <a:ext cx="7561440" cy="3430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hi-IN" sz="1600" spc="-1" strike="noStrike">
                <a:solidFill>
                  <a:srgbClr val="0000ff"/>
                </a:solidFill>
                <a:latin typeface="Angsana New"/>
              </a:rPr>
              <a:t>แผนภาพที่ </a:t>
            </a:r>
            <a:r>
              <a:rPr b="1" lang="en-US" sz="1600" spc="-1" strike="noStrike">
                <a:solidFill>
                  <a:srgbClr val="0000ff"/>
                </a:solidFill>
                <a:latin typeface="Angsana New"/>
              </a:rPr>
              <a:t>6  </a:t>
            </a:r>
            <a:r>
              <a:rPr b="1" lang="hi-IN" sz="1600" spc="-1" strike="noStrike">
                <a:solidFill>
                  <a:srgbClr val="0000ff"/>
                </a:solidFill>
                <a:latin typeface="Angsana New"/>
              </a:rPr>
              <a:t>แสดงความเชื่อมโยงแผนยุทธศาสตร์ชาติ  กระทรวง  กลุ่มภารกิจ  สถาบัน  กับการจัดทำงบประมาณประจำปี</a:t>
            </a:r>
            <a:endParaRPr b="0" lang="en-US" sz="16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4" name=""/>
          <p:cNvSpPr/>
          <p:nvPr/>
        </p:nvSpPr>
        <p:spPr>
          <a:xfrm>
            <a:off x="6545160" y="1847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5" name=""/>
          <p:cNvSpPr/>
          <p:nvPr/>
        </p:nvSpPr>
        <p:spPr>
          <a:xfrm>
            <a:off x="5402160" y="1514520"/>
            <a:ext cx="2057400" cy="34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ยุทธศาสตร์การจัดสรรงบประมาณ</a:t>
            </a:r>
            <a:endParaRPr b="0" lang="en-US" sz="1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6" name=""/>
          <p:cNvSpPr/>
          <p:nvPr/>
        </p:nvSpPr>
        <p:spPr>
          <a:xfrm>
            <a:off x="5248440" y="1996920"/>
            <a:ext cx="2400120" cy="34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ยุทธศาสตร์</a:t>
            </a:r>
            <a:r>
              <a:rPr b="1" lang="en-US" sz="1400" spc="-1" strike="noStrike">
                <a:solidFill>
                  <a:srgbClr val="0000ff"/>
                </a:solidFill>
                <a:latin typeface="Angsana New"/>
              </a:rPr>
              <a:t>/</a:t>
            </a: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เป้าหมายการให้บริการกระทรวง</a:t>
            </a:r>
            <a:endParaRPr b="0" lang="en-US" sz="1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2486160"/>
            <a:ext cx="2848320" cy="34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th-TH" sz="1400" spc="-1" strike="noStrike">
                <a:solidFill>
                  <a:srgbClr val="0000ff"/>
                </a:solidFill>
                <a:latin typeface="Angsana New"/>
              </a:rPr>
              <a:t>ยุทธศาสตร์</a:t>
            </a:r>
            <a:r>
              <a:rPr b="1" lang="th-TH" sz="1400" spc="-1" strike="noStrike">
                <a:solidFill>
                  <a:srgbClr val="0000ff"/>
                </a:solidFill>
                <a:latin typeface="Angsana New"/>
              </a:rPr>
              <a:t>/</a:t>
            </a:r>
            <a:r>
              <a:rPr b="1" lang="th-TH" sz="1400" spc="-1" strike="noStrike">
                <a:solidFill>
                  <a:srgbClr val="0000ff"/>
                </a:solidFill>
                <a:latin typeface="Angsana New"/>
              </a:rPr>
              <a:t>เป้าหมายการให้บริการกลุ่มภารกิจ </a:t>
            </a:r>
            <a:r>
              <a:rPr b="1" lang="th-TH" sz="1400" spc="-1" strike="noStrike">
                <a:solidFill>
                  <a:srgbClr val="0000ff"/>
                </a:solidFill>
                <a:latin typeface="Angsana New"/>
              </a:rPr>
              <a:t>(</a:t>
            </a:r>
            <a:r>
              <a:rPr b="1" lang="th-TH" sz="1400" spc="-1" strike="noStrike">
                <a:solidFill>
                  <a:srgbClr val="0000ff"/>
                </a:solidFill>
                <a:latin typeface="Angsana New"/>
              </a:rPr>
              <a:t>สกอ</a:t>
            </a:r>
            <a:r>
              <a:rPr b="1" lang="th-TH" sz="1400" spc="-1" strike="noStrike">
                <a:solidFill>
                  <a:srgbClr val="0000ff"/>
                </a:solidFill>
                <a:latin typeface="Angsana New"/>
              </a:rPr>
              <a:t>.)</a:t>
            </a:r>
            <a:endParaRPr b="0" lang="en-US" sz="1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8" name=""/>
          <p:cNvSpPr/>
          <p:nvPr/>
        </p:nvSpPr>
        <p:spPr>
          <a:xfrm>
            <a:off x="5792760" y="4925880"/>
            <a:ext cx="1028880" cy="343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กิจกรรมหลัก</a:t>
            </a:r>
            <a:endParaRPr b="0" lang="en-US" sz="1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29" name=""/>
          <p:cNvSpPr/>
          <p:nvPr/>
        </p:nvSpPr>
        <p:spPr>
          <a:xfrm>
            <a:off x="5792760" y="5400720"/>
            <a:ext cx="1028880" cy="342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กิจกรรมรอง</a:t>
            </a:r>
            <a:endParaRPr b="0" lang="en-US" sz="1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30" name=""/>
          <p:cNvSpPr/>
          <p:nvPr/>
        </p:nvSpPr>
        <p:spPr>
          <a:xfrm>
            <a:off x="5792760" y="5886360"/>
            <a:ext cx="1028880" cy="343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กิจกรรมย่อย</a:t>
            </a:r>
            <a:endParaRPr b="0" lang="en-US" sz="1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31" name=""/>
          <p:cNvSpPr/>
          <p:nvPr/>
        </p:nvSpPr>
        <p:spPr>
          <a:xfrm>
            <a:off x="5792760" y="6389640"/>
            <a:ext cx="1028880" cy="343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โครงการ</a:t>
            </a:r>
            <a:endParaRPr b="0" lang="en-US" sz="1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32" name=""/>
          <p:cNvSpPr/>
          <p:nvPr/>
        </p:nvSpPr>
        <p:spPr>
          <a:xfrm>
            <a:off x="5792760" y="6888240"/>
            <a:ext cx="1028880" cy="342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กองทุน</a:t>
            </a:r>
            <a:endParaRPr b="0" lang="en-US" sz="14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33" name=""/>
          <p:cNvSpPr/>
          <p:nvPr/>
        </p:nvSpPr>
        <p:spPr>
          <a:xfrm>
            <a:off x="6324480" y="83296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ngsana New"/>
            </a:endParaRPr>
          </a:p>
        </p:txBody>
      </p:sp>
      <p:sp>
        <p:nvSpPr>
          <p:cNvPr id="234" name=""/>
          <p:cNvSpPr/>
          <p:nvPr/>
        </p:nvSpPr>
        <p:spPr>
          <a:xfrm>
            <a:off x="3889440" y="5237280"/>
            <a:ext cx="19429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จัดสรรงบประมาณ</a:t>
            </a:r>
            <a:endParaRPr b="0" lang="en-US" sz="1400" spc="-1" strike="noStrike">
              <a:solidFill>
                <a:srgbClr val="ffffff"/>
              </a:solidFill>
              <a:latin typeface="Angsana New"/>
            </a:endParaRPr>
          </a:p>
          <a:p>
            <a:pPr algn="ctr"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ในระบบ </a:t>
            </a:r>
            <a:r>
              <a:rPr b="1" lang="en-US" sz="1400" spc="-1" strike="noStrike">
                <a:solidFill>
                  <a:srgbClr val="0000ff"/>
                </a:solidFill>
                <a:latin typeface="Angsana New"/>
              </a:rPr>
              <a:t>3 </a:t>
            </a:r>
            <a:r>
              <a:rPr b="1" lang="hi-IN" sz="1400" spc="-1" strike="noStrike">
                <a:solidFill>
                  <a:srgbClr val="0000ff"/>
                </a:solidFill>
                <a:latin typeface="Angsana New"/>
              </a:rPr>
              <a:t>มิติ</a:t>
            </a:r>
            <a:endParaRPr b="0" lang="en-US" sz="1400" spc="-1" strike="noStrike">
              <a:solidFill>
                <a:srgbClr val="ffffff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30T03:03:50Z</dcterms:created>
  <dc:creator>Supareak Vongtha</dc:creator>
  <dc:description/>
  <dc:language>en-US</dc:language>
  <cp:lastModifiedBy>hom</cp:lastModifiedBy>
  <cp:lastPrinted>2002-06-26T03:17:32Z</cp:lastPrinted>
  <dcterms:modified xsi:type="dcterms:W3CDTF">2009-01-12T10:33:28Z</dcterms:modified>
  <cp:revision>309</cp:revision>
  <dc:subject/>
  <dc:title>No Slide Title</dc:title>
</cp:coreProperties>
</file>