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0D4-8281-46AD-99DA-BEA9D667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399-13A2-48C5-A383-B7BA661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A39-0093-413A-814F-90B1EAE5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E5D-3E4A-49E9-ACD9-F68E0F1B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7CF4-CF10-4692-9777-BDC5085E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6BC-6A9B-4E34-92F1-D49B1FA6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6AC9-9FBD-483B-8CC5-8A244951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7E7-EA9D-45E7-9F4B-7A45552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8BE-4A5B-4E24-8C4C-6B40BFFD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0D03-41FB-423E-A41A-4D32A8C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451-6090-4AD1-A207-058B726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0F8-A1D0-4AD1-9475-A29B5EC8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6392-224C-48F9-8E87-0891904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F09-7B65-4CF3-8395-D6D6D18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07C-5037-427D-AC94-60909AB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22B-2B25-45D8-8E11-C3DB28B4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8C2E-2A93-40AA-8B8C-C1E9586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6F2-C004-4891-8252-ACE27248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8C8-1952-4BC2-9F55-E721626A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751-6A65-4B93-ABEC-25215EC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DB8-1562-4CC7-855D-A984A55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D56-5D3D-47AA-80FF-31523E7F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AB0-7F49-4F96-8747-654808F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DB1-2C49-40D9-888D-923A122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445080"/>
            <a:chOff x="0" y="152280"/>
            <a:chExt cx="8686800" cy="6445080"/>
          </a:xfrm>
        </p:grpSpPr>
        <p:sp>
          <p:nvSpPr>
            <p:cNvPr id="1" name=""/>
            <p:cNvSpPr/>
            <p:nvPr/>
          </p:nvSpPr>
          <p:spPr>
            <a:xfrm>
              <a:off x="380880" y="555120"/>
              <a:ext cx="8305920" cy="60422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891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801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14A-33ED-4E05-8229-F8660515B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07920"/>
            <a:ext cx="8991720" cy="4496040"/>
            <a:chOff x="0" y="90792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5092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07920"/>
              <a:ext cx="7162920" cy="990720"/>
            </a:xfrm>
            <a:prstGeom prst="rect">
              <a:avLst/>
            </a:prstGeom>
            <a:noFill/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6512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4164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C22E-4151-46EB-B357-7ACE76613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3.2.4.pdf/" TargetMode="External"/><Relationship Id="rId2" Type="http://schemas.openxmlformats.org/officeDocument/2006/relationships/hyperlink" Target="http://3.2.5.pdf/" TargetMode="External"/><Relationship Id="rId3" Type="http://schemas.openxmlformats.org/officeDocument/2006/relationships/hyperlink" Target="http://3.2.6.pdf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3.2.8.pdf/" TargetMode="External"/><Relationship Id="rId2" Type="http://schemas.openxmlformats.org/officeDocument/2006/relationships/hyperlink" Target="http://3.2.20.pdf/" TargetMode="External"/><Relationship Id="rId3" Type="http://schemas.openxmlformats.org/officeDocument/2006/relationships/hyperlink" Target="http://3.2.36.pdf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3_7.pdf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3588;&#3635;&#3619;&#3633;&#3610;&#3619;&#3629;&#3591;&#3585;&#3634;&#3619;&#3611;&#3599;&#3636;&#3610;&#3633;&#3605;&#3636;&#3619;&#3634;&#3594;&#3585;&#3634;&#3619;%20&#3611;&#3637;%202551.xls" TargetMode="External"/><Relationship Id="rId2" Type="http://schemas.openxmlformats.org/officeDocument/2006/relationships/hyperlink" Target="file:///&#3588;&#3635;&#3619;&#3633;&#3610;&#3619;&#3629;&#3591;&#3585;&#3634;&#3619;&#3611;&#3599;&#3636;&#3610;&#3633;&#3605;&#3636;&#3619;&#3634;&#3594;&#3585;&#3634;&#3619;%20&#3611;&#3637;%202551.xls" TargetMode="External"/><Relationship Id="rId3" Type="http://schemas.openxmlformats.org/officeDocument/2006/relationships/hyperlink" Target="file:///&#3588;&#3635;&#3619;&#3633;&#3610;&#3619;&#3629;&#3591;&#3585;&#3634;&#3619;&#3611;&#3599;&#3636;&#3610;&#3633;&#3605;&#3636;&#3619;&#3634;&#3594;&#3585;&#3634;&#3619;%20&#3611;&#3637;%202551.xls" TargetMode="External"/><Relationship Id="rId4" Type="http://schemas.openxmlformats.org/officeDocument/2006/relationships/hyperlink" Target="file:///&#3588;&#3635;&#3619;&#3633;&#3610;&#3619;&#3629;&#3591;&#3585;&#3634;&#3619;&#3611;&#3599;&#3636;&#3610;&#3633;&#3605;&#3636;&#3619;&#3634;&#3594;&#3585;&#3634;&#3619;%20&#3611;&#3637;%202551.xls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9_25.pdf" TargetMode="External"/><Relationship Id="rId2" Type="http://schemas.openxmlformats.org/officeDocument/2006/relationships/hyperlink" Target="file:///19_25.pd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88200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Arial Unicode MS"/>
              </a:rPr>
              <a:t>ชี้แจงการจัดทำคำรับรองการปฏิบัติราชการและการรายงาน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Arial Unicode MS"/>
              </a:rPr>
              <a:t>ผลการปฏิบัติราชการของหน่วยงานภายในสถาบันฯ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Arial Unicode MS"/>
              </a:rPr>
              <a:t>ประจำปีงบประมา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5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95640" y="3573000"/>
            <a:ext cx="3749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ff"/>
                </a:solidFill>
                <a:latin typeface="Arial Unicode MS"/>
                <a:cs typeface="Arial Unicode MS"/>
              </a:rPr>
              <a:t>โด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         </a:t>
            </a:r>
            <a:r>
              <a:rPr b="1" lang="th-TH" sz="2000" spc="-1" strike="noStrike">
                <a:solidFill>
                  <a:srgbClr val="3333ff"/>
                </a:solidFill>
                <a:latin typeface="Arial Unicode MS"/>
                <a:cs typeface="Arial Unicode MS"/>
              </a:rPr>
              <a:t>นางวันดี   บุญยิ่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      </a:t>
            </a:r>
            <a:r>
              <a:rPr b="1" lang="th-TH" sz="2000" spc="-1" strike="noStrike">
                <a:solidFill>
                  <a:srgbClr val="3333ff"/>
                </a:solidFill>
                <a:latin typeface="Arial Unicode MS"/>
                <a:cs typeface="Arial Unicode MS"/>
              </a:rPr>
              <a:t>ผู้อำนวยการกองแผน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          </a:t>
            </a:r>
            <a:r>
              <a:rPr b="1" lang="th-TH" sz="2000" spc="-1" strike="noStrike">
                <a:solidFill>
                  <a:srgbClr val="3333ff"/>
                </a:solidFill>
                <a:latin typeface="Arial Unicode MS"/>
                <a:cs typeface="Arial Unicode MS"/>
              </a:rPr>
              <a:t>กุมภาพันธ์ </a:t>
            </a:r>
            <a:r>
              <a:rPr b="1" lang="en-US" sz="20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7A1-D0B8-48DD-A02E-63EDAFD4B9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7720" y="1517760"/>
            <a:ext cx="8121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จัดกลุ่มตัวชี้วัด สำหรับจัดทำข้อตกลงในคำรับรอง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ลุ่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ใช้ข้อมูลและเกณฑ์ของสถาบัน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ได้แก่ ตัวชี้วัดที่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 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3.2.1 - 3.2.3  3.2.7  3.2.9 -  3.2.10   3.2.21 -  3.2.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3.3    4 – 6  9  11   12   17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ลุ่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 =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ใช้ข้อมูลหน่วยงานแต่ใช้เกณฑ์สถาบันได้แก่     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4 - 3.2.6   3.2.8    3.2.11 - 3.2.2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26 - 3.2.27   3.2(2)    3.3.1 - 3.3.2   7   9   13 - 16  19 -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B81-D4FD-4E27-B890-BFA7F69B74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7720" y="1517760"/>
            <a:ext cx="8121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จัดกลุ่มตัวชี้วัด สำหรับจัดทำข้อตกลงในคำรับรองฯ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่อ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ลุ่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ใช้ข้อมูลและเกณฑ์ของหน่วยงาน ได้แก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ลุ่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 =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ไม่เกี่ยวกับหน่วยงานหรือหน่วยงานไม่เลือ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หน่วยงานใส่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64C-428A-4CB0-8778-50CB06595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8216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ปรับเปลี่ยนชื่อให้เหมาะสมกับเกณฑ์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4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ะดับความสำเร็จโครงการผลิตบัณฑิตที่มีควา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่วมมือกับต่างประเทศ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1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้อยละของนักศึกษาต่างประเทศต่อนักศึกษาทั้งหม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ะดับความสำเร็จการร่วมมือกับภาคอุตสาห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นการพัฒนาหลักสูตร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3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7F3-11F6-43E3-BCF4-41C6DA4A7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82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8216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ปรับเปลี่ยนชื่อให้เหมาะสมกับเกณฑ์ใหม่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ต่อ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8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้อยละของหลักสูตรบัณฑิตศึกษาต่อหลักสูต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ทั้งหมด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1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้อยละของจำนวนแหล่งเงินทุนสนับสนุน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จากภายนอกต่อแหล่งทุนสนับสนุนงานวิจัยทั้งหม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2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2.36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ร้อยละของผู้เข้าร่วมโครงการมีความรู้ความเข้าใ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นศิลปวัฒนธรรมเพิ่มขึ้น 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3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B63-3237-4677-9A1C-0BEC3B1CA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8216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ตั้งเกณฑ์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2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แล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2)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ทุกตัวชี้วัดย่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นำเป้าหมาย ตั้งไว้ที่เกณฑ์ ระดั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คำนวณสัดส่วนตามเกณฑ์ที่กำหน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อย่าง 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Arial Unicode MS"/>
              </a:rPr>
              <a:t>จำนวนผู้สำเร็จการศึกษา ปีงบประมา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551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้งเป้าหมา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,000</a:t>
            </a: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Arial Unicode MS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03280" y="4221000"/>
          <a:ext cx="6096240" cy="216828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หน่วยวั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้อยล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632-76EC-4D29-B14D-D371955B3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18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ตั้งเกณฑ์การประเมิน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ต่อ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ที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3 ,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ทุกตัวชี้วัดย่อย แล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 – 23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ทุ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หน่วยงานใช้เป้าหมายและเกณฑ์การให้คะแน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ามคำรับรองฯ ของสถาบัน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399-04F6-48EA-8DF3-FE75EA549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18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เขียนรายละเอียดตัวชี้วัด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2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ทุกหน่วยงานที่มี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2 (2) 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ขียนรายละเอียดตัวชี้วัดย่อยทุกตัว  </a:t>
            </a:r>
            <a:r>
              <a:rPr b="0" lang="hi-IN" sz="2400" spc="-1" strike="noStrike" u="sng">
                <a:solidFill>
                  <a:srgbClr val="996666"/>
                </a:solidFill>
                <a:uFillTx/>
                <a:latin typeface="Arial"/>
                <a:cs typeface="Arial Unicode MS"/>
                <a:hlinkClick r:id="rId1"/>
              </a:rPr>
              <a:t>ตามแบบฟอร์มในภาคผนวก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องแผนงานจะใช้รายละเอียดตัวชี้วัดประกอบการประเมินผล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2A8-077C-410D-A880-F9AF9E4D16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18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จัดทำข้อตกลงคำรับรองฯ ของหน่ว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องแผนงานจัดท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l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แบบฟอร์มข้อตกลงคำรับรอง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ทุกหน่วยงานได้นำไปใช้ในการจัดทำข้อมูล โดยข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ความร่วมมือห้ามแก้ไขรูป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นการจัดทำข้อมูลในข้อตกลง ขอให้ผู้รับผิดชอ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ศึกษารายละเอียดแต่ละตัวชี้วัดในคู่มือกรอบ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ประเมินผลการปฏิบัติราชการของหน่วยงานระดับคณะ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อง ประจำปีงบประมา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551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ให้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ข้าใจก่อน เพื่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ป้องกันการทำข้อมูลผิดพลา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77920" y="6021360"/>
            <a:ext cx="340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1"/>
              </a:rPr>
              <a:t>Link </a:t>
            </a:r>
            <a:r>
              <a:rPr b="0" lang="th-TH" sz="2400" spc="-1" strike="noStrike" u="sng">
                <a:solidFill>
                  <a:srgbClr val="996666"/>
                </a:solidFill>
                <a:uFillTx/>
                <a:latin typeface="Arial"/>
                <a:cs typeface="Arial Unicode MS"/>
                <a:hlinkClick r:id="rId2"/>
              </a:rPr>
              <a:t>รายละเอียดข้อตกลง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50840" y="5589720"/>
            <a:ext cx="2657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3"/>
              </a:rPr>
              <a:t>Link </a:t>
            </a:r>
            <a:r>
              <a:rPr b="0" lang="th-TH" sz="2400" spc="-1" strike="noStrike" u="sng">
                <a:solidFill>
                  <a:srgbClr val="996666"/>
                </a:solidFill>
                <a:uFillTx/>
                <a:latin typeface="Arial"/>
                <a:cs typeface="Arial Unicode MS"/>
                <a:hlinkClick r:id="rId4"/>
              </a:rPr>
              <a:t>แบบคำรับรอง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926-BD18-44CE-9EAC-4E4E35CB06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2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รายงานผลการปฏิบัติราชการตาม</a:t>
            </a:r>
            <a:br>
              <a:rPr sz="3800"/>
            </a:b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คำรับรอง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2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กรณีตัวชี้วัดตามแผนกลยุทธ์สถาบั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ctr">
              <a:lnSpc>
                <a:spcPct val="10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ให้หน่วยงานรายงานข้อมูลผลการปฏิบัติราชการประจำปี ตามแบบฟอร์ม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F1-P-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วผ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-001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แก้ไขครั้ง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1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พร้อมข้อมูลดิบไว้ในช่องท้ายสุดของตัวชี้วัด  ส่งให้กองแผนงาน ทุกสิ้นเดือน เพื่อรายงานผลฯ ให้สำนักงบประมา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ctr">
              <a:lnSpc>
                <a:spcPct val="10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ข้อมูลที่รายงานจะต้องตรงกับข้อมูลจากหน่วยงานกลาง หากพบว่า ไม่ตรงกันกองแผนงานจะใช้ข้อมูลของหน่วยงานกลา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ctr">
              <a:lnSpc>
                <a:spcPct val="10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ทุกรอบ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6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เดือน ให้หน่วยงานรายงาน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Highlight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ของหน่วยงานเพิ่มเติมจากการรายงานประจำเดือน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ถ้ามี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เพื่อใช้ประกอบการรายงานผลฯ โดยผู้บริหารระดับสูงของหน่วยงาน ต่อสภาสถาบั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8C7-15F9-4903-BB57-E4022A23D3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2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รายงานผลการปฏิบัติราชการตาม</a:t>
            </a:r>
            <a:br>
              <a:rPr sz="3800"/>
            </a:b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คำรับรอง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รณีตัวชี้วัดตามคำรับรองสถาบัน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องแผนงาน จะประสานขอข้อมูลจากสำนักงานประกันฯ ในร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6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ดือ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9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ดือน แล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2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ดื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ผู้จัดเก็บข้อมูล ต้องจำแนกข้อมูลผลการปฏิบัติราชการตามหน่วยงานและส่งให้สำนักงานประกันฯ ตามกำหน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หากข้อมูลของหน่วยงานไม่ตรงกับสำนักงานประกันฯ กองแผนงานจะใช้ข้อมูลจากสำนักงานประกัน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E9B-643F-4B3A-97A5-D2CE6C7192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รอบการนำเสน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รายงานผลการปฏิบัติราชการตาม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คำรับรอง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ประเมินผลการปฏิบัติราชการตาม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คำรับรอง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AFF-E6A6-43B6-A126-C13366034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</a:t>
            </a:r>
            <a:r>
              <a:rPr b="1" lang="hi-IN" sz="3800" spc="-1" strike="noStrike">
                <a:solidFill>
                  <a:srgbClr val="ffffff"/>
                </a:solidFill>
                <a:latin typeface="Arial Unicode MS"/>
                <a:cs typeface="Arial Unicode MS"/>
              </a:rPr>
              <a:t>การประเมินผลการปฏิบัติราชการ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39720"/>
            <a:ext cx="813600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ระเมินผลตัวชี้วัดตามคำรับรองฯ ของหน่วยงาน โดย        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เปรียบเทียบผลการดำเนินงานจริงกับเป้าหม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ดับคะแนนของผลการประเมินในแต่ละระดับ 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อิงกับ ก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พ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พัฒนาการดีเลิศ ทำได้เกินเป้าหมาย ต้องใช้ความ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พยายามสูงมากสุดเอื้อ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พัฒนาการดีเยี่ยม ทำได้เกินเป้าหมายต้องใช้ความ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พยายามอย่างมา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พัฒนาการดี ทำได้ตามเป้าหมาย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ีพัฒนาการพอใช้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วรปรับปรุ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=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ไม่มีพัฒนาการ 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ต้องปรับปรุ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F54-A60A-4233-A024-587BC90B2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126828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ที่ได้รับ  มีค่าเท่ากับ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50 – 5.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ที่ได้รับ  มีค่าเท่ากับ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50 – 4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ที่ได้รับ  มีค่าเท่ากับ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50 – 3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ที่ได้รับ  มีค่าเท่ากับ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 – 2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ะแนนที่ได้รับ  มีค่าเท่ากับ   </a:t>
            </a:r>
            <a:r>
              <a:rPr b="1" lang="th-TH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 – 1.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94760" y="272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 Unicode MS"/>
                <a:cs typeface="Arial Unicode MS"/>
              </a:rPr>
              <a:t>สัญลักษณ์แทนค่าคะแนนที่ได้รับจากการประเมิน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203560"/>
            <a:ext cx="911160" cy="506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99ff66"/>
                </a:solidFill>
                <a:latin typeface="Arial"/>
                <a:cs typeface="Arial Unicode MS"/>
              </a:rPr>
              <a:t>เขียวเข้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3000240"/>
            <a:ext cx="927360" cy="48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ขียวอ่อ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51200"/>
            <a:ext cx="924120" cy="50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  <a:cs typeface="Arial Unicode MS"/>
              </a:rPr>
              <a:t>เหลื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525920"/>
            <a:ext cx="936720" cy="493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  <a:cs typeface="Arial Unicode MS"/>
              </a:rPr>
              <a:t>ส้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4040" y="5237280"/>
            <a:ext cx="936720" cy="495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rial"/>
                <a:cs typeface="Arial Unicode MS"/>
              </a:rPr>
              <a:t>แด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26240" y="6243480"/>
            <a:ext cx="2519280" cy="287640"/>
          </a:xfrm>
          <a:custGeom>
            <a:avLst/>
            <a:gdLst>
              <a:gd name="textAreaLeft" fmla="*/ 18360 w 2519280"/>
              <a:gd name="textAreaRight" fmla="*/ 2500920 w 25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188973" h="21600">
                <a:moveTo>
                  <a:pt x="0" y="0"/>
                </a:moveTo>
                <a:lnTo>
                  <a:pt x="188973" y="0"/>
                </a:lnTo>
                <a:lnTo>
                  <a:pt x="188973" y="21600"/>
                </a:lnTo>
                <a:lnTo>
                  <a:pt x="0" y="21600"/>
                </a:lnTo>
                <a:close/>
              </a:path>
              <a:path fill="lightenLess" w="188973" h="21600">
                <a:moveTo>
                  <a:pt x="0" y="0"/>
                </a:moveTo>
                <a:lnTo>
                  <a:pt x="188973" y="0"/>
                </a:lnTo>
                <a:lnTo>
                  <a:pt x="187573" y="1400"/>
                </a:lnTo>
                <a:lnTo>
                  <a:pt x="1400" y="1400"/>
                </a:lnTo>
                <a:close/>
              </a:path>
              <a:path fill="darken" w="188973" h="21600">
                <a:moveTo>
                  <a:pt x="188973" y="0"/>
                </a:moveTo>
                <a:lnTo>
                  <a:pt x="188973" y="21600"/>
                </a:lnTo>
                <a:lnTo>
                  <a:pt x="187573" y="20200"/>
                </a:lnTo>
                <a:lnTo>
                  <a:pt x="187573" y="1400"/>
                </a:lnTo>
                <a:close/>
              </a:path>
              <a:path fill="darkenLess" w="188973" h="21600">
                <a:moveTo>
                  <a:pt x="188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573" y="20200"/>
                </a:lnTo>
                <a:close/>
              </a:path>
              <a:path fill="lighten" w="188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384-0B6E-41FD-8C59-FDDE71389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4400" y="1484280"/>
            <a:ext cx="7777440" cy="4768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95280" y="3716280"/>
            <a:ext cx="5832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  <a:ea typeface="Arial Unicode MS"/>
              </a:rPr>
              <a:t>          </a:t>
            </a:r>
            <a:r>
              <a:rPr b="1" lang="hi-IN" sz="4400" spc="-1" strike="noStrike">
                <a:solidFill>
                  <a:srgbClr val="ff3300"/>
                </a:solidFill>
                <a:latin typeface="Arial Black"/>
                <a:cs typeface="Arial Unicode MS"/>
              </a:rPr>
              <a:t>จบการนำเสนอ 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 Black"/>
                <a:ea typeface="Arial Unicode MS"/>
              </a:rPr>
              <a:t>        ขอบคุณค่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C7C-4303-4958-83EE-F1CFED4DAA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4440" y="259920"/>
            <a:ext cx="8029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 Unicode MS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1989000"/>
          <a:ext cx="8172360" cy="4319640"/>
        </p:xfrm>
        <a:graphic>
          <a:graphicData uri="http://schemas.openxmlformats.org/drawingml/2006/table">
            <a:tbl>
              <a:tblPr/>
              <a:tblGrid>
                <a:gridCol w="3300480"/>
                <a:gridCol w="1120680"/>
                <a:gridCol w="1490760"/>
                <a:gridCol w="226044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7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ระดับการลงนามในคำรับรอง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7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ข้อตกลงที่ให้คำรับรองการปฏิบัติราชกา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7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หัวหน้าหน่วยงาน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7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ลงนามกั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7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ผู้บังคับบัญช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84120" y="1490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โครงสร้างคำรับรองการปฏิบัติราชการของสถาบัน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816280"/>
            <a:ext cx="3240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1. </a:t>
            </a:r>
            <a:r>
              <a:rPr b="1" lang="hi-IN" sz="1700" spc="-1" strike="noStrike" u="sng">
                <a:solidFill>
                  <a:srgbClr val="000000"/>
                </a:solidFill>
                <a:uFillTx/>
                <a:latin typeface="Arial"/>
                <a:cs typeface="Arial Unicode MS"/>
              </a:rPr>
              <a:t>ระดับ คณะ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/</a:t>
            </a:r>
            <a:r>
              <a:rPr b="1" lang="hi-IN" sz="1700" spc="-1" strike="noStrike" u="sng">
                <a:solidFill>
                  <a:srgbClr val="000000"/>
                </a:solidFill>
                <a:uFillTx/>
                <a:latin typeface="Arial"/>
                <a:cs typeface="Arial Unicode MS"/>
              </a:rPr>
              <a:t>สำนัก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/</a:t>
            </a:r>
            <a:r>
              <a:rPr b="1" lang="hi-IN" sz="1700" spc="-1" strike="noStrike" u="sng">
                <a:solidFill>
                  <a:srgbClr val="000000"/>
                </a:solidFill>
                <a:uFillTx/>
                <a:latin typeface="Arial"/>
                <a:cs typeface="Arial Unicode MS"/>
              </a:rPr>
              <a:t>บัณฑิต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/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hi-IN" sz="1700" spc="-1" strike="noStrike" u="sng">
                <a:solidFill>
                  <a:srgbClr val="000000"/>
                </a:solidFill>
                <a:uFillTx/>
                <a:latin typeface="Arial"/>
                <a:cs typeface="Arial Unicode MS"/>
              </a:rPr>
              <a:t>วิทยาเขต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คณบด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/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ผอ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สำนัก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/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องอธิการบดี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ำกับ ดูแลวิทยาเขต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272120"/>
            <a:ext cx="3240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1" lang="hi-IN" sz="1700" spc="-1" strike="noStrike" u="sng">
                <a:solidFill>
                  <a:srgbClr val="000000"/>
                </a:solidFill>
                <a:uFillTx/>
                <a:latin typeface="Arial"/>
                <a:cs typeface="Arial Unicode MS"/>
              </a:rPr>
              <a:t>ระดับกอง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ผอ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อง หรือตำแหน่งเทียบเท่า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องอธิการบด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28960" y="3009960"/>
            <a:ext cx="107964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ลงนามกั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3008160"/>
            <a:ext cx="10796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อธิการบด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197240"/>
            <a:ext cx="10796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ลงนามกับ</a:t>
            </a:r>
            <a:br>
              <a:rPr sz="1700"/>
            </a:b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ลงนามกั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4194000"/>
            <a:ext cx="13683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รองอธิการบดี</a:t>
            </a:r>
            <a:br>
              <a:rPr sz="1700"/>
            </a:br>
            <a:r>
              <a:rPr b="1" lang="hi-IN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อธิการบด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5480" y="2882880"/>
            <a:ext cx="22320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1. 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ยุทธศาสตร์ของ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สถาบันฯ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2. 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วัดการ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ปฏิบัติราชการ 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เป้าหมาย และเกณฑ์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การให้คะแนนตาม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ยุทธศาสตร์สถาบันฯ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และภารกิจของ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หน่วยงาน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3. 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ภาคบังคับ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ตามกรอบของ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   สำนักงาน ก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พ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cs typeface="Arial Unicode MS"/>
              </a:rPr>
              <a:t>ร</a:t>
            </a:r>
            <a:r>
              <a:rPr b="1" lang="th-TH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4B6-9211-4FFC-BE97-19FCAF65C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774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 Unicode MS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692360"/>
            <a:ext cx="83566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น่วยงานจัดทำคำรับรองฯ ตามกรอบการประเมินผล ทั้ง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</a:t>
            </a: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ิ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ถาบันฯ กำหนดให้ทุกหน่วยงาน มีน้ำหนักรวม ร้อยล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00" y="2997360"/>
            <a:ext cx="3816360" cy="14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  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ประสิทธิผ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น้ำหนักรวม 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5720" y="2997360"/>
            <a:ext cx="3936960" cy="143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  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คุณภา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น้ำหนักรวม 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00" y="4437000"/>
            <a:ext cx="3816360" cy="14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3  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ประสิทธิภาพขอ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ปฏิบัติราช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น้ำหนักรวม 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68960" y="4437000"/>
            <a:ext cx="3933720" cy="144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4  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การพัฒนาองค์ก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  <a:cs typeface="Arial Unicode MS"/>
              </a:rPr>
              <a:t>น้ำหนักรวม ร้อยล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327-E79E-4882-B254-37DBA0763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3680" y="272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162864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6560" y="1628640"/>
            <a:ext cx="7561440" cy="61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ารจัดกลุ่มหน่วยงาน  แบ่งเป็น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กลุ่ม ค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•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กลุ่ม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1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หน่วยงานที่ดำเนินงานตามพันธกิ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หลัก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ด้าน ได้แก่ คณะ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วิทยาเข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•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กลุ่มที่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หน่วยงานที่สนับสนุน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ดำเนินงานตามพันธกิจหลัก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ได้แก่  สำนัก บัณฑิตและกองใ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สำนักงานอธิการบ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4E6-7F40-426A-BFF9-198003B15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2600" y="272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09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ประสิทธิผล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ประกอบด้ว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คุณภา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ประกอบด้วย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ประสิทธิภาพของการปฏิบัติราชการ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ประกอบด้วย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ที่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มิติด้านการพัฒนาสถาบัน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ประกอบด้ว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cs typeface="Arial Unicode MS"/>
              </a:rPr>
              <a:t>ตัวชี้วัด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ea typeface="Arial Unicode MS"/>
                <a:hlinkClick r:id="rId1"/>
              </a:rPr>
              <a:t>Link </a:t>
            </a:r>
            <a:r>
              <a:rPr b="0" lang="th-TH" sz="1800" spc="-1" strike="noStrike" u="sng">
                <a:solidFill>
                  <a:srgbClr val="996666"/>
                </a:solidFill>
                <a:uFillTx/>
                <a:latin typeface="Arial"/>
                <a:cs typeface="Arial Unicode MS"/>
                <a:hlinkClick r:id="rId2"/>
              </a:rPr>
              <a:t>กรอบประเมิ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9EE-097E-4E97-9DEF-4B66D05B9A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</a:t>
            </a: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ตัวชี้วัดใหม่ในปีงบประมา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ัวชี้วัดที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คุณภาพของแผนปฏิบัติราชการประจำป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ของ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คำอธิบา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คุณภาพของแผนปฏิบัติราชการ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งบประมาณแผ่นดินและเงินรายได้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ของหน่วยงาน ประจำปีงบประมาณ พ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 255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เกณฑ์คุณภา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ประเด็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รงความต้องการจำเป็นและสอดคล้องกับแผนกลยุท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อดคล้องกับอัตลักษณ์และจุดเน้นรวมทั้งวัตถุประสงค์เฉพาะตาม พ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บ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ถาบ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ีส่วนร่วมในการจัดทำแผ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195-F9EB-4A87-991C-BA0CF5A32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</a:t>
            </a: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ตัวชี้วัดใหม่ในปีงบประมา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ัวชี้วัดที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คุณภาพของแผนปฏิบัติราชการประจำป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เป็นระบบครบวงจรของแผนและเป็นรูปธ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มีทรัพยากรเพียงพ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การถ่ายทอดแผนสู่หน่วยงานปฏิบ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ได้รับอนุมัติจากคณะกรรมการหน่วยงาน หรือผู้บริหารสูงสุดข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หน่วยงานส่งแผนปฏิบัติราชการประจำปีภายในระยะเวลาที่กำหน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E33-798C-443E-AA32-FF5856FC5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Arial Unicode MS"/>
              </a:rPr>
              <a:t>การจัดทำคำรับรองการปฏิบัติราชการภายในสถาบัน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0992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ตัวชี้วัด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.3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การบรรลุเป้าหมายตามแผนปฏิบัติราชการขอ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สถาบัน ประจำปีงบประมาณ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2551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ที่สะท้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เอกลักษณ์และจุดเน้นรวมทั้งวัตถุประสงค์เฉพา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      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ตามพ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ร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บ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สถาบันฯ   มี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ตัวชี้วั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.3.1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ระดับความสำเร็จโครงการผลิตบัณฑิตที่มีความร่วมมือกับต่างประ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.3.2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ระดับความสำเร็จการร่วมมือกับภาคอุตสาหกรรมในการพัฒนาหลักสูต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.3.3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rial Unicode MS"/>
              </a:rPr>
              <a:t>ร้อยละของระดับคะแนนการประเมินการเรียนการสอ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3F6-B6EF-4B07-AE1D-B461778665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53:33Z</dcterms:created>
  <dc:creator>Your User Name</dc:creator>
  <dc:description/>
  <dc:language>en-US</dc:language>
  <cp:lastModifiedBy>acer</cp:lastModifiedBy>
  <dcterms:modified xsi:type="dcterms:W3CDTF">2008-03-04T04:49:10Z</dcterms:modified>
  <cp:revision>175</cp:revision>
  <dc:subject/>
  <dc:title>ภาพนิ่ง 1</dc:title>
</cp:coreProperties>
</file>