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4318-B93C-4BA9-8AAF-791B2F2A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ค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C8A74-CDCA-45B3-962B-70122A3A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4E27-2B79-498C-AAD0-FD13DFFA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E9FB-2C76-4DD8-B512-36E25C69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B7C5-C918-4B16-A977-C389B72C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AF66-9FE8-49C2-9B97-451F1FB6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AC79-FC06-4FDB-AF04-0660DFF9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D5AF-8E1F-4C80-A4AE-FEA7996A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3FD2-A48B-4DB6-8F40-1AAEF50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1C48-0D6C-4239-9B6F-CEF30E47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7DD5-46E0-47AE-9EDB-8DB89205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ACCE-B4EA-4BF1-8883-08CE2D6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0A42-B164-4951-8E0F-FCEE7A9C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53FD-226D-450D-98C0-42706407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68E3-BBEC-422D-B67D-347AFC15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7936-455C-4FCA-8DED-4359ACAC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392D-0523-49D0-A07D-007916CE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C901-8C00-4ADD-8C4D-FD2611DF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487E-FCC0-4A09-A21D-823CFB84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BF7E-686E-4D36-96CE-7CA9E68B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805E-9313-4CFD-9E32-61BD3B4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DE01-D948-4494-9AA4-08641EFC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6054-17BF-4567-A593-070BBE14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9280-6B32-4C52-9BC9-AC43E17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B052-FD7F-472B-8FC5-371E16E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6540-1181-4355-84CD-F70C0DABC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A54A-0924-476E-A2C3-3542F2E9D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62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แนวทางการจัดทำคำรับรองการปฏิบัติราชการ</a:t>
            </a:r>
            <a:br>
              <a:rPr sz="4800"/>
            </a:b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และการประเมินผลของหน่วยงานระดับคณ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กอง</a:t>
            </a:r>
            <a:br>
              <a:rPr sz="4800"/>
            </a:b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ประจำปีงบประมาณ พ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25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16196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โดย รศ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ดร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เสน่ห์  เอกะวิภา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รองอธิการบด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98600"/>
            <a:ext cx="814716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Arial"/>
              </a:rPr>
              <a:t>การรายงานผลการปฏิบัติราชการตามคำรับรองการปฏิบัติราชการ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34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รายงานการประเมินผลตนเองรอบ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เดื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ctr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ภายในวันที่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กองแผนงาน รายงานการประเมินผลฯ ของหน่วยงาน เสนอต่อคณะกรรมการผู้บริหารและสภาสถาบันฯ รอบ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เดือ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ตุลาคม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50-30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กันยาย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5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สถาบันฯ ได้มีมติว่า หากหน่วยงานใดจัดส่งรายงานผลการปฏิบัติราชการ รอบ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เดือน ล่าช้ากว่า</a:t>
            </a:r>
            <a:r>
              <a:rPr b="1" lang="hi-IN" sz="3000" spc="-1" strike="noStrike">
                <a:solidFill>
                  <a:srgbClr val="000000"/>
                </a:solidFill>
                <a:latin typeface="Arial"/>
              </a:rPr>
              <a:t>วันอังคารที่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hi-IN" sz="3000" spc="-1" strike="noStrike">
                <a:solidFill>
                  <a:srgbClr val="000000"/>
                </a:solidFill>
                <a:latin typeface="Arial"/>
              </a:rPr>
              <a:t>กันยายน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5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แต่ก่อนวันที่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ตุลาคม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51 (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นับวันที่กองแผนงานลงทะเบียนรั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จะถูกปรับลดคะแน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.5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คะแนน จากคะแนนการประเมินผลรวมทั้งหมด และถ้าส่งระหว่างวันที่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-15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ตุลาคม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51 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จะปรับลดคะแน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0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คะแนน และถ้าส่งหลังวันที่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ตุลาคม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จะปรับลดคะแน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0" lang="hi-IN" sz="3000" spc="-1" strike="noStrike">
                <a:solidFill>
                  <a:srgbClr val="000000"/>
                </a:solidFill>
                <a:latin typeface="Arial"/>
              </a:rPr>
              <a:t>คะแน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จบการนำเสน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8068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หลักการและที่ม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73160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พระราชบัญญัติระเบียบบริหารราชการแผ่นดิน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ฉบับที่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. 25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าตรา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3/1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บัญญัติว่าการปฏิบัติหน้าที่ของส่วนราชการต้องใช้วิธีการบริหารกิจการบ้านเมือง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ที่ดี โดยเฉพาะอย่างยิ่งให้คำนึงถึงความรับผิดชอบของผู้ปฏิบัติ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พระราชกฤษฎีกาว่าด้วยหลักเกณฑ์และวิธีการบริหารกิจการบ้านเมืองที่ดี พ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. 254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าตรา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ำหนดให้ส่วนราชการต้องจัดให้มีการติดตามประเมินผลการปฏิบัติตาม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      แผนปฏิบัติราช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าตรา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เพื่อประโยชน์ในการปฏิบัติราชการให้เกิดผลสัมฤทธิ์ ก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าจเสนอต่อ ครม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เพื่อกำหนดมาตรการกำกับการปฏิบัติราชการ โดยวิธีการจัดทำความตกลงเป็น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      ลายลักษณ์อักษร หรือโดยวิธีการอื่นใด เพื่อแสดงความรับผิดชอบในการ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      ปฏิบัติราช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มาตรา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ำหนดให้ส่วนราชการจัดให้มีคณะผู้ประเมินอิสระดำเนินการประเมินผลการปฏิบัติ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      ราชการของส่วนราช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650880"/>
            <a:ext cx="6840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Arial"/>
              </a:rPr>
              <a:t>หลักการและที่มา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46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3436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ณะรัฐมนตรีได้มีมติเมื่อวันที่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ันยายน พ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2546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ห็นชอบหลักการและรายละเอียดของแนวทางและวิธีการในการสร้างแรงจูงใจเพื่อเสริมสร้างการบริหารกิจการบ้านเมืองที่ดี ที่ ก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สน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แผนยุทธศาสตร์การพัฒนาระบบราชการไทย พ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2546-2550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ำหนดให้มีการเจรจาและทำข้อตกลงว่าด้วยผลงานประจำปี และให้มีการติดตามผลการดำเนินงานตามข้อตกล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ประกันคุณภาพการศึกษาของมหาวิทยาลัย โดย สกอ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แผนกลยุทธ์สถาบัน พ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2550-25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308720" y="2492280"/>
            <a:ext cx="0" cy="152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420920"/>
            <a:ext cx="792000" cy="251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สถาบัน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1420920"/>
            <a:ext cx="865080" cy="27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กำหนด กรอบการประเมินผลการปฏิบัติราชการประจำป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ปฏิทิ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แนวทา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แบบฟอร์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2500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1565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1420920"/>
            <a:ext cx="1152720" cy="298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เตรียมการเจรจากับสถาบัน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วิเคราะห์ควา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เหมาะสมของ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จัดทำเอกสาร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ประกอบ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การเจรจ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แต่งตั้ง ก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เจรจา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156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1436760"/>
            <a:ext cx="93672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ก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เจรจา  ความเหมาะสมของตัวชี้วั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่าเป้าหมายและเกณฑ์ให้คะแนนกับผู้แทนหน่วยงาน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-21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มีนาคม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1420920"/>
            <a:ext cx="72072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บด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ผ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กอง ลงนาม  คำรับรองกับอธิการบด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5440" y="1420920"/>
            <a:ext cx="79056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ตรวจความ ถูกต้องของรายละเอียด 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1420920"/>
            <a:ext cx="792360" cy="14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ประเมินผ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ประเมินผล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, 9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แล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เดือ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1420920"/>
            <a:ext cx="934920" cy="24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จัดสรรสิ่งจูงใ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กำหนด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หลักเกณฑ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ดำเนิน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การจัดสรร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สิ่งจูงใจให้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หน่วยง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4084560"/>
            <a:ext cx="2160720" cy="234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ยุทธศาสตร์ของสถาบันฯ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จัดทำแผนปฏิบัติราชการประจำป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กำหนดตัวชี้วัดความสำเร็จของการบรรลุ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เป้าหมายตามแผนปฏิบัติราช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จัดทำร่างเอกสารข้อตกลงคำรับรอง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133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3797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1133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1133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1080" y="40784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1133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1133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2200" y="407844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12000" y="4078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11336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0720" y="1125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2212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5597640"/>
            <a:ext cx="28083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่งแผนปฏิบัติราชการไปยังกองแผนงา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ภายในวันที่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ตุลาคม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่งร่างเอกสารข้อตกลงคำรับรองฯ ภายในวันที่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มีนาคม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4213080"/>
            <a:ext cx="792000" cy="116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หน่วยง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3762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4660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3320" y="377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437364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่งคำรับรองฯ และจัดทำรายละเอียดตัวชี้วัด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(KPI templ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2357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5080" y="4373640"/>
            <a:ext cx="8636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ปฏิบัติราชการตามคำรับร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4373640"/>
            <a:ext cx="86364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รายงานแผนทุกสิ้นเดือ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72360" y="403380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40305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401328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00720" y="4013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2789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156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652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6609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394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ขั้นตอนการจัดทำคำรับรองและการประเมินผลการปฏิบัติราชการ</a:t>
            </a:r>
            <a:br>
              <a:rPr sz="2200"/>
            </a:b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ตามคำรับรองการปฏิบัติราชการ ของหน่วยงานระดับคณ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กอง ประจำปีงบประมาณ พ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i-IN" sz="22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25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521172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่ง กองแผนงาน  ภายในวันที่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28 </a:t>
            </a: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มี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ค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465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แผนปฏิบัติราชการประจำปีงบประมาณ 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 25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41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น่วยงานจัดทำแผนปฏิบัติราชการฯ โดยมีเป้าหมายที่ครอบคลุมการดำเนินการที่ใช้งบประมาณแผ่นดิน และงบเงินรายได้ของหน่ว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น่วยงานจัดส่งแผนปฏิบัติราชการประจำปี 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551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ห้</a:t>
            </a:r>
            <a:br>
              <a:rPr sz="3200"/>
            </a:b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กองแผนงาน ภายในวันที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ตุลาค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น่วยงาน ทบทว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ก้ไข แผนปฏิบัติราชการประจำปี 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2551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่งให้กองแผนงาน ภายในวันที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มีนาค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การเตรียมการเจรจาความเหมาะสมของตัวชี้วัด น้ำหนัก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ค่าเป้าหมาย และเกณฑ์การให้คะแน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9188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ตัวชี้วัดที่นำมาเจรจากับ กก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เจรจา ประกอบด้ว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ตัวชี้วัดประเภท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คือ ตัวชี้วัดที่ใช้ข้อมูลและเกณฑ์การให้คะแนนของสถาบัน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ตัวชี้วัดประเภ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ือ ตัวชี้วัดที่ใช้ข้อมูลหน่วยงาน แต่ใช้เกณฑ์การให้คะแนนของสถาบัน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ตัวชี้วัดประเภ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ือ ตัวชี้วัดที่ใช้ข้อมูลและเกณฑ์การให้คะแนนของหน่วย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ตัวชี้วัดประเภ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D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ือ ตัวชี้วัดที่หน่วยงานไม่ต้องรับผิดชอบ โดยให้ใส่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N/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การเตรียมเจรจาความเหมาะสมของตัวชี้วัด น้ำหนัก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ค่าเป้าหมาย และเกณฑ์การให้คะแน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ต่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92080"/>
            <a:ext cx="822960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หากเป็นตัวชี้วัดที่ดำเนินการต่อเนื่องจากปีงบประมาณที่ผ่านมา ข้อมูลพื้นฐานของตัวชี้วัดนั้นจะต้องตรงกับผลการประเมิน ซึ่งสำนักงานประกันฯ นำไปใช้ในการจัดสรรเงินรางวัลประจำป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กรณีที่มีความผิดพลาดในการเสนอข้อมูลพื้นฐานประกอบการเจรจา ไม่ว่าจะเนื่องมาจากความเข้าใจนิยามผิด หรือมิได้ตรวจสอบข้อมูลให้ถูกต้อง จะไม่มีการพิจารณาคำขอเปลี่ยนแปลงรายละเอียดตัวชี้วัดในระหว่างปีงบประมา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ภายในวันที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มีนาค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หน่วยงานแจ้งรายชื่อผู้บริหารที่จะเป็นผู้เจรจา และเจ้าหน้าที่ผู้จัดเตรียมข้อมูลที่จะเข้าร่วมการเจรจา รวมไม่เกิ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คน ไปยังกองแผ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 algn="ctr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หากหน่วยงานใดไม่สามารถเข้าร่วมการเจรจาได้ตามกำหนด กรุณาแจ้งให้เจ้าหน้าที่กองแผนงาน ซึ่งเป็นผู้ประสานงานทราบโดยด่ว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ภายในวันที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มีนาค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หน่วยงานส่งร่างเอกสารประกอบการเจรจาที่จัดทำแล้วเสร็จให้กองแผ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ก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เจรจาข้อตกลงและประเมินผลเจรจากับผู้บริหารของหน่วยงานเป็นรายหน่วย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การจัดทำคำรับรองการปฏิบัติราชกา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4280"/>
            <a:ext cx="822960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ภายในวันที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มีนาค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น่วยงานส่งคำรับรองการปฏิบัติราชการที่ปรับแก้ไขให้ถูกต้อง ไปยังกองแผนงาน   เพื่อเตรียมลงนาม  ในคำรับรอง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ภายในวันที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มษาย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ัวหน้าหน่วยงานลงนามในคำรับรองฯ กับอธิการบดี โดยกองแผนงาน จัดส่งคำรับรองการปฏิบัติราชการ ฉบับจริ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ชุด ไปยังหน่วยงาน   และสำเน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ชุด    ไปยังงานติดตามและประเมินผล กองแผนงาน เพื่อเป็นหลักฐานประกอบการประเมินผลความสำเร็จของการปฏิบัติราชการตามคำรับรองฯ ต่อไ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552780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การรายงานผลการปฏิบัติราชการตามคำรับรองการปฏิบัติราชกา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รายงานการประเมินผล รอ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เดื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ภายในวันที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เมษาย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1 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กองแผนงาน รายงานการประเมินผลฯ ของหน่วยงาน เสนอต่อคณะกรรมการผู้บริหารและสภาสถาบันฯ รอ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เดือ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ตุลาค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0-31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มีนาค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ภายในวันที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พฤษภาค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แจ้งผลการประเมินฯ ให้หน่วยงานทราบและ</a:t>
            </a:r>
            <a:br>
              <a:rPr sz="2400"/>
            </a:b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เร่ง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รายงานการประเมินผลตนเองรอ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เดื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ภายในวันที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กรกฎาค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กองแผนงาน รายงานการประเมินผลฯ ของหน่วยงาน เสนอต่อคณะกรรมการผู้บริหารและสภาสถาบันฯ รอ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เดือ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ตุลาค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0-30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มิถุนาย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ภายในวันที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มิถุนาย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51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แจ้งผลการประเมินฯ ให้หน่วยงานทราบและ</a:t>
            </a:r>
            <a:br>
              <a:rPr sz="2400"/>
            </a:b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เร่ง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2:48:36Z</dcterms:created>
  <dc:creator>Your User Name</dc:creator>
  <dc:description/>
  <dc:language>en-US</dc:language>
  <cp:lastModifiedBy>acer</cp:lastModifiedBy>
  <dcterms:modified xsi:type="dcterms:W3CDTF">2008-02-26T05:54:32Z</dcterms:modified>
  <cp:revision>31</cp:revision>
  <dc:subject/>
  <dc:title>แนวทางการจัดทำคำรับรองการปฏิบัติราชการ และการประเมินผลของหน่วยงานระดับคณะ/กอง ประจำปีงบประมาณ พ.ศ. 2551</dc:title>
</cp:coreProperties>
</file>