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E294-8CFF-4164-A252-E89148BD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1F6B-4137-4C2F-AE2E-EB108AC3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BF0B-32F2-4B81-86F5-F3190983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B466-0C0D-4A5A-8778-1953607D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0F82-4A4C-4908-8182-CF01BAEF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6493-2B1E-4D4E-B243-0CFBBC18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236-7B6E-46EC-8B21-B86BA2DC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B16B-3AE4-4FD3-8B53-03D689AC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E3B0-867F-4FFA-86CF-DF215CCC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67F-F9FF-4A0C-B045-A5267032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E45-563B-4E39-933F-286FA3BC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D350-57D2-4ED5-B0B9-0BB8BF05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8222-5EAB-4D10-AE55-7E1A876CE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90440" y="1219320"/>
            <a:ext cx="466092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05:49:57Z</dcterms:created>
  <dc:creator>surapol</dc:creator>
  <dc:description/>
  <dc:language>en-US</dc:language>
  <cp:lastModifiedBy>Surapol Suankayan</cp:lastModifiedBy>
  <dcterms:modified xsi:type="dcterms:W3CDTF">2002-05-28T21:33:42Z</dcterms:modified>
  <cp:revision>5</cp:revision>
  <dc:subject/>
  <dc:title>ภาพนิ่ง 1</dc:title>
</cp:coreProperties>
</file>